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07E0-DACD-451E-964B-E2E76BC0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5602-7C59-4667-A4C4-B0AC788E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0167-2332-42DC-8725-2B5464EC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4210-77EA-4B0A-B459-46612C8A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93E5-C0F2-4B13-A982-32E3B6A1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D6E0-4919-45DE-8C93-928F9B8F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D315-5F95-498E-9524-A14B52E8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5F09-2D10-442F-8BD5-714679AB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DE0E-4B07-4C9E-BC74-30E56530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1D53-3645-484A-A2F5-31E5CE57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B3D4-70BF-4EC7-A3A1-A3EA0406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5F8E-D278-4BED-BE89-A17F5EB0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1A16-6515-4A45-81B5-8520F0EF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8C84-755E-417E-8EB7-51E6C7DF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3CD2-ED7D-49FB-9DA4-4DF179A0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DD50-EDE5-4093-B3C1-C6472697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C0D2-F26F-400C-A95B-F2C3E489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E16B1-959F-4D17-92CD-8C67A2F2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2D0D06-8752-4701-A6AF-D3D0287F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736404-339A-431A-BD1B-6F079AE0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964012-7B64-4A62-AF2B-783278E8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BC4ED9-D496-437D-BCF7-A245D5EC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0D0-4A37-4B6D-B998-1261C14C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47E7E-3611-4904-81D0-37216D16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71C71F-A152-4D3B-99A4-07EB76A6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61DA41-5332-43E2-A19F-0AC10757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E1B4B0-B9BD-4E8A-BD22-D79F03A9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3E1408-CAAB-4EED-B524-11CDF728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004767-6AB1-448A-AA1B-D76499EC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2B997-FF86-4208-B856-CC0ADF4C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B2897-52AC-49F6-A02C-A7E772E9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C18B8-3F0A-47C4-920A-1A738D50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88C09-578E-43E5-92C2-9E586358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15B9-0E37-4F59-B28E-1F91411D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ACF5C-081D-4611-9CF5-B0CAD2A0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84C72-2339-44B4-8DB3-F8636107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DADE1-0573-4D1B-BE7F-A429DE96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6EE71-F57B-4D28-9675-A0B05A55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D0C94-F013-4782-8F65-7D203B55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6F680-98CB-4475-8ABF-5418AE5F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9A56E-B350-4393-877C-164E8CEC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84883-19F9-48AD-95BE-B85CC1D0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0C200-67E8-4C6E-9821-5194A9F1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E23F8F-19A6-4FCF-B2A8-7AB99057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F7F5-8E94-4F1B-ADCB-7884BEC9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CD2A7C-FF23-40F0-B1A6-74014EF2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D04B2D-C401-4D3E-89DE-7CDCD468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65E458-AAF6-4CE1-987B-B46CAA7A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EE8682-6403-4912-B786-5D4F15CB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7627E3-4D99-460C-824B-C39F352D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4B3CF7-550C-40D3-8E73-AEDDF488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D87056-E669-4C02-9D80-C0C4076F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45CCDF-A108-4777-9D3B-036F081A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9A0B9E-4872-4CBC-9514-45FBD83F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9BD54D-5E75-435B-B95D-BA217AB4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3F9C-FEF1-4EA8-8C7A-5B9CBC18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810688-027C-4852-BB0E-28DF3CBE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8C3F9A-2209-44F4-87E7-62E41DA2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A3D2C0-C085-4D2F-AEDF-F10C2C99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691BD1-6FC6-4955-945C-2B3435AF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458361-D587-44CB-ABB7-C0E516C3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CB009D-3341-4E82-9AF3-7CC8733A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07082E-E7AD-485E-8573-463F0AD1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CB95E7-7A37-4925-BE96-4B653807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22DFBB-0518-4F57-AA5A-91029F7D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31A2C3-393D-4A47-8C67-F799C750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547D-376A-47C9-A7AE-3482D980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B4053E-76EC-4782-82D9-7AB0AC89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78B07C-B3AD-4F49-A414-CEECBC7F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65077F-7B8C-4C17-A29E-F7079048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A930BF-D43C-4BE0-A830-A2574341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D0327A-1845-4BCD-9BA7-71B9CEDE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546B93-A532-4D2D-A31E-553345DC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D8C026-0E4D-4CE5-9966-F9EB9683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AA2E43-042B-494A-9CFA-AE14F4F2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AE62B1-2C37-41E6-97B3-B356DEAE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F74949-B1E4-4683-A857-97AEFD6C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5DD6-F1F9-4E52-8B41-64958574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601091-BDDD-4BA7-B76E-8E42A76A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1EC9A3-A5EC-401B-AC9D-3BB5377C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E23A52-15E7-45EE-BE64-6BE58F69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8942D3-1FD1-49A8-BCDB-80B94C5D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C29EDA-30F6-486D-8360-B5239EA2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CF3C-32D1-4219-A564-6C4222FC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B545-4F75-49AA-B05D-73857CB9718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61BF-331A-4DFE-AADD-84B6FE686DF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6AD0-F855-47AE-900A-200B11B5AE1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F5DE-323C-43F4-9761-541CA3B3D92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11FC-F90A-43E7-B19E-F4EF425AEFF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40E9-21D8-4C67-991D-2DCF19F411D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13CA-77CF-4031-BC10-79F1233A87E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7;&#1090;&#1085;&#1080;&#1077;_&#1054;&#1083;&#1080;&#1084;&#1087;&#1080;&#1081;&#1089;&#1082;&#1080;&#1077;_&#1080;&#1075;&#1088;&#1099;" TargetMode="External"/><Relationship Id="rId2" Type="http://schemas.openxmlformats.org/officeDocument/2006/relationships/hyperlink" Target="http://ru.wikipedia.org/wiki/1980_&#1075;&#1086;&#1076;" TargetMode="External"/><Relationship Id="rId3" Type="http://schemas.openxmlformats.org/officeDocument/2006/relationships/hyperlink" Target="http://ru.wikipedia.org/wiki/&#1052;&#1086;&#1089;&#1082;&#1074;&#1072;" TargetMode="External"/><Relationship Id="rId4" Type="http://schemas.openxmlformats.org/officeDocument/2006/relationships/hyperlink" Target="http://ru.wikipedia.org/wiki/&#1057;&#1057;&#1057;&#1056;" TargetMode="External"/><Relationship Id="rId5" Type="http://schemas.openxmlformats.org/officeDocument/2006/relationships/hyperlink" Target="http://ru.wikipedia.org/wiki/19_&#1080;&#1102;&#1083;&#1103;" TargetMode="External"/><Relationship Id="rId6" Type="http://schemas.openxmlformats.org/officeDocument/2006/relationships/hyperlink" Target="http://ru.wikipedia.org/wiki/3_&#1072;&#1074;&#1075;&#1091;&#1089;&#1090;&#1072;" TargetMode="External"/><Relationship Id="rId7" Type="http://schemas.openxmlformats.org/officeDocument/2006/relationships/hyperlink" Target="http://ru.wikipedia.org/wiki/1980_&#1075;&#1086;&#1076;" TargetMode="External"/><Relationship Id="rId8" Type="http://schemas.openxmlformats.org/officeDocument/2006/relationships/hyperlink" Target="http://ru.wikipedia.org/wiki/&#1042;&#1086;&#1089;&#1090;&#1086;&#1095;&#1085;&#1072;&#1103;_&#1045;&#1074;&#1088;&#1086;&#1087;&#1072;" TargetMode="External"/><Relationship Id="rId9" Type="http://schemas.openxmlformats.org/officeDocument/2006/relationships/hyperlink" Target="http://ru.wikipedia.org/wiki/&#1057;&#1086;&#1094;&#1080;&#1072;&#1083;&#1080;&#1089;&#1090;&#1080;&#1095;&#1077;&#1089;&#1082;&#1080;&#1077;_&#1089;&#1090;&#1088;&#1072;&#1085;&#1099;" TargetMode="External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57;&#1057;&#1056;" TargetMode="External"/><Relationship Id="rId2" Type="http://schemas.openxmlformats.org/officeDocument/2006/relationships/hyperlink" Target="http://ru.wikipedia.org/wiki/&#1055;&#1072;&#1088;&#1091;&#1089;&#1085;&#1099;&#1081;_&#1089;&#1087;&#1086;&#1088;&#1090;" TargetMode="External"/><Relationship Id="rId3" Type="http://schemas.openxmlformats.org/officeDocument/2006/relationships/hyperlink" Target="http://ru.wikipedia.org/wiki/&#1058;&#1072;&#1083;&#1083;&#1080;&#1085;" TargetMode="External"/><Relationship Id="rId4" Type="http://schemas.openxmlformats.org/officeDocument/2006/relationships/hyperlink" Target="http://ru.wikipedia.org/wiki/&#1060;&#1091;&#1090;&#1073;&#1086;&#1083;_&#1085;&#1072;_&#1083;&#1077;&#1090;&#1085;&#1080;&#1093;_&#1054;&#1083;&#1080;&#1084;&#1087;&#1080;&#1081;&#1089;&#1082;&#1080;&#1093;_&#1080;&#1075;&#1088;&#1072;&#1093;_1980" TargetMode="External"/><Relationship Id="rId5" Type="http://schemas.openxmlformats.org/officeDocument/2006/relationships/hyperlink" Target="http://ru.wikipedia.org/wiki/&#1050;&#1080;&#1077;&#1074;" TargetMode="External"/><Relationship Id="rId6" Type="http://schemas.openxmlformats.org/officeDocument/2006/relationships/hyperlink" Target="http://ru.wikipedia.org/wiki/&#1051;&#1077;&#1085;&#1080;&#1085;&#1075;&#1088;&#1072;&#1076;" TargetMode="External"/><Relationship Id="rId7" Type="http://schemas.openxmlformats.org/officeDocument/2006/relationships/hyperlink" Target="http://ru.wikipedia.org/wiki/&#1052;&#1080;&#1085;&#1089;&#1082;" TargetMode="External"/><Relationship Id="rId8" Type="http://schemas.openxmlformats.org/officeDocument/2006/relationships/hyperlink" Target="http://ru.wikipedia.org/wiki/&#1044;&#1080;&#1085;&#1072;&#1084;&#1086;" TargetMode="External"/><Relationship Id="rId9" Type="http://schemas.openxmlformats.org/officeDocument/2006/relationships/hyperlink" Target="http://ru.wikipedia.org/wiki/&#1052;&#1099;&#1090;&#1080;&#1097;&#1080;" TargetMode="External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6;&#1081;&#1082;&#1086;&#1090;" TargetMode="External"/><Relationship Id="rId2" Type="http://schemas.openxmlformats.org/officeDocument/2006/relationships/hyperlink" Target="http://ru.wikipedia.org/wiki/&#1050;&#1086;&#1085;&#1090;&#1080;&#1085;&#1077;&#1085;&#1090;" TargetMode="External"/><Relationship Id="rId3" Type="http://schemas.openxmlformats.org/officeDocument/2006/relationships/hyperlink" Target="http://ru.wikipedia.org/wiki/&#1054;&#1083;&#1080;&#1084;&#1087;&#1080;&#1081;&#1089;&#1082;&#1080;&#1081;_&#1088;&#1077;&#1082;&#1086;&#1088;&#1076;" TargetMode="External"/><Relationship Id="rId4" Type="http://schemas.openxmlformats.org/officeDocument/2006/relationships/hyperlink" Target="http://ru.wikipedia.org/w/index.php?title=&#1056;&#1077;&#1082;&#1086;&#1088;&#1076;_&#1052;&#1080;&#1088;&#1072;&amp;action=edit&amp;redlink=1" TargetMode="External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u.wikipedia.org/wiki/&#1052;&#1077;&#1083;&#1077;&#1085;&#1090;&#1100;&#1077;&#1074;,_&#1040;&#1083;&#1077;&#1082;&#1089;&#1072;&#1085;&#1076;&#1088;_&#1056;&#1077;&#1084;&#1084;&#1086;&#1074;&#1080;&#1095;" TargetMode="External"/><Relationship Id="rId3" Type="http://schemas.openxmlformats.org/officeDocument/2006/relationships/hyperlink" Target="http://ru.wikipedia.org/wiki/&#1040;&#1083;&#1077;&#1082;&#1089;&#1072;&#1085;&#1076;&#1088;_&#1044;&#1080;&#1090;&#1103;&#1090;&#1080;&#1085;" TargetMode="External"/><Relationship Id="rId4" Type="http://schemas.openxmlformats.org/officeDocument/2006/relationships/hyperlink" Target="http://ru.wikipedia.org/w/index.php?title=&#1051;&#1080;&#1084;&#1072;,_&#1046;&#1086;&#1088;&#1078;&#1077;&amp;action=edit&amp;redlink=1" TargetMode="External"/><Relationship Id="rId5" Type="http://schemas.openxmlformats.org/officeDocument/2006/relationships/hyperlink" Target="http://ru.wikipedia.org/wiki/13_&#1080;&#1102;&#1083;&#1103;" TargetMode="External"/><Relationship Id="rId6" Type="http://schemas.openxmlformats.org/officeDocument/2006/relationships/hyperlink" Target="http://ru.wikipedia.org/wiki/1967" TargetMode="External"/><Relationship Id="rId7" Type="http://schemas.openxmlformats.org/officeDocument/2006/relationships/hyperlink" Target="http://ru.wikipedia.org/w/index.php?title=&#1050;&#1088;&#1072;&#1089;&#1080;&#1084;&#1080;&#1088;_&#1050;&#1088;&#1072;&#1089;&#1090;&#1077;&#1074;&amp;action=edit&amp;redlink=1" TargetMode="External"/><Relationship Id="rId8" Type="http://schemas.openxmlformats.org/officeDocument/2006/relationships/hyperlink" Target="http://ru.wikipedia.org/wiki/10_&#1103;&#1085;&#1074;&#1072;&#1088;&#1103;" TargetMode="External"/><Relationship Id="rId9" Type="http://schemas.openxmlformats.org/officeDocument/2006/relationships/hyperlink" Target="http://ru.wikipedia.org/wiki/1910" TargetMode="External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7;&#1090;&#1085;&#1080;&#1077;_&#1054;&#1083;&#1080;&#1084;&#1087;&#1080;&#1081;&#1089;&#1082;&#1080;&#1077;_&#1080;&#1075;&#1088;&#1099;_1980" TargetMode="External"/><Relationship Id="rId2" Type="http://schemas.openxmlformats.org/officeDocument/2006/relationships/hyperlink" Target="http://ru.wikipedia.org/wiki/1980_&#1075;&#1086;&#1076;" TargetMode="External"/><Relationship Id="rId3" Type="http://schemas.openxmlformats.org/officeDocument/2006/relationships/hyperlink" Target="http://ru.wikipedia.org/wiki/&#1052;&#1086;&#1089;&#1082;&#1074;&#1072;" TargetMode="External"/><Relationship Id="rId4" Type="http://schemas.openxmlformats.org/officeDocument/2006/relationships/hyperlink" Target="http://ru.wikipedia.org/wiki/&#1063;&#1080;&#1078;&#1080;&#1082;&#1086;&#1074;,_&#1042;&#1080;&#1082;&#1090;&#1086;&#1088;_&#1040;&#1083;&#1077;&#1082;&#1089;&#1072;&#1085;&#1076;&#1088;&#1086;&#1074;&#1080;&#1095;" TargetMode="External"/><Relationship Id="rId5" Type="http://schemas.openxmlformats.org/officeDocument/2006/relationships/hyperlink" Target="http://ru.wikipedia.org/wiki/&#1056;&#1091;&#1089;&#1089;&#1082;&#1080;&#1081;_&#1084;&#1077;&#1076;&#1074;&#1077;&#1076;&#1100;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77_&#1075;&#1086;&#1076;" TargetMode="External"/><Relationship Id="rId2" Type="http://schemas.openxmlformats.org/officeDocument/2006/relationships/hyperlink" Target="http://ru.wikipedia.org/wiki/&#1054;&#1083;&#1080;&#1084;&#1087;&#1080;&#1081;&#1089;&#1082;&#1080;&#1081;_&#1052;&#1080;&#1096;&#1082;&#1072;" TargetMode="External"/><Relationship Id="rId3" Type="http://schemas.openxmlformats.org/officeDocument/2006/relationships/hyperlink" Target="http://ru.wikipedia.org/wiki/19_&#1076;&#1077;&#1082;&#1072;&#1073;&#1088;&#1103;" TargetMode="External"/><Relationship Id="rId4" Type="http://schemas.openxmlformats.org/officeDocument/2006/relationships/hyperlink" Target="http://ru.wikipedia.org/wiki/1977_&#1075;&#1086;&#1076;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Рисунок 6" descr="http://img1.liveinternet.ru/images/attach/c/1/54/333/54333102_video_94529_0.jpg"/>
          <p:cNvPicPr/>
          <p:nvPr/>
        </p:nvPicPr>
        <p:blipFill>
          <a:blip r:embed="rId1"/>
          <a:srcRect l="20317" t="0" r="0" b="0"/>
          <a:stretch/>
        </p:blipFill>
        <p:spPr>
          <a:xfrm>
            <a:off x="1908000" y="189000"/>
            <a:ext cx="3672000" cy="360036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5c01"/>
                </a:solidFill>
                <a:latin typeface="Century Schoolbook"/>
              </a:rPr>
              <a:t>Лижненко Екатерин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5c01"/>
                </a:solidFill>
                <a:latin typeface="Century Schoolbook"/>
              </a:rPr>
              <a:t>5 «Г» класс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5c01"/>
                </a:solidFill>
                <a:latin typeface="Century Schoolbook"/>
              </a:rPr>
              <a:t>МОУ СОШ №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Прямоугольник 3"/>
          <p:cNvSpPr/>
          <p:nvPr/>
        </p:nvSpPr>
        <p:spPr>
          <a:xfrm>
            <a:off x="2411280" y="3997440"/>
            <a:ext cx="68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62110"/>
                </a:solidFill>
                <a:latin typeface="Century Schoolbook"/>
              </a:rPr>
              <a:t>Олимпиада - 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http://i005.radikal.ru/1109/24/a3b12e1f8e27.jpg"/>
          <p:cNvPicPr/>
          <p:nvPr/>
        </p:nvPicPr>
        <p:blipFill>
          <a:blip r:embed="rId2"/>
          <a:stretch/>
        </p:blipFill>
        <p:spPr>
          <a:xfrm>
            <a:off x="5940360" y="63360"/>
            <a:ext cx="265752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000" y="4437000"/>
            <a:ext cx="806436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середину стадиона, ухватившись за разноцветные воздушные шары, выплыл огромный «Миша». Он помахал на прощание лапой и стал медленно подниматься над стадионом до тех пор, пока не исчез в небе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419280" y="471240"/>
            <a:ext cx="51130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Century Schoolbook"/>
              </a:rPr>
              <a:t>НА ЦЕРЕМОНИИ ЗАКРЫТИЯ  </a:t>
            </a:r>
            <a:br>
              <a:rPr sz="3200"/>
            </a:br>
            <a:r>
              <a:rPr b="1" lang="en-US" sz="3200" spc="-1" strike="noStrike">
                <a:solidFill>
                  <a:srgbClr val="e75c01"/>
                </a:solidFill>
                <a:latin typeface="Century Schoolbook"/>
              </a:rPr>
              <a:t>XXII </a:t>
            </a:r>
            <a:r>
              <a:rPr b="1" lang="ru-RU" sz="3200" spc="-1" strike="noStrike">
                <a:solidFill>
                  <a:srgbClr val="e75c01"/>
                </a:solidFill>
                <a:latin typeface="Century Schoolbook"/>
              </a:rPr>
              <a:t>ОЛИМПИЙСКИХ ИГР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Рисунок 4" descr="http://sport.segodnya.ua/img/forall/a/8202/43.jpg"/>
          <p:cNvPicPr/>
          <p:nvPr/>
        </p:nvPicPr>
        <p:blipFill>
          <a:blip r:embed="rId1"/>
          <a:stretch/>
        </p:blipFill>
        <p:spPr>
          <a:xfrm>
            <a:off x="3708360" y="1319040"/>
            <a:ext cx="4619520" cy="30466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http://estb.msn.com/i/30/63134E2E5E9D36EB6C591A9EC5839D.jpg"/>
          <p:cNvPicPr/>
          <p:nvPr/>
        </p:nvPicPr>
        <p:blipFill>
          <a:blip r:embed="rId2"/>
          <a:stretch/>
        </p:blipFill>
        <p:spPr>
          <a:xfrm>
            <a:off x="401760" y="115920"/>
            <a:ext cx="29462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1834920" y="5589360"/>
            <a:ext cx="5832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75c01"/>
                </a:solidFill>
                <a:latin typeface="Century Schoolbook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4" descr="http://www.olimpiada80.ru/www/wp-content/uploads/2009/09/loggo2.gif"/>
          <p:cNvPicPr/>
          <p:nvPr/>
        </p:nvPicPr>
        <p:blipFill>
          <a:blip r:embed="rId1"/>
          <a:srcRect l="0" t="0" r="0" b="27010"/>
          <a:stretch/>
        </p:blipFill>
        <p:spPr>
          <a:xfrm>
            <a:off x="971640" y="333360"/>
            <a:ext cx="65530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ЛЕТНИЕ ОЛИМПИЙСКИЕ И́ГРЫ</a:t>
            </a: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 </a:t>
            </a:r>
            <a:r>
              <a:rPr b="0" lang="ru-RU" sz="30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1980 ГО́Д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фициальное название — 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́гры XXII Олимпиа́ды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ходили в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Москв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столице 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СССР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с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19 июл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по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6"/>
              </a:rPr>
              <a:t>3 август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7"/>
              </a:rPr>
              <a:t>1980 год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Это были первые в истории Олимпийские игры на территории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8"/>
              </a:rPr>
              <a:t>Восточной Европы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а также первые Игры, проведённые в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9"/>
              </a:rPr>
              <a:t>социалистической стран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4" descr="http://img1.liveinternet.ru/images/attach/c/1/61/595/61595650_1279266454_mishka.jpg"/>
          <p:cNvPicPr/>
          <p:nvPr/>
        </p:nvPicPr>
        <p:blipFill>
          <a:blip r:embed="rId10"/>
          <a:srcRect l="0" t="14153" r="6042" b="15290"/>
          <a:stretch/>
        </p:blipFill>
        <p:spPr>
          <a:xfrm>
            <a:off x="2411280" y="4508640"/>
            <a:ext cx="360072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асть соревновани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лимпиады-1980 проводилась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других городах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Советского Союз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а именно: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парусные регаты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тартовали в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Таллин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дварительные игры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футбольного турнир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состоялись в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Киев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6"/>
              </a:rPr>
              <a:t>Ленинград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и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7"/>
              </a:rPr>
              <a:t>Минск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ревнования по пулевой стрельбе прошли на стрельбище «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8"/>
              </a:rPr>
              <a:t>Динам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» в подмосковных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9"/>
              </a:rPr>
              <a:t>Мытищах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Рисунок 3" descr="Олимпиада-80"/>
          <p:cNvPicPr/>
          <p:nvPr/>
        </p:nvPicPr>
        <p:blipFill>
          <a:blip r:embed="rId10"/>
          <a:stretch/>
        </p:blipFill>
        <p:spPr>
          <a:xfrm>
            <a:off x="5651640" y="115920"/>
            <a:ext cx="3024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75c01"/>
                </a:solidFill>
                <a:latin typeface="Century Schoolbook"/>
              </a:rPr>
              <a:t>В ИГРАХ НЕ ПРИНЯЛИ УЧАСТИЕ МНОГИЕ ЗАПАДНЫЕ СПОРТСМЕН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смотря на отсутствие на играх большого числа высококлассных спортсменов из стран,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бойкотировавших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соревнования, Олимпиада оказалась необычайно щедрой на высокие достижен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 14 дней соревнований спортсмены, представляющие все 5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континентов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установили 74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олимпийских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39 европейских и 36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мировых рекордов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http://2.bp.blogspot.com/_98Mq3LiTyrY/S2FA8lx59pI/AAAAAAAAJZg/NiI3Ki8UPKc/s640/olimpiada_80_nostalgin_ru1.jpg"/>
          <p:cNvPicPr/>
          <p:nvPr/>
        </p:nvPicPr>
        <p:blipFill>
          <a:blip r:embed="rId1"/>
          <a:srcRect l="0" t="0" r="0" b="16844"/>
          <a:stretch/>
        </p:blipFill>
        <p:spPr>
          <a:xfrm>
            <a:off x="5272200" y="0"/>
            <a:ext cx="3871800" cy="40323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324000" y="304920"/>
            <a:ext cx="5040000" cy="16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оветский стрелок </a:t>
            </a:r>
            <a:r>
              <a:rPr b="0" lang="ru-RU" sz="22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Александр Мелентьев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становил мировой рекорд по стрельбе из пистолета на 50 м (581 очко), который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икто не может побить уже более 30 лет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Прямоугольник 4"/>
          <p:cNvSpPr/>
          <p:nvPr/>
        </p:nvSpPr>
        <p:spPr>
          <a:xfrm>
            <a:off x="250920" y="1989000"/>
            <a:ext cx="511308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Гимнаст </a:t>
            </a:r>
            <a:r>
              <a:rPr b="0" lang="ru-RU" sz="22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Александр Дитятин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ыиграл 8 медалей в восьми видах гимнастической программы, из них 3 золотые. До него это не удавалось никому из гимнас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250920" y="3204000"/>
            <a:ext cx="83534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Самым юным участником Олимпиад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стал 13-летний ангольский пловец 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entury Schoolbook"/>
                <a:ea typeface="Times New Roman"/>
                <a:hlinkClick r:id="rId4"/>
              </a:rPr>
              <a:t>Жорже 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(род. 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entury Schoolbook"/>
                <a:ea typeface="Times New Roman"/>
                <a:hlinkClick r:id="rId5"/>
              </a:rPr>
              <a:t>13 июля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entury Schoolbook"/>
                <a:ea typeface="Times New Roman"/>
                <a:hlinkClick r:id="rId6"/>
              </a:rPr>
              <a:t>1967</a:t>
            </a:r>
            <a:r>
              <a:rPr b="0" lang="ru-RU" sz="1800" spc="-1" strike="noStrike">
                <a:solidFill>
                  <a:srgbClr val="0b0080"/>
                </a:solidFill>
                <a:latin typeface="Century Schoolbook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Самым возрастным участником с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тал 70-летний болгарский яхтсмен 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entury Schoolbook"/>
                <a:ea typeface="Times New Roman"/>
                <a:hlinkClick r:id="rId7"/>
              </a:rPr>
              <a:t>Красимир Крастев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(род. 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entury Schoolbook"/>
                <a:ea typeface="Times New Roman"/>
                <a:hlinkClick r:id="rId8"/>
              </a:rPr>
              <a:t>10 января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entury Schoolbook"/>
                <a:ea typeface="Times New Roman"/>
                <a:hlinkClick r:id="rId9"/>
              </a:rPr>
              <a:t>1910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75c01"/>
                </a:solidFill>
                <a:latin typeface="Century Schoolbook"/>
                <a:ea typeface="Times New Roman"/>
              </a:rPr>
              <a:t>Интересно, что и для самого юного, и для самого возрастного спортсмена Игры в Москве стали единственными в карьер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471600"/>
            <a:ext cx="74674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75c01"/>
                </a:solidFill>
                <a:latin typeface="Century Schoolbook"/>
              </a:rPr>
              <a:t>МЕДВЕЖОНОК МИШ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125360"/>
            <a:ext cx="80755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л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Ми́шк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талисман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XXII Олимпийских игр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проходивших в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1980 году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в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Москв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тором персонажа является книжный иллюстратор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Виктор Чижиков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мя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Миш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(Мишка, Михаи́л, Михаил Пота́пыч) — традиционное русское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звище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медвед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рганизационны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митет Московско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лимпиады выбра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качестве символ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2" descr="http://img1.1tv.ru/imgsize460x345/PR20100713133841.JPG"/>
          <p:cNvPicPr/>
          <p:nvPr/>
        </p:nvPicPr>
        <p:blipFill>
          <a:blip r:embed="rId6"/>
          <a:stretch/>
        </p:blipFill>
        <p:spPr>
          <a:xfrm>
            <a:off x="4284720" y="3357720"/>
            <a:ext cx="43815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419280" y="259920"/>
            <a:ext cx="5329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1977 году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организационный комитет Олимпиады объявил конкурс на лучшее изображение медвед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результате жюри выбрало эскиз Виктора Чижикова</a:t>
            </a:r>
            <a:r>
              <a:rPr b="0" lang="ru-RU" sz="2400" spc="-1" strike="noStrike" u="sng" baseline="30000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[1]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на котором был изображён улыбающийся медвежонок, опоясанный сине-черно-желто-зелено-красным (цвета олимпийских колец) ремнем с пряжкой в виде этих колец золотистого цвет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иша был утверждён в качестве официального талисмана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19 декабр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1977 год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2" descr="http://20th.su/wp-content/uploads/2009/07/d0bed0bbd0b8d0bcd0bfd0b8d0b0d0b4d0b0-80.jpg"/>
          <p:cNvPicPr/>
          <p:nvPr/>
        </p:nvPicPr>
        <p:blipFill>
          <a:blip r:embed="rId5"/>
          <a:stretch/>
        </p:blipFill>
        <p:spPr>
          <a:xfrm>
            <a:off x="179280" y="115920"/>
            <a:ext cx="32576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610920" y="549000"/>
            <a:ext cx="799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лисманом соревнований яхтсменов в Таллине являлся морской котик Вигр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2" descr="http://dooi.com.ua/wp-content/uploads/2010/11/clip_image00738.jpg"/>
          <p:cNvPicPr/>
          <p:nvPr/>
        </p:nvPicPr>
        <p:blipFill>
          <a:blip r:embed="rId1"/>
          <a:stretch/>
        </p:blipFill>
        <p:spPr>
          <a:xfrm>
            <a:off x="4932360" y="1557360"/>
            <a:ext cx="2895480" cy="49528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http://img-fotki.yandex.ru/get/5400/tat-dubi.17/0_35193_747d38f2_L"/>
          <p:cNvPicPr/>
          <p:nvPr/>
        </p:nvPicPr>
        <p:blipFill>
          <a:blip r:embed="rId2"/>
          <a:srcRect l="0" t="3022" r="0" b="13816"/>
          <a:stretch/>
        </p:blipFill>
        <p:spPr>
          <a:xfrm>
            <a:off x="611280" y="1844640"/>
            <a:ext cx="367344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94920" y="620640"/>
            <a:ext cx="52563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тор эмблемы - </a:t>
            </a:r>
            <a:r>
              <a:rPr b="1" lang="ru-RU" sz="2400" spc="-1" strike="noStrike">
                <a:solidFill>
                  <a:srgbClr val="e75c01"/>
                </a:solidFill>
                <a:latin typeface="Century Schoolbook"/>
              </a:rPr>
              <a:t>пять колец, переплетённых в основании, и устремлённые вверх линии, символизирующие спортивные дорожки, со звездой вверху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— В. Арсентьев, студент Строгановского училищ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2" descr="http://db3.stb.s-msn.com/i/5A/209C3D3766AA2BCF3A27663F226E13.jpg"/>
          <p:cNvPicPr/>
          <p:nvPr/>
        </p:nvPicPr>
        <p:blipFill>
          <a:blip r:embed="rId1"/>
          <a:stretch/>
        </p:blipFill>
        <p:spPr>
          <a:xfrm>
            <a:off x="5435640" y="189000"/>
            <a:ext cx="30668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6:16:17Z</dcterms:created>
  <dc:creator>Depo</dc:creator>
  <dc:description/>
  <dc:language>en-US</dc:language>
  <cp:lastModifiedBy>Кабинет №215</cp:lastModifiedBy>
  <dcterms:modified xsi:type="dcterms:W3CDTF">2012-02-13T11:00:37Z</dcterms:modified>
  <cp:revision>10</cp:revision>
  <dc:subject/>
  <dc:title>Слайд 1</dc:title>
</cp:coreProperties>
</file>