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D64C-3AE9-4D3C-9D8E-3649C420D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A5E2-5F36-4D2C-9C4D-3BA79C2C6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E0993A-D716-4FE4-B704-F4A970D92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425A22-F00E-4688-9287-89016BAAD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EAC7DA-1C3D-4DD4-9942-8C4006DDF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389161-663E-42B0-B0E4-7BBA6EB4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261B3C-9292-4ABA-B556-270D7958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8B7943-6733-46B7-9811-ADD10F61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6BF230-FB8F-4B82-B814-9D166DE3C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289490-175D-42A4-992B-0A111BABA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D61FFB-A189-43F7-B9D7-18ADF9DF8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28D6CF-7C2A-43BA-95A5-28624DA68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576A-5495-4093-9B10-9F16D235F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40F110-280D-42E1-8272-2FE565DAB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3AB7BD-17FD-4A82-840B-7192EDA8C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23386F-4247-4CFD-A2AB-A02087794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74C13D-B912-41B9-8312-ABC120434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715802-FCDD-4903-B186-BED237E26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9219ED-7FF5-4BED-A3E5-B05C814A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293551-F3E5-40E2-B324-34B36B93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C71DD3-DA71-478F-B7D0-216A8F52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32FBDA-C739-4673-9522-6B0A99384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036BA5-E9CA-42E7-8A0E-11AA6F6CA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3D84-CEC6-425A-829B-B75F5E3D1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EC4BEF-8EEE-4558-AEFE-F199E469A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1DA58F-E523-4B46-83FD-26ABCA2BD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546660-8FD3-48C2-A829-40869C648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AA714E-A065-43D1-9B0E-6CF14BFCC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C0C51F-8363-43F2-B6FB-1DE9C693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599FBD-458A-4B44-9AB2-F015C6AF5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21EE8F-3137-4158-9C16-8597E163C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FDD1BF-E813-454E-86D4-74C909C93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0FAC0A-72D0-4DEF-87B9-709D4447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237B0D-3098-40DD-B05A-DF2B08D4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23BEE-A671-4014-BB67-3FD782BC9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F2D35E-FFC1-4232-80D3-6CDEF27D9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D9579D-4B42-4A04-B835-57BBF02B3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182A67-730B-45B7-A08F-C24A09564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853F3F-28FE-49F2-8FAD-C3E63A2B1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946705-A7E1-45F0-B528-B0788199A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D5C3E9-2431-4F18-B8DB-AAC27A000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3A02D5-666E-4C96-A930-B8D4A348C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B48478-7F5C-4A59-94F4-6DA0D2DE7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E7CD04-0D4A-4FDB-B085-B0311D294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BD961E-8E91-4ECE-8CF8-F7FF40BD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73775-325E-47F3-BF91-6DE998D66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BCC526-AE9A-4FF8-A377-2E9E3FEA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F15369-A667-4886-88A6-E1CDC4654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B71E02-B2C0-4353-8712-88D6C936C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9BB22C-082A-42A6-981B-39A61A17F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AFED3D-E219-42E7-A8D7-92C159305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9A63B-84BA-46D1-BAB3-50B636E57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FCD03-D616-4C14-90F6-526010F03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61EB1-1D32-4E8D-B1B3-DDF05A5E8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ECC53-523E-488C-B58C-06FCB7530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340B7-FD5F-4DAD-B4ED-76B48A0A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92AA-D5CD-41F2-8E70-2CEA3E126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BB74F-4065-4A8C-93C7-8587BE17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716E4-DD50-49B0-B063-D4C63E66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E590C-A6F1-4F6F-9AE1-DC0FAB4F3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1C67B-4A39-416C-AD3A-C6851BD05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87794-4B19-4C62-B601-8CE495E0E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61DDE-6127-490C-B33E-3990A1B72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AA2C7-3829-47CD-B939-20EB86FB7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26EC7-F6C9-4B78-9F43-5000FE05C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41A0B-89B0-406D-8986-13DF3F14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94B15-5E61-4FD6-8B37-E3A8272DA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95BE-AFC1-4B74-BFA6-AA5B4D025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5B133-1D7F-4862-865A-A0C05D401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6D961-902D-4E9B-B4D3-8C7A6219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44D08-22A8-4BBD-9426-40CAFF97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1EC2D-5CCC-4243-A83C-BD23A663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8C9A7-4FDC-442A-8A65-1C2832887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9105E-A37A-43E1-9DE6-93088A092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3AB8A-5139-458C-8A07-F6AA1EBAC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4F987-DC2B-4655-A6C7-04F368D18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3D137-E2DF-4296-844A-C48F0C0A0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79DC2-2BE1-4231-B119-B85A34FC5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15EC-C974-408C-B535-633334E6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74044-6D82-4A52-9553-2689B27A1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27A84-10DB-4CB5-B314-4DC533E3C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20138-6959-476D-9949-8C9E6B4AC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D5309-A3B0-43A2-9804-191C4A8A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C049A-890B-4678-8A8D-3F6ED099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A8A3B-E0E7-4FF6-B5D0-2A7C903A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9E627-44AF-4A08-8668-EA39CEF2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C20BA-283A-47ED-874A-39C41C7A7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112AB-FE01-487A-8B45-329EE8A53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CB599-9056-4487-AA85-C331F727E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6454-2C36-4F8C-A0C3-A3BF42994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5E1D9-AB68-49C0-BE0D-F85301B2C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D929C-BE8B-4371-9186-115ED54EF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83A29-8367-4F97-BD17-FF31A62DA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CB122-D40E-4070-BA85-385E3A37E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B5B63-328B-4407-A04F-1980C3105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CD923-E011-4094-BF19-8D205B8B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8E606-DC5B-4AE1-9C00-18C46C03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D9B1E-1EF9-4A2E-A998-E52EABF2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20BE9-8DFC-472D-8D37-06E81C69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B4CB7-A6B7-4542-8D08-FD8928856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4362-4C37-449B-A6FA-8DF19D6D2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60DEF-ACF2-41B2-BE3D-41D9C98AB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0422B-D7E6-4D40-996E-A857F88FA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EAB10-C0EA-4E3B-A637-7B33C4CC2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DDE4A-5BAC-4722-83D9-3A4E5E772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F791F-E4C4-4A17-96DA-F1B61D17B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1C90F-C89F-45B2-836D-3DDD712CF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20C669-44DE-427D-9CCA-F72421758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556CC-1443-473A-B4CD-BC0938D9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F5F06-ACCF-45B4-8387-CCC28A9B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A3B0C-7EDC-406D-8F8E-052395D7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E2B5-56AF-4DEF-A1F9-19B83421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DCD535-4921-4C0F-B87A-D568DD540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8FEC4-E845-45DF-9760-E657DC8F9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4E7E9-6B48-4E0F-97E4-E114021EB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7EAA4A-1EC2-4F30-BC99-93BCF8FA6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B8EE47-5E7C-4A4E-83A9-B6F6D65B3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FF5FA-F71D-499E-AAC8-A898290F8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DA4D4-2E1E-4A2D-94AA-28BA19997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6D3C6A-FFCF-4A5C-BD80-74C5945B2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7C3CE-87F1-4B3D-BD7F-146012C75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94AC8-8516-42F9-9D35-9109B8BD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D1AB-6EF2-4553-9B4E-050440D7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E4A4E6-1888-407B-80F3-B0AF83CB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B2534A-2F8A-4B48-8407-73C2CBCF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8403C-6387-43A6-8FC1-C3957A3BD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F365A-1335-46BD-B031-560B6ED4D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8BFDF-F21C-4C31-913C-1F92386BB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B1253F-3A8E-4CCC-A717-324C04847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9A9CE-E3B8-4611-A633-B81DC73D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E61469-608A-4732-B754-18046941D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76E3C4-4BA1-41C9-B916-FD57C541D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8DF678-1326-4189-A1B3-96691F433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67DD-3293-4CC9-9E3E-85FF29A0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A004AF-3302-4A92-B3D4-F20873DF9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12E4C9-8EA1-44B5-AD4F-76CF7421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E90A48-1EE0-4167-BAE6-A97276CA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B1D1CF-F2F2-4434-8DDF-7CD01F3A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59F129-DDC7-43A4-B65A-C3EEFC0C0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8CD06B-F87C-4661-8568-2EABF2855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AAC4EE-3246-468F-909F-EFF1721B7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FDA5F6-190B-4304-9910-B554E55EA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2CDFA9-8656-4A41-8E5E-D86C2B37D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12D745-3CD0-43A1-84DC-FEA71A2FB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686C9-B72F-409E-83E9-71AD4436CBFB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Прямоугольник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9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30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3AEF0-E273-4859-94C6-3D555ADFEFFA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3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3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Num" idx="3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B50F4-2F31-45CD-A307-8F80F5CB2D2F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Прямая соединительная линия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83FE2-4A6D-423A-8B2D-858616E87C03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AB0FC-3AA6-4935-A1DD-FBA9D1525E1D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2DCDE-8711-4F04-B24D-525EF3FD9DD5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39790-EC48-4CAC-85AA-7E4D0F35486B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0982-CA6A-4FC2-8128-E8F3231298D4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7C6E3-47A3-4797-B9FA-80B731210C61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40B9D-7053-4C1B-BCA9-F0C3B1032C8E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D6335-F058-40C0-ADBD-3935A9A75C79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Равнобедренный треугольник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5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6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7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BACED-504C-464F-96EB-E7325914607B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42800" y="-383400"/>
            <a:ext cx="8244000" cy="5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457200" y="1599840"/>
            <a:ext cx="6858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ял барашек карандашик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ял и написал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Я бебека, я мемека,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медведя забодал"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5" name="Picture 4" descr="C:\Documents and Settings\User.YSER-3E6C744615\Рабочий стол\images.jpeg"/>
          <p:cNvPicPr/>
          <p:nvPr/>
        </p:nvPicPr>
        <p:blipFill>
          <a:blip r:embed="rId1"/>
          <a:stretch/>
        </p:blipFill>
        <p:spPr>
          <a:xfrm>
            <a:off x="0" y="4724280"/>
            <a:ext cx="3000240" cy="213372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2" descr="C:\Documents and Settings\User.YSER-3E6C744615\Рабочий стол\3776red_balloon.jpg"/>
          <p:cNvPicPr/>
          <p:nvPr/>
        </p:nvPicPr>
        <p:blipFill>
          <a:blip r:embed="rId2"/>
          <a:stretch/>
        </p:blipFill>
        <p:spPr>
          <a:xfrm>
            <a:off x="6858000" y="3733920"/>
            <a:ext cx="200016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2" name="Picture 2" descr="C:\Documents and Settings\User.YSER-3E6C744615\Рабочий стол\img4.gif"/>
          <p:cNvPicPr/>
          <p:nvPr/>
        </p:nvPicPr>
        <p:blipFill>
          <a:blip r:embed="rId1"/>
          <a:stretch/>
        </p:blipFill>
        <p:spPr>
          <a:xfrm>
            <a:off x="533520" y="533520"/>
            <a:ext cx="77724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42800" y="-307080"/>
            <a:ext cx="8244000" cy="5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57200" y="304920"/>
            <a:ext cx="822960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южина</a:t>
            </a:r>
            <a:r>
              <a:rPr b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–     двенадцать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ребедень</a:t>
            </a:r>
            <a:r>
              <a:rPr b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– ерунда, чепух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азели </a:t>
            </a:r>
            <a:r>
              <a:rPr b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вид антилопы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алдели</a:t>
            </a:r>
            <a:r>
              <a:rPr b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– громко говорил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уд </a:t>
            </a:r>
            <a:r>
              <a:rPr b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русская мера веса (примерно 16кг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-237960"/>
            <a:ext cx="8229600" cy="5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6840" y="1285560"/>
            <a:ext cx="404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9fb8cd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404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9fb8cd"/>
              </a:solidFill>
              <a:latin typeface="Calibri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456840" y="228600"/>
            <a:ext cx="40402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т она вниз головою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летом растет, а зимою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солнце ее припечет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лачет она и умре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дрец в нём видел мудрец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пец – глупца, баран – бара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цу в нём видела овц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безьяну – обезья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вот подвели к нему Федю Баратов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Федя неряху увидел лохматог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495320" y="228600"/>
            <a:ext cx="40417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жу, брожу не по лесам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по усам и волоса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зубы у меня длинней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у волков и медведе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жу у вас я под ногами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пчите меня сапогами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завтра во двор унесите мен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бейте меня, колотите меня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 дети могли поваляться на мне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рахтаться и кувыркаться на мн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0" name="Picture 3" descr="C:\Documents and Settings\User.YSER-3E6C744615\Рабочий стол\default.jpeg"/>
          <p:cNvPicPr/>
          <p:nvPr/>
        </p:nvPicPr>
        <p:blipFill>
          <a:blip r:embed="rId1"/>
          <a:stretch/>
        </p:blipFill>
        <p:spPr>
          <a:xfrm>
            <a:off x="3352680" y="1219320"/>
            <a:ext cx="1105200" cy="92376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4" descr="C:\Documents and Settings\User.YSER-3E6C744615\Рабочий стол\default.jpeg"/>
          <p:cNvPicPr/>
          <p:nvPr/>
        </p:nvPicPr>
        <p:blipFill>
          <a:blip r:embed="rId2"/>
          <a:stretch/>
        </p:blipFill>
        <p:spPr>
          <a:xfrm>
            <a:off x="2971800" y="525780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5" descr="C:\Documents and Settings\User.YSER-3E6C744615\Рабочий стол\default.jpeg"/>
          <p:cNvPicPr/>
          <p:nvPr/>
        </p:nvPicPr>
        <p:blipFill>
          <a:blip r:embed="rId3"/>
          <a:stretch/>
        </p:blipFill>
        <p:spPr>
          <a:xfrm rot="16442400">
            <a:off x="6842880" y="4474080"/>
            <a:ext cx="1738440" cy="263844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6" descr="C:\Documents and Settings\User.YSER-3E6C744615\Рабочий стол\default.jpeg"/>
          <p:cNvPicPr/>
          <p:nvPr/>
        </p:nvPicPr>
        <p:blipFill>
          <a:blip r:embed="rId4"/>
          <a:stretch/>
        </p:blipFill>
        <p:spPr>
          <a:xfrm>
            <a:off x="7848720" y="1600200"/>
            <a:ext cx="120960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6840" y="1285560"/>
            <a:ext cx="404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9fb8cd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404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9fb8cd"/>
              </a:solidFill>
              <a:latin typeface="Calibri"/>
            </a:endParaRPr>
          </a:p>
        </p:txBody>
      </p:sp>
      <p:pic>
        <p:nvPicPr>
          <p:cNvPr id="557" name="Picture 3" descr="C:\Documents and Settings\User.YSER-3E6C744615\Рабочий стол\1249807473_leto.jpeg"/>
          <p:cNvPicPr/>
          <p:nvPr/>
        </p:nvPicPr>
        <p:blipFill>
          <a:blip r:embed="rId1"/>
          <a:stretch/>
        </p:blipFill>
        <p:spPr>
          <a:xfrm>
            <a:off x="609480" y="3429000"/>
            <a:ext cx="5943600" cy="326700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7" descr="C:\Documents and Settings\User.YSER-3E6C744615\Рабочий стол\213.jpg"/>
          <p:cNvPicPr/>
          <p:nvPr/>
        </p:nvPicPr>
        <p:blipFill>
          <a:blip r:embed="rId2"/>
          <a:stretch/>
        </p:blipFill>
        <p:spPr>
          <a:xfrm>
            <a:off x="5029200" y="0"/>
            <a:ext cx="4114800" cy="502920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8" descr="C:\Documents and Settings\User.YSER-3E6C744615\Рабочий стол\1273136450_eyexsvoi15gzctp.jpeg"/>
          <p:cNvPicPr/>
          <p:nvPr/>
        </p:nvPicPr>
        <p:blipFill>
          <a:blip r:embed="rId3"/>
          <a:stretch/>
        </p:blipFill>
        <p:spPr>
          <a:xfrm>
            <a:off x="228600" y="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9" descr="C:\Documents and Settings\User.YSER-3E6C744615\Рабочий стол\1275636741_m7chp4w6uavwf0c.jpeg"/>
          <p:cNvPicPr/>
          <p:nvPr/>
        </p:nvPicPr>
        <p:blipFill>
          <a:blip r:embed="rId4"/>
          <a:stretch/>
        </p:blipFill>
        <p:spPr>
          <a:xfrm>
            <a:off x="1828800" y="2057400"/>
            <a:ext cx="380988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42800" y="-307080"/>
            <a:ext cx="8244000" cy="5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457200" y="3045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1000"/>
          </a:bodyPr>
          <a:p>
            <a:pPr marL="84240" indent="-84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9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marL="84240" indent="-84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9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9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РО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marL="84240" indent="-84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9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РО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-307440"/>
            <a:ext cx="8244000" cy="5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 rot="10800000">
            <a:off x="2438280" y="1371600"/>
            <a:ext cx="4114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800" spc="-1" strike="noStrike">
                <a:solidFill>
                  <a:srgbClr val="002060"/>
                </a:solidFill>
                <a:latin typeface="Times New Roman"/>
              </a:rPr>
              <a:t>Ч</a:t>
            </a:r>
            <a:endParaRPr b="0" lang="en-US" sz="40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" dur="10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42800" y="-230760"/>
            <a:ext cx="8244000" cy="5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57200" y="304920"/>
            <a:ext cx="822960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а-ча-ча     - горит в комнате свеч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у-чу-чу    – мы подуем на свеч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ч-оч-оч    – наступает быстро ноч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и-чи-чи   – ночью громко не крич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2" descr="C:\Documents and Settings\User.YSER-3E6C744615\Рабочий стол\c4f8164f74f8446470388972764.jpg"/>
          <p:cNvPicPr/>
          <p:nvPr/>
        </p:nvPicPr>
        <p:blipFill>
          <a:blip r:embed="rId1"/>
          <a:stretch/>
        </p:blipFill>
        <p:spPr>
          <a:xfrm>
            <a:off x="1828800" y="0"/>
            <a:ext cx="4952880" cy="5562720"/>
          </a:xfrm>
          <a:prstGeom prst="rect">
            <a:avLst/>
          </a:prstGeom>
          <a:ln w="0">
            <a:noFill/>
          </a:ln>
        </p:spPr>
      </p:pic>
      <p:sp>
        <p:nvSpPr>
          <p:cNvPr id="524" name="Прямоугольник 2"/>
          <p:cNvSpPr/>
          <p:nvPr/>
        </p:nvSpPr>
        <p:spPr>
          <a:xfrm>
            <a:off x="533520" y="525780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Verdana"/>
              </a:rPr>
              <a:t>      </a:t>
            </a:r>
            <a:r>
              <a:rPr b="1" lang="ru-RU" sz="4400" spc="-1" strike="noStrike">
                <a:solidFill>
                  <a:srgbClr val="002060"/>
                </a:solidFill>
                <a:latin typeface="Verdana"/>
              </a:rPr>
              <a:t>Корней Иванович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Verdana"/>
              </a:rPr>
              <a:t>         </a:t>
            </a:r>
            <a:r>
              <a:rPr b="1" lang="ru-RU" sz="4400" spc="-1" strike="noStrike">
                <a:solidFill>
                  <a:srgbClr val="002060"/>
                </a:solidFill>
                <a:latin typeface="Verdana"/>
              </a:rPr>
              <a:t>Чуковский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42800" y="-230760"/>
            <a:ext cx="8244000" cy="5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7" name="Picture 2" descr="C:\Documents and Settings\User.YSER-3E6C744615\Рабочий стол\images.jpeg"/>
          <p:cNvPicPr/>
          <p:nvPr/>
        </p:nvPicPr>
        <p:blipFill>
          <a:blip r:embed="rId1"/>
          <a:stretch/>
        </p:blipFill>
        <p:spPr>
          <a:xfrm>
            <a:off x="1828800" y="457200"/>
            <a:ext cx="541008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42800" y="-307080"/>
            <a:ext cx="8244000" cy="5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истота – залог здоровья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исто жить- здоровым быть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рузья познаются в беде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2" name="Picture 2" descr="C:\Documents and Settings\User.YSER-3E6C744615\Рабочий стол\193582.jpg"/>
          <p:cNvPicPr/>
          <p:nvPr/>
        </p:nvPicPr>
        <p:blipFill>
          <a:blip r:embed="rId1"/>
          <a:stretch/>
        </p:blipFill>
        <p:spPr>
          <a:xfrm>
            <a:off x="3048120" y="0"/>
            <a:ext cx="3124080" cy="363996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3" descr="C:\Documents and Settings\User.YSER-3E6C744615\Рабочий стол\1274823839_0rhtlqypaqg3eed.jpeg"/>
          <p:cNvPicPr/>
          <p:nvPr/>
        </p:nvPicPr>
        <p:blipFill>
          <a:blip r:embed="rId2"/>
          <a:stretch/>
        </p:blipFill>
        <p:spPr>
          <a:xfrm>
            <a:off x="0" y="0"/>
            <a:ext cx="3086280" cy="428616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4" descr="C:\Documents and Settings\User.YSER-3E6C744615\Рабочий стол\1235807425_931014150.jpg"/>
          <p:cNvPicPr/>
          <p:nvPr/>
        </p:nvPicPr>
        <p:blipFill>
          <a:blip r:embed="rId3"/>
          <a:stretch/>
        </p:blipFill>
        <p:spPr>
          <a:xfrm>
            <a:off x="6172200" y="0"/>
            <a:ext cx="2819520" cy="358128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5" descr="C:\Documents and Settings\User.YSER-3E6C744615\Рабочий стол\ot.2.do.5.jpg"/>
          <p:cNvPicPr/>
          <p:nvPr/>
        </p:nvPicPr>
        <p:blipFill>
          <a:blip r:embed="rId4"/>
          <a:stretch/>
        </p:blipFill>
        <p:spPr>
          <a:xfrm>
            <a:off x="3048120" y="3505320"/>
            <a:ext cx="3124080" cy="3124080"/>
          </a:xfrm>
          <a:prstGeom prst="rect">
            <a:avLst/>
          </a:prstGeom>
          <a:ln w="0">
            <a:noFill/>
          </a:ln>
        </p:spPr>
      </p:pic>
      <p:sp>
        <p:nvSpPr>
          <p:cNvPr id="536" name="Rectangle 6"/>
          <p:cNvSpPr/>
          <p:nvPr/>
        </p:nvSpPr>
        <p:spPr>
          <a:xfrm>
            <a:off x="4002840" y="97920"/>
            <a:ext cx="1137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ха-цокотуха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42800" y="-307080"/>
            <a:ext cx="8244000" cy="5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914400" y="-360"/>
            <a:ext cx="45720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хали медвед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велосипед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за ними ко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дом наперёд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за ним комар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воздушном шарик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за ними ра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хромой собак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лки на кобыл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ьвы в автомобил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йч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трамвайчик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Жаба на метле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дут и смеются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яники жую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9" name="Picture 2" descr="C:\Documents and Settings\User.YSER-3E6C744615\Рабочий стол\15259130sjj.jpg"/>
          <p:cNvPicPr/>
          <p:nvPr/>
        </p:nvPicPr>
        <p:blipFill>
          <a:blip r:embed="rId1"/>
          <a:stretch/>
        </p:blipFill>
        <p:spPr>
          <a:xfrm>
            <a:off x="4724280" y="762120"/>
            <a:ext cx="41911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ser</cp:lastModifiedBy>
  <dcterms:modified xsi:type="dcterms:W3CDTF">2010-12-13T18:44:21Z</dcterms:modified>
  <cp:revision>4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