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3.gif" ContentType="image/gif"/>
  <Override PartName="/ppt/media/image1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.jpeg" ContentType="image/jpeg"/>
  <Override PartName="/ppt/media/image27.gif" ContentType="image/gif"/>
  <Override PartName="/ppt/media/image14.gif" ContentType="image/gif"/>
  <Override PartName="/ppt/media/image3.png" ContentType="image/png"/>
  <Override PartName="/ppt/media/image17.jpeg" ContentType="image/jpe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FE8-F7BF-4B70-AD6A-D93AA0F6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DE5-2DF4-45D8-B574-20D9EE00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14571-C95A-470C-9683-9D83E888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27809-0971-4763-BA9E-95ABF0D5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2614B-0C57-4ED3-8365-3E3514EF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B1170-4E8D-4971-BA25-5585669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1E624-2F7E-46FD-9A9C-A795A62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9F31D-9FA4-4FCC-81C8-D8473B1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88D0E-FA10-4D84-B67F-F2B09C46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438E7-BC8F-4FFF-B2D9-DAD46B9A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3230C-05D3-4D39-B685-96C8D6DD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42C7D-4EEA-4D65-8A8D-2059CEDA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665-9BCC-4F4B-BA77-33F2DA66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5628F-80DA-4512-866E-E4E53731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BDB38-B512-4330-BABE-9D858473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6ECAD-2608-433A-A8F4-A0630B55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596EC-C7A6-48B6-97D6-0FF9D33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72B63-7F4B-45B5-906D-F8185537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26CC3-6A6D-4047-A7FB-98C8F1B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8A6A8-855E-4B13-8833-23812F5B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5BCEF-2456-47EF-9745-E47E7E6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A0384-9F3C-43D9-B2E3-0B86442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3BAF0-2FD9-4988-8C5C-4D572EC6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828-6B6A-4F53-B74A-2CD82E3E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B6E68-16F4-46FA-B3D3-20D68352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C95B-F8BF-4168-BAAD-C4653B35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FBD8-3BCE-4098-BB56-4FC1E41C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320F-9172-4034-9FFC-F153BB0C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430B-735B-48D3-A0E7-A31A2B04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7C4E-2B56-4A5B-9A59-0DACC02D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B666-2FAF-4DEA-87C1-469412EB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3952-0D5A-4438-B3A8-901A8F48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22B-80C8-463D-B71F-864942D6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3665-FA31-4922-AB15-1D69C8D4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5A46-FB09-4782-8A41-3B3F2994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9EFB-3575-495A-8608-A45BF556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7D63-32EC-4F12-B7EE-C936048A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6DF-0B2F-4AB6-817E-B840E45A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0428-10E9-4786-9253-4B3E8C72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FFE7-4F20-437E-A68D-BEE0F8D2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6AC5-5812-42F3-A445-019E3506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D753-1BB5-4B4B-9C32-8E619750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5027-5F82-4050-9B3C-EA0D28FA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ADC-B313-4DC4-B76B-42CFC5B4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E7A5-DCFD-407E-9AD2-5EBAC8AF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9802-9B6F-4FB8-8CE4-91215D0C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BDC3-048C-4097-ACF0-00B053B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763A-E04E-4436-8F9E-390F54E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F669-9F86-458E-A1C1-82D36020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C313-242A-4844-841D-8559D06B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FFC2-1820-456D-A7FE-78C0F5EE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22FD1-C145-407C-BCAA-AE7C0F5C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B664-F9BA-4F17-A5A2-8CBBCBB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00AB-ED40-4C9F-9303-3645838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F9F-1AC2-4DDF-9C85-BBE99294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BA73-C40A-430F-B01B-54505F24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1FE6-46BC-4F46-8253-9672A54B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488C-DE1C-4527-9241-70FD491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2882-7ACA-4C53-9A16-E6C94968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31C4-B5DF-4212-87EF-7C21EF6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F58E-80B1-41C6-BF41-64ED4E1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2A05-0A29-4D13-A9A4-09C5F16E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20A7-BBA1-425A-A143-07DFD03E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B257-2EE5-4674-BB91-AE1E4931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B6CA0-B724-44A6-AD97-404EF0A8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B05-FF43-404A-B386-08FCAD4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4CC0-6262-4A70-8AF1-71077C8B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8410D-E216-4D53-B6FD-CA7B402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005C-1CDD-4E0E-A7DE-80CE170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F20B-3943-42E3-B28A-40385AD2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CC62-3345-475D-8B38-E6326EB2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2D528-A90A-4122-A34D-8B5EFCF8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C2C4-CCCD-428F-925D-4EF117B9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44A2-9A58-45B2-963F-511160A2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1162-85A1-4855-8756-C8969820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6852B-91E4-4A13-8149-5532385E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64D-86ED-48E3-8D28-14434BE0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479D3-9A7C-4241-ABB9-62130282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1A1E-FC16-45EF-A462-DFB62D6C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8897-9FB2-4857-BAAF-F5FB5C73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7BF8A-7F56-4A89-8067-0051B910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8ABDC-AC58-4AAA-806E-F924DDEA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AB5AA-EE02-47B3-A1F5-99F30E36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828C3-DA37-4F58-AB38-54FFD4B4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601DC-E26C-4BB9-827F-C85C227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A4646-E08C-44A0-87AC-2CA910DC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7F277-BA81-4E98-8D27-4CEC0CEF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989-2CB7-4986-AAD3-ED214F7D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07889-218B-4D02-890A-8007C4D1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ABE7-C3E9-41C2-82F2-02C201D2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8EFA3-055E-4EBA-A09E-10E7373F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75826-484E-437E-BCCE-886C4B81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4C353-8F10-4D34-8E68-4C0BCEDB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B662B-B438-4F6E-AC80-CA331E4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B6C6F-1A5A-44E7-915F-CD7BFC11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4478-7239-4C42-82A6-453C4FB8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C986D-69EF-475D-A5AF-34F53307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CDDF-F10F-4642-B8C9-E77E9411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1A7-C456-4574-826F-4CA176DA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D6CBC-453C-48D8-9A4B-C0F92C0B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671AB-6FA1-4582-B92A-DDC3703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185D-D976-481A-8B23-EA0051AB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A1ECC-2AEB-452F-B648-571833A8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6B902-08FD-4540-A798-1FC1C4DE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32148-124F-405A-9870-18696A37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7405A-B239-446F-AFE0-2B13E6B8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8EC15-EA7B-47FC-84E8-E09F5787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7AEAC-37B3-46F3-AD89-B2FFBA64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5E108-C7DE-4611-8C53-414EC2DA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5DD-AA91-44E4-A3B4-C35CA3F5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57340-B03F-4488-8924-49E88E49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2BF40-E5D5-4F63-82B9-99F02DA6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DDF7D-3D77-45F2-90EA-EB3A59C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BDD5D-128A-4C1D-8CD8-2B2FE75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A823D-FF8C-48F3-976A-7A5EE724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A1A3F-56A6-4456-A281-B7459C85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6EEF7-216C-402A-8DC2-5B14A503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18A91-B355-4574-983E-2CBECB70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382BB-4A6D-4489-8EB7-87473486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C4634-6B25-4E34-9AD4-828D20D1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AFA9-E07E-450C-ACA5-B87D355A4C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B036-CFC3-43E1-81DA-4C3DC8067F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DF71-4AC9-4501-B858-5933C0141A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A4A8-9039-4C26-A5CA-6CD28A037A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BEBD-F460-4AC6-9463-DF5E9EE1AB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2CC9-BFBC-46B0-B871-E1EEA1BA43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5431-CAA4-4C07-8AE4-DA9698A2FD0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D868-F056-43F9-9CCE-F2A88F5C71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B14A-4FE5-4560-BBC8-6BF4EBBC6E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04AB-3A6F-4A7F-9432-A5DABC3C98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"/>
          <p:cNvSpPr/>
          <p:nvPr/>
        </p:nvSpPr>
        <p:spPr>
          <a:xfrm>
            <a:off x="4284720" y="4076640"/>
            <a:ext cx="457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f10"/>
                </a:solidFill>
                <a:latin typeface="Arial"/>
              </a:rPr>
              <a:t>Автор: Кононенко</a:t>
            </a:r>
            <a:r>
              <a:rPr b="1" lang="ru-RU" sz="2400" spc="-1" strike="noStrike">
                <a:solidFill>
                  <a:srgbClr val="621f10"/>
                </a:solidFill>
                <a:latin typeface="Monotype Corsiva"/>
              </a:rPr>
              <a:t> Светла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21f10"/>
                </a:solidFill>
                <a:latin typeface="Arial Narrow"/>
              </a:rPr>
              <a:t>учитель  начальных 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21f10"/>
                </a:solidFill>
                <a:latin typeface="Arial Narrow"/>
              </a:rPr>
              <a:t>МОУ Коврижская  СОШ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WordArt 6"/>
          <p:cNvSpPr txBox="1"/>
          <p:nvPr/>
        </p:nvSpPr>
        <p:spPr>
          <a:xfrm>
            <a:off x="1187280" y="2637000"/>
            <a:ext cx="6840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ЧАСТИ РЕЧИ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51" name="Picture 7" descr="books_writing"/>
          <p:cNvPicPr/>
          <p:nvPr/>
        </p:nvPicPr>
        <p:blipFill>
          <a:blip r:embed="rId3"/>
          <a:stretch/>
        </p:blipFill>
        <p:spPr>
          <a:xfrm>
            <a:off x="539640" y="4581360"/>
            <a:ext cx="1389240" cy="12258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8"/>
          <p:cNvSpPr/>
          <p:nvPr/>
        </p:nvSpPr>
        <p:spPr>
          <a:xfrm rot="20978400">
            <a:off x="1481040" y="5149440"/>
            <a:ext cx="719280" cy="5144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 rot="20978400">
            <a:off x="1468440" y="5132160"/>
            <a:ext cx="719280" cy="5140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Рисунок 8" descr="2.gif"/>
          <p:cNvPicPr/>
          <p:nvPr/>
        </p:nvPicPr>
        <p:blipFill>
          <a:blip r:embed="rId4"/>
          <a:stretch/>
        </p:blipFill>
        <p:spPr>
          <a:xfrm rot="780000">
            <a:off x="7451280" y="4653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Заголовок 1" descr=""/>
          <p:cNvPicPr/>
          <p:nvPr/>
        </p:nvPicPr>
        <p:blipFill>
          <a:blip r:embed="rId1"/>
          <a:stretch/>
        </p:blipFill>
        <p:spPr>
          <a:xfrm>
            <a:off x="487440" y="743040"/>
            <a:ext cx="7980120" cy="218916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3329"/>
                </a:solidFill>
                <a:latin typeface="Franklin Gothic Book"/>
              </a:rPr>
              <a:t>Заливаются, хихикают, хохочут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539640" y="189000"/>
            <a:ext cx="216000" cy="6408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">
            <a:hlinkClick r:id="rId1"/>
          </p:cNvPr>
          <p:cNvSpPr/>
          <p:nvPr/>
        </p:nvSpPr>
        <p:spPr>
          <a:xfrm>
            <a:off x="755640" y="642960"/>
            <a:ext cx="3959280" cy="2930400"/>
          </a:xfrm>
          <a:custGeom>
            <a:avLst/>
            <a:gdLst>
              <a:gd name="textAreaLeft" fmla="*/ 0 w 3959280"/>
              <a:gd name="textAreaRight" fmla="*/ 3959640 w 3959280"/>
              <a:gd name="textAreaTop" fmla="*/ 379800 h 2930400"/>
              <a:gd name="textAreaBottom" fmla="*/ 2550600 h 2930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ИМЕН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ПРИЛАГАТЕЛЬНЫ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4"/>
          <p:cNvGrpSpPr/>
          <p:nvPr/>
        </p:nvGrpSpPr>
        <p:grpSpPr>
          <a:xfrm>
            <a:off x="1116000" y="4500720"/>
            <a:ext cx="1598760" cy="1356480"/>
            <a:chOff x="1116000" y="4500720"/>
            <a:chExt cx="1598760" cy="1356480"/>
          </a:xfrm>
        </p:grpSpPr>
        <p:grpSp>
          <p:nvGrpSpPr>
            <p:cNvPr id="589" name="Group 5"/>
            <p:cNvGrpSpPr/>
            <p:nvPr/>
          </p:nvGrpSpPr>
          <p:grpSpPr>
            <a:xfrm>
              <a:off x="1326240" y="4702320"/>
              <a:ext cx="1099440" cy="1154880"/>
              <a:chOff x="1326240" y="4702320"/>
              <a:chExt cx="1099440" cy="1154880"/>
            </a:xfrm>
          </p:grpSpPr>
          <p:sp>
            <p:nvSpPr>
              <p:cNvPr id="590" name="Oval 6"/>
              <p:cNvSpPr/>
              <p:nvPr/>
            </p:nvSpPr>
            <p:spPr>
              <a:xfrm>
                <a:off x="1326240" y="5655960"/>
                <a:ext cx="366120" cy="201240"/>
              </a:xfrm>
              <a:prstGeom prst="ellipse">
                <a:avLst/>
              </a:prstGeom>
              <a:solidFill>
                <a:srgbClr val="f0a22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1" name="Group 7"/>
              <p:cNvGrpSpPr/>
              <p:nvPr/>
            </p:nvGrpSpPr>
            <p:grpSpPr>
              <a:xfrm>
                <a:off x="1483200" y="4702320"/>
                <a:ext cx="942480" cy="1154880"/>
                <a:chOff x="1483200" y="4702320"/>
                <a:chExt cx="942480" cy="1154880"/>
              </a:xfrm>
            </p:grpSpPr>
            <p:sp>
              <p:nvSpPr>
                <p:cNvPr id="592" name="Oval 8"/>
                <p:cNvSpPr/>
                <p:nvPr/>
              </p:nvSpPr>
              <p:spPr>
                <a:xfrm>
                  <a:off x="1483200" y="4702320"/>
                  <a:ext cx="890640" cy="838440"/>
                </a:xfrm>
                <a:prstGeom prst="ellipse">
                  <a:avLst/>
                </a:prstGeom>
                <a:solidFill>
                  <a:srgbClr val="f0a22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9"/>
                <p:cNvSpPr/>
                <p:nvPr/>
              </p:nvSpPr>
              <p:spPr>
                <a:xfrm flipH="1">
                  <a:off x="1640160" y="5505120"/>
                  <a:ext cx="156960" cy="20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0"/>
                <p:cNvSpPr/>
                <p:nvPr/>
              </p:nvSpPr>
              <p:spPr>
                <a:xfrm>
                  <a:off x="2006280" y="5505120"/>
                  <a:ext cx="156960" cy="20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Oval 11"/>
                <p:cNvSpPr/>
                <p:nvPr/>
              </p:nvSpPr>
              <p:spPr>
                <a:xfrm>
                  <a:off x="2059560" y="5655960"/>
                  <a:ext cx="366120" cy="201240"/>
                </a:xfrm>
                <a:prstGeom prst="ellipse">
                  <a:avLst/>
                </a:prstGeom>
                <a:solidFill>
                  <a:srgbClr val="f0a22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12"/>
                <p:cNvSpPr/>
                <p:nvPr/>
              </p:nvSpPr>
              <p:spPr>
                <a:xfrm rot="16200000">
                  <a:off x="1826280" y="5172480"/>
                  <a:ext cx="201600" cy="36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050" y="2243"/>
                        <a:pt x="12500" y="5080"/>
                        <a:pt x="12500" y="10800"/>
                      </a:cubicBezTo>
                      <a:cubicBezTo>
                        <a:pt x="12500" y="16520"/>
                        <a:pt x="17050" y="1935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Oval 13"/>
                <p:cNvSpPr/>
                <p:nvPr/>
              </p:nvSpPr>
              <p:spPr>
                <a:xfrm>
                  <a:off x="1692000" y="5003280"/>
                  <a:ext cx="52920" cy="1008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Oval 14"/>
                <p:cNvSpPr/>
                <p:nvPr/>
              </p:nvSpPr>
              <p:spPr>
                <a:xfrm>
                  <a:off x="2059560" y="5003280"/>
                  <a:ext cx="52920" cy="1008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15"/>
            <p:cNvSpPr/>
            <p:nvPr/>
          </p:nvSpPr>
          <p:spPr>
            <a:xfrm>
              <a:off x="1116000" y="4500720"/>
              <a:ext cx="1598760" cy="375480"/>
            </a:xfrm>
            <a:custGeom>
              <a:avLst/>
              <a:gdLst>
                <a:gd name="textAreaLeft" fmla="*/ 399600 w 1598760"/>
                <a:gd name="textAreaRight" fmla="*/ 1199160 w 1598760"/>
                <a:gd name="textAreaTop" fmla="*/ 0 h 375480"/>
                <a:gd name="textAreaBottom" fmla="*/ 328680 h 37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16"/>
          <p:cNvGrpSpPr/>
          <p:nvPr/>
        </p:nvGrpSpPr>
        <p:grpSpPr>
          <a:xfrm>
            <a:off x="3492360" y="4365720"/>
            <a:ext cx="1508400" cy="1491840"/>
            <a:chOff x="3492360" y="4365720"/>
            <a:chExt cx="1508400" cy="1491840"/>
          </a:xfrm>
        </p:grpSpPr>
        <p:grpSp>
          <p:nvGrpSpPr>
            <p:cNvPr id="601" name="Group 17"/>
            <p:cNvGrpSpPr/>
            <p:nvPr/>
          </p:nvGrpSpPr>
          <p:grpSpPr>
            <a:xfrm>
              <a:off x="3690720" y="4587480"/>
              <a:ext cx="1037880" cy="1270080"/>
              <a:chOff x="3690720" y="4587480"/>
              <a:chExt cx="1037880" cy="1270080"/>
            </a:xfrm>
          </p:grpSpPr>
          <p:sp>
            <p:nvSpPr>
              <p:cNvPr id="602" name="Oval 18"/>
              <p:cNvSpPr/>
              <p:nvPr/>
            </p:nvSpPr>
            <p:spPr>
              <a:xfrm>
                <a:off x="3690720" y="5636160"/>
                <a:ext cx="345600" cy="22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" name="Group 19"/>
              <p:cNvGrpSpPr/>
              <p:nvPr/>
            </p:nvGrpSpPr>
            <p:grpSpPr>
              <a:xfrm>
                <a:off x="3839040" y="4587480"/>
                <a:ext cx="889560" cy="1270080"/>
                <a:chOff x="3839040" y="4587480"/>
                <a:chExt cx="889560" cy="1270080"/>
              </a:xfrm>
            </p:grpSpPr>
            <p:sp>
              <p:nvSpPr>
                <p:cNvPr id="604" name="Oval 20"/>
                <p:cNvSpPr/>
                <p:nvPr/>
              </p:nvSpPr>
              <p:spPr>
                <a:xfrm>
                  <a:off x="3839040" y="4587480"/>
                  <a:ext cx="840600" cy="921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1"/>
                <p:cNvSpPr/>
                <p:nvPr/>
              </p:nvSpPr>
              <p:spPr>
                <a:xfrm flipH="1">
                  <a:off x="3987000" y="5470560"/>
                  <a:ext cx="148320" cy="22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2"/>
                <p:cNvSpPr/>
                <p:nvPr/>
              </p:nvSpPr>
              <p:spPr>
                <a:xfrm>
                  <a:off x="4332960" y="5470560"/>
                  <a:ext cx="14832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Oval 23"/>
                <p:cNvSpPr/>
                <p:nvPr/>
              </p:nvSpPr>
              <p:spPr>
                <a:xfrm>
                  <a:off x="4383000" y="5636160"/>
                  <a:ext cx="345600" cy="2214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24"/>
                <p:cNvSpPr/>
                <p:nvPr/>
              </p:nvSpPr>
              <p:spPr>
                <a:xfrm rot="16200000">
                  <a:off x="4147200" y="5133240"/>
                  <a:ext cx="221760" cy="34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050" y="2243"/>
                        <a:pt x="12500" y="5080"/>
                        <a:pt x="12500" y="10800"/>
                      </a:cubicBezTo>
                      <a:cubicBezTo>
                        <a:pt x="12500" y="16520"/>
                        <a:pt x="17050" y="1935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5"/>
                <p:cNvSpPr/>
                <p:nvPr/>
              </p:nvSpPr>
              <p:spPr>
                <a:xfrm>
                  <a:off x="4036320" y="4918680"/>
                  <a:ext cx="50040" cy="1108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Oval 26"/>
                <p:cNvSpPr/>
                <p:nvPr/>
              </p:nvSpPr>
              <p:spPr>
                <a:xfrm>
                  <a:off x="4383000" y="4918680"/>
                  <a:ext cx="50040" cy="1108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1" name="AutoShape 27"/>
            <p:cNvSpPr/>
            <p:nvPr/>
          </p:nvSpPr>
          <p:spPr>
            <a:xfrm>
              <a:off x="3492360" y="4365720"/>
              <a:ext cx="1508400" cy="412920"/>
            </a:xfrm>
            <a:custGeom>
              <a:avLst/>
              <a:gdLst>
                <a:gd name="textAreaLeft" fmla="*/ 376920 w 1508400"/>
                <a:gd name="textAreaRight" fmla="*/ 1131480 w 1508400"/>
                <a:gd name="textAreaTop" fmla="*/ 0 h 412920"/>
                <a:gd name="textAreaBottom" fmla="*/ 36144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8"/>
          <p:cNvGrpSpPr/>
          <p:nvPr/>
        </p:nvGrpSpPr>
        <p:grpSpPr>
          <a:xfrm>
            <a:off x="5929200" y="4429080"/>
            <a:ext cx="1285920" cy="1356840"/>
            <a:chOff x="5929200" y="4429080"/>
            <a:chExt cx="1285920" cy="1356840"/>
          </a:xfrm>
        </p:grpSpPr>
        <p:grpSp>
          <p:nvGrpSpPr>
            <p:cNvPr id="613" name="Group 29"/>
            <p:cNvGrpSpPr/>
            <p:nvPr/>
          </p:nvGrpSpPr>
          <p:grpSpPr>
            <a:xfrm>
              <a:off x="6098040" y="4629600"/>
              <a:ext cx="884520" cy="1156320"/>
              <a:chOff x="6098040" y="4629600"/>
              <a:chExt cx="884520" cy="1156320"/>
            </a:xfrm>
          </p:grpSpPr>
          <p:sp>
            <p:nvSpPr>
              <p:cNvPr id="614" name="Oval 30"/>
              <p:cNvSpPr/>
              <p:nvPr/>
            </p:nvSpPr>
            <p:spPr>
              <a:xfrm>
                <a:off x="6098040" y="5584320"/>
                <a:ext cx="294840" cy="2016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31"/>
              <p:cNvGrpSpPr/>
              <p:nvPr/>
            </p:nvGrpSpPr>
            <p:grpSpPr>
              <a:xfrm>
                <a:off x="6224400" y="4629600"/>
                <a:ext cx="758160" cy="1156320"/>
                <a:chOff x="6224400" y="4629600"/>
                <a:chExt cx="758160" cy="1156320"/>
              </a:xfrm>
            </p:grpSpPr>
            <p:sp>
              <p:nvSpPr>
                <p:cNvPr id="616" name="Oval 32"/>
                <p:cNvSpPr/>
                <p:nvPr/>
              </p:nvSpPr>
              <p:spPr>
                <a:xfrm>
                  <a:off x="6224400" y="4629600"/>
                  <a:ext cx="716400" cy="83916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33"/>
                <p:cNvSpPr/>
                <p:nvPr/>
              </p:nvSpPr>
              <p:spPr>
                <a:xfrm flipH="1">
                  <a:off x="6350040" y="5433480"/>
                  <a:ext cx="126360" cy="20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34"/>
                <p:cNvSpPr/>
                <p:nvPr/>
              </p:nvSpPr>
              <p:spPr>
                <a:xfrm>
                  <a:off x="6645240" y="5433480"/>
                  <a:ext cx="126360" cy="20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Oval 35"/>
                <p:cNvSpPr/>
                <p:nvPr/>
              </p:nvSpPr>
              <p:spPr>
                <a:xfrm>
                  <a:off x="6688080" y="5584320"/>
                  <a:ext cx="294480" cy="2016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36"/>
                <p:cNvSpPr/>
                <p:nvPr/>
              </p:nvSpPr>
              <p:spPr>
                <a:xfrm rot="16200000">
                  <a:off x="6480720" y="5136120"/>
                  <a:ext cx="201600" cy="29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050" y="2243"/>
                        <a:pt x="12500" y="5080"/>
                        <a:pt x="12500" y="10800"/>
                      </a:cubicBezTo>
                      <a:cubicBezTo>
                        <a:pt x="12500" y="16520"/>
                        <a:pt x="17050" y="1935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37"/>
                <p:cNvSpPr/>
                <p:nvPr/>
              </p:nvSpPr>
              <p:spPr>
                <a:xfrm>
                  <a:off x="6392520" y="4930920"/>
                  <a:ext cx="42480" cy="1008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Oval 38"/>
                <p:cNvSpPr/>
                <p:nvPr/>
              </p:nvSpPr>
              <p:spPr>
                <a:xfrm>
                  <a:off x="6688080" y="4930920"/>
                  <a:ext cx="42480" cy="1008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3" name="AutoShape 39"/>
            <p:cNvSpPr/>
            <p:nvPr/>
          </p:nvSpPr>
          <p:spPr>
            <a:xfrm>
              <a:off x="5929200" y="4429080"/>
              <a:ext cx="1285920" cy="375840"/>
            </a:xfrm>
            <a:custGeom>
              <a:avLst/>
              <a:gdLst>
                <a:gd name="textAreaLeft" fmla="*/ 321480 w 1285920"/>
                <a:gd name="textAreaRight" fmla="*/ 964440 w 1285920"/>
                <a:gd name="textAreaTop" fmla="*/ 0 h 375840"/>
                <a:gd name="textAreaBottom" fmla="*/ 329040 h 37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М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Заголовок 9" descr=""/>
          <p:cNvPicPr/>
          <p:nvPr/>
        </p:nvPicPr>
        <p:blipFill>
          <a:blip r:embed="rId1"/>
          <a:stretch/>
        </p:blipFill>
        <p:spPr>
          <a:xfrm>
            <a:off x="487440" y="165240"/>
            <a:ext cx="798012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Заголовок 1" descr=""/>
          <p:cNvPicPr/>
          <p:nvPr/>
        </p:nvPicPr>
        <p:blipFill>
          <a:blip r:embed="rId1"/>
          <a:stretch/>
        </p:blipFill>
        <p:spPr>
          <a:xfrm>
            <a:off x="-139680" y="901800"/>
            <a:ext cx="88329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уществительное  прилагательное    глаго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мет              признак                 действи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то? что?              какой?                   что делает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кая?                  что делают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кое?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кие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28" name="Рисунок 10" descr="emocii-2157.gif"/>
          <p:cNvPicPr/>
          <p:nvPr/>
        </p:nvPicPr>
        <p:blipFill>
          <a:blip r:embed="rId2"/>
          <a:stretch/>
        </p:blipFill>
        <p:spPr>
          <a:xfrm>
            <a:off x="6372360" y="333360"/>
            <a:ext cx="17269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Заголовок 1" descr=""/>
          <p:cNvPicPr/>
          <p:nvPr/>
        </p:nvPicPr>
        <p:blipFill>
          <a:blip r:embed="rId1"/>
          <a:stretch/>
        </p:blipFill>
        <p:spPr>
          <a:xfrm>
            <a:off x="-158760" y="274680"/>
            <a:ext cx="8394840" cy="10476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Задать вопрос к слов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272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272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Определить, что обозначает это слов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272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272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Название части реч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1" name="Прямоугольник 4"/>
          <p:cNvSpPr/>
          <p:nvPr/>
        </p:nvSpPr>
        <p:spPr>
          <a:xfrm>
            <a:off x="515880" y="333360"/>
            <a:ext cx="8112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63588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Franklin Gothic Medium"/>
              </a:rPr>
              <a:t>Молодцы</a:t>
            </a:r>
            <a:r>
              <a:rPr b="0" lang="ru-RU" sz="4000" spc="-1" strike="noStrike">
                <a:solidFill>
                  <a:srgbClr val="ff3300"/>
                </a:solidFill>
                <a:latin typeface="Franklin Gothic Medium"/>
              </a:rPr>
              <a:t>!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3588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UkrainianGoudyOld"/>
              </a:rPr>
              <a:t>Спасибо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UkrainianGoudyOld"/>
              </a:rPr>
              <a:t>за хорошую работу!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4" name="Рисунок 6" descr="proshanie-41.gif"/>
          <p:cNvPicPr/>
          <p:nvPr/>
        </p:nvPicPr>
        <p:blipFill>
          <a:blip r:embed="rId1"/>
          <a:stretch/>
        </p:blipFill>
        <p:spPr>
          <a:xfrm>
            <a:off x="6516720" y="4149720"/>
            <a:ext cx="1727280" cy="1582920"/>
          </a:xfrm>
          <a:prstGeom prst="rect">
            <a:avLst/>
          </a:prstGeom>
          <a:ln w="0">
            <a:noFill/>
          </a:ln>
        </p:spPr>
      </p:pic>
      <p:pic>
        <p:nvPicPr>
          <p:cNvPr id="635" name="Содержимое 8" descr="513214366.gif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ая соединительная линия 14"/>
          <p:cNvSpPr/>
          <p:nvPr/>
        </p:nvSpPr>
        <p:spPr>
          <a:xfrm>
            <a:off x="4788000" y="3573360"/>
            <a:ext cx="571320" cy="428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2"/>
          <p:cNvSpPr/>
          <p:nvPr/>
        </p:nvSpPr>
        <p:spPr>
          <a:xfrm flipV="1">
            <a:off x="1115280" y="3429000"/>
            <a:ext cx="746280" cy="1000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3"/>
          <p:cNvSpPr/>
          <p:nvPr/>
        </p:nvSpPr>
        <p:spPr>
          <a:xfrm>
            <a:off x="3938040" y="5335560"/>
            <a:ext cx="639720" cy="1284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4"/>
          <p:cNvSpPr/>
          <p:nvPr/>
        </p:nvSpPr>
        <p:spPr>
          <a:xfrm flipH="1">
            <a:off x="2509560" y="5419800"/>
            <a:ext cx="533160" cy="123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Овал 5"/>
          <p:cNvGrpSpPr/>
          <p:nvPr/>
        </p:nvGrpSpPr>
        <p:grpSpPr>
          <a:xfrm>
            <a:off x="1816200" y="2840040"/>
            <a:ext cx="2987640" cy="2549520"/>
            <a:chOff x="1816200" y="2840040"/>
            <a:chExt cx="2987640" cy="2549520"/>
          </a:xfrm>
        </p:grpSpPr>
        <p:pic>
          <p:nvPicPr>
            <p:cNvPr id="460" name="Овал 5" descr=""/>
            <p:cNvPicPr/>
            <p:nvPr/>
          </p:nvPicPr>
          <p:blipFill>
            <a:blip r:embed="rId1"/>
            <a:stretch/>
          </p:blipFill>
          <p:spPr>
            <a:xfrm>
              <a:off x="1816200" y="2840040"/>
              <a:ext cx="2987640" cy="25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268360" y="3225960"/>
              <a:ext cx="2087640" cy="17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Овал 6"/>
          <p:cNvGrpSpPr/>
          <p:nvPr/>
        </p:nvGrpSpPr>
        <p:grpSpPr>
          <a:xfrm>
            <a:off x="493560" y="4383000"/>
            <a:ext cx="719280" cy="768600"/>
            <a:chOff x="493560" y="4383000"/>
            <a:chExt cx="719280" cy="768600"/>
          </a:xfrm>
        </p:grpSpPr>
        <p:pic>
          <p:nvPicPr>
            <p:cNvPr id="463" name="Овал 6" descr=""/>
            <p:cNvPicPr/>
            <p:nvPr/>
          </p:nvPicPr>
          <p:blipFill>
            <a:blip r:embed="rId2"/>
            <a:stretch/>
          </p:blipFill>
          <p:spPr>
            <a:xfrm>
              <a:off x="493560" y="4383000"/>
              <a:ext cx="7192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 rot="18741600">
              <a:off x="528480" y="4623840"/>
              <a:ext cx="647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Хорда 8"/>
          <p:cNvSpPr/>
          <p:nvPr/>
        </p:nvSpPr>
        <p:spPr>
          <a:xfrm rot="6744600">
            <a:off x="1361520" y="5709960"/>
            <a:ext cx="1025640" cy="1374840"/>
          </a:xfrm>
          <a:custGeom>
            <a:avLst/>
            <a:gdLst>
              <a:gd name="textAreaLeft" fmla="*/ 150120 w 1025640"/>
              <a:gd name="textAreaRight" fmla="*/ 875520 w 1025640"/>
              <a:gd name="textAreaTop" fmla="*/ 201240 h 1374840"/>
              <a:gd name="textAreaBottom" fmla="*/ 1173600 h 1374840"/>
            </a:gdLst>
            <a:ahLst/>
            <a:rect l="textAreaLeft" t="textAreaTop" r="textAreaRight" b="textAreaBottom"/>
            <a:pathLst>
              <a:path w="1025525" h="1374775">
                <a:moveTo>
                  <a:pt x="923768" y="1098394"/>
                </a:moveTo>
                <a:lnTo>
                  <a:pt x="923768" y="1098394"/>
                </a:lnTo>
                <a:arcTo wR="512763" hR="687388" stAng="2700000" swAng="13500005"/>
                <a:close/>
              </a:path>
            </a:pathLst>
          </a:custGeom>
          <a:noFill/>
          <a:ln w="255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Хорда 9"/>
          <p:cNvSpPr/>
          <p:nvPr/>
        </p:nvSpPr>
        <p:spPr>
          <a:xfrm flipV="1" rot="4168200">
            <a:off x="4791600" y="5689440"/>
            <a:ext cx="861840" cy="1374480"/>
          </a:xfrm>
          <a:custGeom>
            <a:avLst/>
            <a:gdLst>
              <a:gd name="textAreaLeft" fmla="*/ 126000 w 861840"/>
              <a:gd name="textAreaRight" fmla="*/ 735840 w 861840"/>
              <a:gd name="textAreaTop" fmla="*/ 201240 h 1374480"/>
              <a:gd name="textAreaBottom" fmla="*/ 1173240 h 1374480"/>
            </a:gdLst>
            <a:ahLst/>
            <a:rect l="textAreaLeft" t="textAreaTop" r="textAreaRight" b="textAreaBottom"/>
            <a:pathLst>
              <a:path w="862013" h="1374775">
                <a:moveTo>
                  <a:pt x="796167" y="1052548"/>
                </a:moveTo>
                <a:lnTo>
                  <a:pt x="796167" y="1052548"/>
                </a:lnTo>
                <a:arcTo wR="431007" hR="687388" stAng="2700000" swAng="13500005"/>
                <a:close/>
              </a:path>
            </a:pathLst>
          </a:custGeom>
          <a:noFill/>
          <a:ln w="255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D:\больная\45\школа\c31a69c60e14.png"/>
          <p:cNvPicPr/>
          <p:nvPr/>
        </p:nvPicPr>
        <p:blipFill>
          <a:blip r:embed="rId3"/>
          <a:stretch/>
        </p:blipFill>
        <p:spPr>
          <a:xfrm>
            <a:off x="1835280" y="404640"/>
            <a:ext cx="3024000" cy="271476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13"/>
          <p:cNvSpPr/>
          <p:nvPr/>
        </p:nvSpPr>
        <p:spPr>
          <a:xfrm>
            <a:off x="5929200" y="620640"/>
            <a:ext cx="2714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истоп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 е р л и о п 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Овал 15"/>
          <p:cNvGrpSpPr/>
          <p:nvPr/>
        </p:nvGrpSpPr>
        <p:grpSpPr>
          <a:xfrm>
            <a:off x="5370480" y="2603520"/>
            <a:ext cx="517680" cy="920880"/>
            <a:chOff x="5370480" y="2603520"/>
            <a:chExt cx="517680" cy="920880"/>
          </a:xfrm>
        </p:grpSpPr>
        <p:pic>
          <p:nvPicPr>
            <p:cNvPr id="470" name="Овал 15" descr=""/>
            <p:cNvPicPr/>
            <p:nvPr/>
          </p:nvPicPr>
          <p:blipFill>
            <a:blip r:embed="rId4"/>
            <a:stretch/>
          </p:blipFill>
          <p:spPr>
            <a:xfrm>
              <a:off x="5370480" y="2603520"/>
              <a:ext cx="5176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 rot="17275200">
              <a:off x="5307840" y="2916720"/>
              <a:ext cx="646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Прямая соединительная линия 16"/>
          <p:cNvSpPr/>
          <p:nvPr/>
        </p:nvSpPr>
        <p:spPr>
          <a:xfrm flipH="1">
            <a:off x="5363640" y="3500280"/>
            <a:ext cx="142920" cy="500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0"/>
          <p:cNvSpPr/>
          <p:nvPr/>
        </p:nvSpPr>
        <p:spPr>
          <a:xfrm>
            <a:off x="7956720" y="1125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2771640" y="2565360"/>
            <a:ext cx="2017800" cy="100980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6516720" y="4076640"/>
            <a:ext cx="2017800" cy="100980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859280" y="3213000"/>
            <a:ext cx="2017800" cy="86364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7"/>
          <p:cNvSpPr txBox="1"/>
          <p:nvPr/>
        </p:nvSpPr>
        <p:spPr>
          <a:xfrm rot="20720400">
            <a:off x="3330720" y="4241520"/>
            <a:ext cx="129060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78" name="Picture 11" descr="весна"/>
          <p:cNvPicPr/>
          <p:nvPr/>
        </p:nvPicPr>
        <p:blipFill>
          <a:blip r:embed="rId3"/>
          <a:stretch/>
        </p:blipFill>
        <p:spPr>
          <a:xfrm>
            <a:off x="468360" y="2924280"/>
            <a:ext cx="2016000" cy="279216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12"/>
          <p:cNvSpPr/>
          <p:nvPr/>
        </p:nvSpPr>
        <p:spPr>
          <a:xfrm rot="1023000">
            <a:off x="833400" y="347760"/>
            <a:ext cx="4802400" cy="1877760"/>
          </a:xfrm>
          <a:prstGeom prst="cloudCallout">
            <a:avLst>
              <a:gd name="adj1" fmla="val -26078"/>
              <a:gd name="adj2" fmla="val 124374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438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Oval 7"/>
          <p:cNvSpPr/>
          <p:nvPr/>
        </p:nvSpPr>
        <p:spPr>
          <a:xfrm>
            <a:off x="395280" y="549360"/>
            <a:ext cx="2160720" cy="64764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…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"/>
          <p:cNvSpPr/>
          <p:nvPr/>
        </p:nvSpPr>
        <p:spPr>
          <a:xfrm>
            <a:off x="1619280" y="2205000"/>
            <a:ext cx="2160720" cy="64764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…б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9"/>
          <p:cNvSpPr/>
          <p:nvPr/>
        </p:nvSpPr>
        <p:spPr>
          <a:xfrm>
            <a:off x="5292720" y="5373720"/>
            <a:ext cx="2160720" cy="64764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…ж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0"/>
          <p:cNvSpPr/>
          <p:nvPr/>
        </p:nvSpPr>
        <p:spPr>
          <a:xfrm>
            <a:off x="395280" y="4076640"/>
            <a:ext cx="2160720" cy="158436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…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1"/>
          <p:cNvSpPr/>
          <p:nvPr/>
        </p:nvSpPr>
        <p:spPr>
          <a:xfrm>
            <a:off x="3276720" y="3645000"/>
            <a:ext cx="2160360" cy="64764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…ро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9"/>
          <p:cNvSpPr/>
          <p:nvPr/>
        </p:nvSpPr>
        <p:spPr>
          <a:xfrm flipH="1">
            <a:off x="4572000" y="1844640"/>
            <a:ext cx="71280" cy="7164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1" descr="весна"/>
          <p:cNvPicPr/>
          <p:nvPr/>
        </p:nvPicPr>
        <p:blipFill>
          <a:blip r:embed="rId1"/>
          <a:stretch/>
        </p:blipFill>
        <p:spPr>
          <a:xfrm rot="465000">
            <a:off x="7076880" y="1833480"/>
            <a:ext cx="1919160" cy="168120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25"/>
          <p:cNvSpPr/>
          <p:nvPr/>
        </p:nvSpPr>
        <p:spPr>
          <a:xfrm rot="660000">
            <a:off x="4752720" y="1719360"/>
            <a:ext cx="2641320" cy="1584360"/>
          </a:xfrm>
          <a:prstGeom prst="cloudCallout">
            <a:avLst>
              <a:gd name="adj1" fmla="val 62328"/>
              <a:gd name="adj2" fmla="val -30851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474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ие буквы спрята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Organization Chart 6"/>
          <p:cNvGrpSpPr/>
          <p:nvPr/>
        </p:nvGrpSpPr>
        <p:grpSpPr>
          <a:xfrm>
            <a:off x="179280" y="0"/>
            <a:ext cx="8228880" cy="5574960"/>
            <a:chOff x="179280" y="0"/>
            <a:chExt cx="8228880" cy="5574960"/>
          </a:xfrm>
        </p:grpSpPr>
        <p:cxnSp>
          <p:nvCxnSpPr>
            <p:cNvPr id="489" name="_s1028"/>
            <p:cNvCxnSpPr>
              <a:stCxn id="490" idx="0"/>
              <a:endCxn id="491" idx="2"/>
            </p:cNvCxnSpPr>
            <p:nvPr/>
          </p:nvCxnSpPr>
          <p:spPr>
            <a:xfrm flipV="1" rot="16200000">
              <a:off x="5175720" y="1346400"/>
              <a:ext cx="1115640" cy="2880720"/>
            </a:xfrm>
            <a:prstGeom prst="bentConnector3">
              <a:avLst>
                <a:gd name="adj1" fmla="val 102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2" name="_s1029"/>
            <p:cNvCxnSpPr>
              <a:stCxn id="493" idx="0"/>
              <a:endCxn id="491" idx="2"/>
            </p:cNvCxnSpPr>
            <p:nvPr/>
          </p:nvCxnSpPr>
          <p:spPr>
            <a:xfrm flipV="1">
              <a:off x="4293360" y="2229120"/>
              <a:ext cx="3240" cy="111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4" name="_s1030"/>
            <p:cNvCxnSpPr>
              <a:stCxn id="495" idx="0"/>
              <a:endCxn id="491" idx="2"/>
            </p:cNvCxnSpPr>
            <p:nvPr/>
          </p:nvCxnSpPr>
          <p:spPr>
            <a:xfrm flipH="1" flipV="1" rot="5400000">
              <a:off x="2295720" y="1346760"/>
              <a:ext cx="1115640" cy="2880720"/>
            </a:xfrm>
            <a:prstGeom prst="bentConnector3">
              <a:avLst>
                <a:gd name="adj1" fmla="val 102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91" name="_s1031"/>
            <p:cNvSpPr/>
            <p:nvPr/>
          </p:nvSpPr>
          <p:spPr>
            <a:xfrm>
              <a:off x="3059280" y="0"/>
              <a:ext cx="2468520" cy="22298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Части реч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1032"/>
            <p:cNvSpPr/>
            <p:nvPr/>
          </p:nvSpPr>
          <p:spPr>
            <a:xfrm>
              <a:off x="179280" y="3345120"/>
              <a:ext cx="2468520" cy="22298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уществите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_s1033"/>
            <p:cNvSpPr/>
            <p:nvPr/>
          </p:nvSpPr>
          <p:spPr>
            <a:xfrm>
              <a:off x="3059280" y="3345120"/>
              <a:ext cx="2468520" cy="22298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илагате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_s1034"/>
            <p:cNvSpPr/>
            <p:nvPr/>
          </p:nvSpPr>
          <p:spPr>
            <a:xfrm>
              <a:off x="5939640" y="3345120"/>
              <a:ext cx="2468520" cy="22298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глаго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Рисунок 13" descr="proshanie-41.gif"/>
            <p:cNvPicPr/>
            <p:nvPr/>
          </p:nvPicPr>
          <p:blipFill>
            <a:blip r:embed="rId1"/>
            <a:stretch/>
          </p:blipFill>
          <p:spPr>
            <a:xfrm>
              <a:off x="6588360" y="263160"/>
              <a:ext cx="1800000" cy="138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Стрелка вниз 5"/>
          <p:cNvSpPr/>
          <p:nvPr/>
        </p:nvSpPr>
        <p:spPr>
          <a:xfrm>
            <a:off x="4067280" y="2205000"/>
            <a:ext cx="485640" cy="1193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трелка вниз 6"/>
          <p:cNvSpPr/>
          <p:nvPr/>
        </p:nvSpPr>
        <p:spPr>
          <a:xfrm>
            <a:off x="1187280" y="1916280"/>
            <a:ext cx="484200" cy="136836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трелка вниз 7"/>
          <p:cNvSpPr/>
          <p:nvPr/>
        </p:nvSpPr>
        <p:spPr>
          <a:xfrm>
            <a:off x="6948360" y="1989000"/>
            <a:ext cx="484200" cy="13384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трелка влево 8"/>
          <p:cNvSpPr/>
          <p:nvPr/>
        </p:nvSpPr>
        <p:spPr>
          <a:xfrm>
            <a:off x="900000" y="1413000"/>
            <a:ext cx="205740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право 9"/>
          <p:cNvSpPr/>
          <p:nvPr/>
        </p:nvSpPr>
        <p:spPr>
          <a:xfrm>
            <a:off x="5651640" y="1484280"/>
            <a:ext cx="2160360" cy="485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9640" y="189000"/>
            <a:ext cx="216000" cy="6408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55640" y="1140480"/>
            <a:ext cx="6193080" cy="16243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5644e"/>
                </a:solidFill>
                <a:latin typeface="Franklin Gothic Book"/>
              </a:rPr>
              <a:t>ИМЕНА</a:t>
            </a:r>
            <a:endParaRPr b="0" lang="en-US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5644e"/>
                </a:solidFill>
                <a:latin typeface="Franklin Gothic Book"/>
              </a:rPr>
              <a:t>СУЩЕСТВИТЕЛЬНЫЕ</a:t>
            </a:r>
            <a:endParaRPr b="0" lang="en-US" sz="4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04" name="Group 4"/>
          <p:cNvGrpSpPr/>
          <p:nvPr/>
        </p:nvGrpSpPr>
        <p:grpSpPr>
          <a:xfrm>
            <a:off x="971640" y="4437000"/>
            <a:ext cx="2195280" cy="1944720"/>
            <a:chOff x="971640" y="4437000"/>
            <a:chExt cx="2195280" cy="1944720"/>
          </a:xfrm>
        </p:grpSpPr>
        <p:grpSp>
          <p:nvGrpSpPr>
            <p:cNvPr id="505" name="Group 5"/>
            <p:cNvGrpSpPr/>
            <p:nvPr/>
          </p:nvGrpSpPr>
          <p:grpSpPr>
            <a:xfrm>
              <a:off x="1260360" y="4726080"/>
              <a:ext cx="1511280" cy="1655640"/>
              <a:chOff x="1260360" y="4726080"/>
              <a:chExt cx="1511280" cy="1655640"/>
            </a:xfrm>
          </p:grpSpPr>
          <p:sp>
            <p:nvSpPr>
              <p:cNvPr id="506" name="Oval 6"/>
              <p:cNvSpPr/>
              <p:nvPr/>
            </p:nvSpPr>
            <p:spPr>
              <a:xfrm>
                <a:off x="1260360" y="6093000"/>
                <a:ext cx="503280" cy="28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" name="Group 7"/>
              <p:cNvGrpSpPr/>
              <p:nvPr/>
            </p:nvGrpSpPr>
            <p:grpSpPr>
              <a:xfrm>
                <a:off x="1476360" y="4726080"/>
                <a:ext cx="1295280" cy="1655640"/>
                <a:chOff x="1476360" y="4726080"/>
                <a:chExt cx="1295280" cy="1655640"/>
              </a:xfrm>
            </p:grpSpPr>
            <p:sp>
              <p:nvSpPr>
                <p:cNvPr id="508" name="Oval 8"/>
                <p:cNvSpPr/>
                <p:nvPr/>
              </p:nvSpPr>
              <p:spPr>
                <a:xfrm>
                  <a:off x="1476360" y="4726080"/>
                  <a:ext cx="1223640" cy="120168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9"/>
                <p:cNvSpPr/>
                <p:nvPr/>
              </p:nvSpPr>
              <p:spPr>
                <a:xfrm flipH="1">
                  <a:off x="1692000" y="5877000"/>
                  <a:ext cx="21600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0"/>
                <p:cNvSpPr/>
                <p:nvPr/>
              </p:nvSpPr>
              <p:spPr>
                <a:xfrm>
                  <a:off x="2195280" y="5877000"/>
                  <a:ext cx="21600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Oval 11"/>
                <p:cNvSpPr/>
                <p:nvPr/>
              </p:nvSpPr>
              <p:spPr>
                <a:xfrm>
                  <a:off x="2268360" y="6093000"/>
                  <a:ext cx="503280" cy="288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12"/>
                <p:cNvSpPr/>
                <p:nvPr/>
              </p:nvSpPr>
              <p:spPr>
                <a:xfrm rot="16200000">
                  <a:off x="1941840" y="5410440"/>
                  <a:ext cx="289080" cy="50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050" y="2243"/>
                        <a:pt x="12500" y="5080"/>
                        <a:pt x="12500" y="10800"/>
                      </a:cubicBezTo>
                      <a:cubicBezTo>
                        <a:pt x="12500" y="16520"/>
                        <a:pt x="17050" y="1935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Oval 13"/>
                <p:cNvSpPr/>
                <p:nvPr/>
              </p:nvSpPr>
              <p:spPr>
                <a:xfrm>
                  <a:off x="1763640" y="5157720"/>
                  <a:ext cx="7308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4"/>
                <p:cNvSpPr/>
                <p:nvPr/>
              </p:nvSpPr>
              <p:spPr>
                <a:xfrm>
                  <a:off x="2268360" y="5157720"/>
                  <a:ext cx="7308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5" name="AutoShape 15"/>
            <p:cNvSpPr/>
            <p:nvPr/>
          </p:nvSpPr>
          <p:spPr>
            <a:xfrm>
              <a:off x="971640" y="4437000"/>
              <a:ext cx="2195280" cy="538200"/>
            </a:xfrm>
            <a:custGeom>
              <a:avLst/>
              <a:gdLst>
                <a:gd name="textAreaLeft" fmla="*/ 548640 w 2195280"/>
                <a:gd name="textAreaRight" fmla="*/ 1646640 w 2195280"/>
                <a:gd name="textAreaTop" fmla="*/ 0 h 538200"/>
                <a:gd name="textAreaBottom" fmla="*/ 47124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6"/>
          <p:cNvGrpSpPr/>
          <p:nvPr/>
        </p:nvGrpSpPr>
        <p:grpSpPr>
          <a:xfrm>
            <a:off x="3419640" y="4437000"/>
            <a:ext cx="2195280" cy="1942920"/>
            <a:chOff x="3419640" y="4437000"/>
            <a:chExt cx="2195280" cy="1942920"/>
          </a:xfrm>
        </p:grpSpPr>
        <p:grpSp>
          <p:nvGrpSpPr>
            <p:cNvPr id="517" name="Group 17"/>
            <p:cNvGrpSpPr/>
            <p:nvPr/>
          </p:nvGrpSpPr>
          <p:grpSpPr>
            <a:xfrm>
              <a:off x="3706560" y="4724280"/>
              <a:ext cx="1510200" cy="1655640"/>
              <a:chOff x="3706560" y="4724280"/>
              <a:chExt cx="1510200" cy="1655640"/>
            </a:xfrm>
          </p:grpSpPr>
          <p:sp>
            <p:nvSpPr>
              <p:cNvPr id="518" name="Oval 18"/>
              <p:cNvSpPr/>
              <p:nvPr/>
            </p:nvSpPr>
            <p:spPr>
              <a:xfrm>
                <a:off x="3706560" y="6091200"/>
                <a:ext cx="502920" cy="2887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Group 19"/>
              <p:cNvGrpSpPr/>
              <p:nvPr/>
            </p:nvGrpSpPr>
            <p:grpSpPr>
              <a:xfrm>
                <a:off x="3922200" y="4724280"/>
                <a:ext cx="1294560" cy="1655640"/>
                <a:chOff x="3922200" y="4724280"/>
                <a:chExt cx="1294560" cy="1655640"/>
              </a:xfrm>
            </p:grpSpPr>
            <p:sp>
              <p:nvSpPr>
                <p:cNvPr id="520" name="Oval 20"/>
                <p:cNvSpPr/>
                <p:nvPr/>
              </p:nvSpPr>
              <p:spPr>
                <a:xfrm>
                  <a:off x="3922200" y="4724280"/>
                  <a:ext cx="1223280" cy="1201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1"/>
                <p:cNvSpPr/>
                <p:nvPr/>
              </p:nvSpPr>
              <p:spPr>
                <a:xfrm flipH="1">
                  <a:off x="4137120" y="5875200"/>
                  <a:ext cx="21564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22"/>
                <p:cNvSpPr/>
                <p:nvPr/>
              </p:nvSpPr>
              <p:spPr>
                <a:xfrm>
                  <a:off x="4640760" y="5875200"/>
                  <a:ext cx="21564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Oval 23"/>
                <p:cNvSpPr/>
                <p:nvPr/>
              </p:nvSpPr>
              <p:spPr>
                <a:xfrm>
                  <a:off x="4713840" y="6091200"/>
                  <a:ext cx="502920" cy="2887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AutoShape 24"/>
                <p:cNvSpPr/>
                <p:nvPr/>
              </p:nvSpPr>
              <p:spPr>
                <a:xfrm rot="16200000">
                  <a:off x="4387320" y="5409000"/>
                  <a:ext cx="289080" cy="50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050" y="2243"/>
                        <a:pt x="12500" y="5080"/>
                        <a:pt x="12500" y="10800"/>
                      </a:cubicBezTo>
                      <a:cubicBezTo>
                        <a:pt x="12500" y="16520"/>
                        <a:pt x="17050" y="1935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Oval 25"/>
                <p:cNvSpPr/>
                <p:nvPr/>
              </p:nvSpPr>
              <p:spPr>
                <a:xfrm>
                  <a:off x="4209120" y="5155920"/>
                  <a:ext cx="7272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Oval 26"/>
                <p:cNvSpPr/>
                <p:nvPr/>
              </p:nvSpPr>
              <p:spPr>
                <a:xfrm>
                  <a:off x="4713840" y="5155920"/>
                  <a:ext cx="7272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AutoShape 27"/>
            <p:cNvSpPr/>
            <p:nvPr/>
          </p:nvSpPr>
          <p:spPr>
            <a:xfrm>
              <a:off x="3419640" y="4437000"/>
              <a:ext cx="2195280" cy="538200"/>
            </a:xfrm>
            <a:custGeom>
              <a:avLst/>
              <a:gdLst>
                <a:gd name="textAreaLeft" fmla="*/ 548640 w 2195280"/>
                <a:gd name="textAreaRight" fmla="*/ 1646640 w 2195280"/>
                <a:gd name="textAreaTop" fmla="*/ 0 h 538200"/>
                <a:gd name="textAreaBottom" fmla="*/ 47124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О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8"/>
          <p:cNvGrpSpPr/>
          <p:nvPr/>
        </p:nvGrpSpPr>
        <p:grpSpPr>
          <a:xfrm>
            <a:off x="5867280" y="4437000"/>
            <a:ext cx="2195640" cy="1944360"/>
            <a:chOff x="5867280" y="4437000"/>
            <a:chExt cx="2195640" cy="1944360"/>
          </a:xfrm>
        </p:grpSpPr>
        <p:grpSp>
          <p:nvGrpSpPr>
            <p:cNvPr id="529" name="Group 29"/>
            <p:cNvGrpSpPr/>
            <p:nvPr/>
          </p:nvGrpSpPr>
          <p:grpSpPr>
            <a:xfrm>
              <a:off x="6156360" y="4725720"/>
              <a:ext cx="1511280" cy="1655640"/>
              <a:chOff x="6156360" y="4725720"/>
              <a:chExt cx="1511280" cy="1655640"/>
            </a:xfrm>
          </p:grpSpPr>
          <p:sp>
            <p:nvSpPr>
              <p:cNvPr id="530" name="Oval 30"/>
              <p:cNvSpPr/>
              <p:nvPr/>
            </p:nvSpPr>
            <p:spPr>
              <a:xfrm>
                <a:off x="6156360" y="6092640"/>
                <a:ext cx="503280" cy="2887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1" name="Group 31"/>
              <p:cNvGrpSpPr/>
              <p:nvPr/>
            </p:nvGrpSpPr>
            <p:grpSpPr>
              <a:xfrm>
                <a:off x="6372360" y="4725720"/>
                <a:ext cx="1295280" cy="1655640"/>
                <a:chOff x="6372360" y="4725720"/>
                <a:chExt cx="1295280" cy="1655640"/>
              </a:xfrm>
            </p:grpSpPr>
            <p:sp>
              <p:nvSpPr>
                <p:cNvPr id="532" name="Oval 32"/>
                <p:cNvSpPr/>
                <p:nvPr/>
              </p:nvSpPr>
              <p:spPr>
                <a:xfrm>
                  <a:off x="6372360" y="4725720"/>
                  <a:ext cx="1223640" cy="12016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3"/>
                <p:cNvSpPr/>
                <p:nvPr/>
              </p:nvSpPr>
              <p:spPr>
                <a:xfrm flipH="1">
                  <a:off x="6588000" y="5876640"/>
                  <a:ext cx="21600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4"/>
                <p:cNvSpPr/>
                <p:nvPr/>
              </p:nvSpPr>
              <p:spPr>
                <a:xfrm>
                  <a:off x="7091280" y="5876640"/>
                  <a:ext cx="21600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35"/>
                <p:cNvSpPr/>
                <p:nvPr/>
              </p:nvSpPr>
              <p:spPr>
                <a:xfrm>
                  <a:off x="7164360" y="6092640"/>
                  <a:ext cx="503280" cy="288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36"/>
                <p:cNvSpPr/>
                <p:nvPr/>
              </p:nvSpPr>
              <p:spPr>
                <a:xfrm rot="16200000">
                  <a:off x="6837840" y="5410080"/>
                  <a:ext cx="289080" cy="50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050" y="2243"/>
                        <a:pt x="12500" y="5080"/>
                        <a:pt x="12500" y="10800"/>
                      </a:cubicBezTo>
                      <a:cubicBezTo>
                        <a:pt x="12500" y="16520"/>
                        <a:pt x="17050" y="1935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37"/>
                <p:cNvSpPr/>
                <p:nvPr/>
              </p:nvSpPr>
              <p:spPr>
                <a:xfrm>
                  <a:off x="6659640" y="5157360"/>
                  <a:ext cx="7308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Oval 38"/>
                <p:cNvSpPr/>
                <p:nvPr/>
              </p:nvSpPr>
              <p:spPr>
                <a:xfrm>
                  <a:off x="7164360" y="5157360"/>
                  <a:ext cx="7308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9" name="AutoShape 39"/>
            <p:cNvSpPr/>
            <p:nvPr/>
          </p:nvSpPr>
          <p:spPr>
            <a:xfrm>
              <a:off x="5867280" y="4437000"/>
              <a:ext cx="2195640" cy="538200"/>
            </a:xfrm>
            <a:custGeom>
              <a:avLst/>
              <a:gdLst>
                <a:gd name="textAreaLeft" fmla="*/ 548640 w 2195640"/>
                <a:gd name="textAreaRight" fmla="*/ 1647000 w 2195640"/>
                <a:gd name="textAreaTop" fmla="*/ 0 h 538200"/>
                <a:gd name="textAreaBottom" fmla="*/ 47124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img013"/>
          <p:cNvPicPr/>
          <p:nvPr/>
        </p:nvPicPr>
        <p:blipFill>
          <a:blip r:embed="rId1"/>
          <a:stretch/>
        </p:blipFill>
        <p:spPr>
          <a:xfrm>
            <a:off x="179280" y="260280"/>
            <a:ext cx="2376720" cy="2852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img014"/>
          <p:cNvPicPr/>
          <p:nvPr/>
        </p:nvPicPr>
        <p:blipFill>
          <a:blip r:embed="rId2"/>
          <a:stretch/>
        </p:blipFill>
        <p:spPr>
          <a:xfrm>
            <a:off x="2124000" y="189000"/>
            <a:ext cx="2386080" cy="2952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img015"/>
          <p:cNvPicPr/>
          <p:nvPr/>
        </p:nvPicPr>
        <p:blipFill>
          <a:blip r:embed="rId3"/>
          <a:stretch/>
        </p:blipFill>
        <p:spPr>
          <a:xfrm>
            <a:off x="4716360" y="333360"/>
            <a:ext cx="17668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250920" y="1599840"/>
            <a:ext cx="568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5" name="Picture 4" descr="img012"/>
          <p:cNvPicPr/>
          <p:nvPr/>
        </p:nvPicPr>
        <p:blipFill>
          <a:blip r:embed="rId2"/>
          <a:stretch/>
        </p:blipFill>
        <p:spPr>
          <a:xfrm>
            <a:off x="1285920" y="2505240"/>
            <a:ext cx="235728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3203640" y="4365720"/>
            <a:ext cx="2195280" cy="1942560"/>
            <a:chOff x="3203640" y="4365720"/>
            <a:chExt cx="2195280" cy="1942560"/>
          </a:xfrm>
        </p:grpSpPr>
        <p:grpSp>
          <p:nvGrpSpPr>
            <p:cNvPr id="547" name="Group 3"/>
            <p:cNvGrpSpPr/>
            <p:nvPr/>
          </p:nvGrpSpPr>
          <p:grpSpPr>
            <a:xfrm>
              <a:off x="3490560" y="4652640"/>
              <a:ext cx="1510200" cy="1655640"/>
              <a:chOff x="3490560" y="4652640"/>
              <a:chExt cx="1510200" cy="1655640"/>
            </a:xfrm>
          </p:grpSpPr>
          <p:sp>
            <p:nvSpPr>
              <p:cNvPr id="548" name="Oval 4"/>
              <p:cNvSpPr/>
              <p:nvPr/>
            </p:nvSpPr>
            <p:spPr>
              <a:xfrm>
                <a:off x="3490560" y="6019560"/>
                <a:ext cx="502920" cy="28872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Group 5"/>
              <p:cNvGrpSpPr/>
              <p:nvPr/>
            </p:nvGrpSpPr>
            <p:grpSpPr>
              <a:xfrm>
                <a:off x="3706200" y="4652640"/>
                <a:ext cx="1294560" cy="1655640"/>
                <a:chOff x="3706200" y="4652640"/>
                <a:chExt cx="1294560" cy="1655640"/>
              </a:xfrm>
            </p:grpSpPr>
            <p:sp>
              <p:nvSpPr>
                <p:cNvPr id="550" name="Oval 6"/>
                <p:cNvSpPr/>
                <p:nvPr/>
              </p:nvSpPr>
              <p:spPr>
                <a:xfrm>
                  <a:off x="3706200" y="4652640"/>
                  <a:ext cx="1223280" cy="120168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7"/>
                <p:cNvSpPr/>
                <p:nvPr/>
              </p:nvSpPr>
              <p:spPr>
                <a:xfrm flipH="1">
                  <a:off x="3921120" y="5803560"/>
                  <a:ext cx="21564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8"/>
                <p:cNvSpPr/>
                <p:nvPr/>
              </p:nvSpPr>
              <p:spPr>
                <a:xfrm>
                  <a:off x="4424760" y="5803560"/>
                  <a:ext cx="21564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9"/>
                <p:cNvSpPr/>
                <p:nvPr/>
              </p:nvSpPr>
              <p:spPr>
                <a:xfrm>
                  <a:off x="4497840" y="6019560"/>
                  <a:ext cx="502920" cy="28872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10"/>
                <p:cNvSpPr/>
                <p:nvPr/>
              </p:nvSpPr>
              <p:spPr>
                <a:xfrm rot="16200000">
                  <a:off x="4171320" y="5337360"/>
                  <a:ext cx="289080" cy="50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050" y="2243"/>
                        <a:pt x="12500" y="5080"/>
                        <a:pt x="12500" y="10800"/>
                      </a:cubicBezTo>
                      <a:cubicBezTo>
                        <a:pt x="12500" y="16520"/>
                        <a:pt x="17050" y="1935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11"/>
                <p:cNvSpPr/>
                <p:nvPr/>
              </p:nvSpPr>
              <p:spPr>
                <a:xfrm>
                  <a:off x="3993120" y="5084280"/>
                  <a:ext cx="7272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Oval 12"/>
                <p:cNvSpPr/>
                <p:nvPr/>
              </p:nvSpPr>
              <p:spPr>
                <a:xfrm>
                  <a:off x="4497840" y="5084280"/>
                  <a:ext cx="7272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AutoShape 13"/>
            <p:cNvSpPr/>
            <p:nvPr/>
          </p:nvSpPr>
          <p:spPr>
            <a:xfrm>
              <a:off x="3203640" y="4365720"/>
              <a:ext cx="2195280" cy="537840"/>
            </a:xfrm>
            <a:custGeom>
              <a:avLst/>
              <a:gdLst>
                <a:gd name="textAreaLeft" fmla="*/ 548640 w 2195280"/>
                <a:gd name="textAreaRight" fmla="*/ 1646640 w 2195280"/>
                <a:gd name="textAreaTop" fmla="*/ 0 h 537840"/>
                <a:gd name="textAreaBottom" fmla="*/ 470880 h 53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Ё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14"/>
          <p:cNvGrpSpPr/>
          <p:nvPr/>
        </p:nvGrpSpPr>
        <p:grpSpPr>
          <a:xfrm>
            <a:off x="900000" y="4365720"/>
            <a:ext cx="2195640" cy="1942560"/>
            <a:chOff x="900000" y="4365720"/>
            <a:chExt cx="2195640" cy="1942560"/>
          </a:xfrm>
        </p:grpSpPr>
        <p:grpSp>
          <p:nvGrpSpPr>
            <p:cNvPr id="559" name="Group 15"/>
            <p:cNvGrpSpPr/>
            <p:nvPr/>
          </p:nvGrpSpPr>
          <p:grpSpPr>
            <a:xfrm>
              <a:off x="1187280" y="4652640"/>
              <a:ext cx="1511280" cy="1655640"/>
              <a:chOff x="1187280" y="4652640"/>
              <a:chExt cx="1511280" cy="1655640"/>
            </a:xfrm>
          </p:grpSpPr>
          <p:sp>
            <p:nvSpPr>
              <p:cNvPr id="560" name="Oval 16"/>
              <p:cNvSpPr/>
              <p:nvPr/>
            </p:nvSpPr>
            <p:spPr>
              <a:xfrm>
                <a:off x="1187280" y="6019560"/>
                <a:ext cx="503280" cy="288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Group 17"/>
              <p:cNvGrpSpPr/>
              <p:nvPr/>
            </p:nvGrpSpPr>
            <p:grpSpPr>
              <a:xfrm>
                <a:off x="1403280" y="4652640"/>
                <a:ext cx="1295280" cy="1655640"/>
                <a:chOff x="1403280" y="4652640"/>
                <a:chExt cx="1295280" cy="1655640"/>
              </a:xfrm>
            </p:grpSpPr>
            <p:sp>
              <p:nvSpPr>
                <p:cNvPr id="562" name="Oval 18"/>
                <p:cNvSpPr/>
                <p:nvPr/>
              </p:nvSpPr>
              <p:spPr>
                <a:xfrm>
                  <a:off x="1403280" y="4652640"/>
                  <a:ext cx="1223640" cy="12016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9"/>
                <p:cNvSpPr/>
                <p:nvPr/>
              </p:nvSpPr>
              <p:spPr>
                <a:xfrm flipH="1">
                  <a:off x="1618920" y="5803560"/>
                  <a:ext cx="21600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0"/>
                <p:cNvSpPr/>
                <p:nvPr/>
              </p:nvSpPr>
              <p:spPr>
                <a:xfrm>
                  <a:off x="2122200" y="5803560"/>
                  <a:ext cx="21600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Oval 21"/>
                <p:cNvSpPr/>
                <p:nvPr/>
              </p:nvSpPr>
              <p:spPr>
                <a:xfrm>
                  <a:off x="2195280" y="6019560"/>
                  <a:ext cx="503280" cy="2887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AutoShape 22"/>
                <p:cNvSpPr/>
                <p:nvPr/>
              </p:nvSpPr>
              <p:spPr>
                <a:xfrm rot="16200000">
                  <a:off x="1868760" y="5337000"/>
                  <a:ext cx="289080" cy="50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050" y="2243"/>
                        <a:pt x="12500" y="5080"/>
                        <a:pt x="12500" y="10800"/>
                      </a:cubicBezTo>
                      <a:cubicBezTo>
                        <a:pt x="12500" y="16520"/>
                        <a:pt x="17050" y="1935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Oval 23"/>
                <p:cNvSpPr/>
                <p:nvPr/>
              </p:nvSpPr>
              <p:spPr>
                <a:xfrm>
                  <a:off x="1690560" y="5084280"/>
                  <a:ext cx="7308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Oval 24"/>
                <p:cNvSpPr/>
                <p:nvPr/>
              </p:nvSpPr>
              <p:spPr>
                <a:xfrm>
                  <a:off x="2195280" y="5084280"/>
                  <a:ext cx="7308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AutoShape 25"/>
            <p:cNvSpPr/>
            <p:nvPr/>
          </p:nvSpPr>
          <p:spPr>
            <a:xfrm>
              <a:off x="900000" y="4365720"/>
              <a:ext cx="2195640" cy="537840"/>
            </a:xfrm>
            <a:custGeom>
              <a:avLst/>
              <a:gdLst>
                <a:gd name="textAreaLeft" fmla="*/ 548640 w 2195640"/>
                <a:gd name="textAreaRight" fmla="*/ 1647000 w 2195640"/>
                <a:gd name="textAreaTop" fmla="*/ 0 h 537840"/>
                <a:gd name="textAreaBottom" fmla="*/ 470880 h 53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Д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AutoShape 26">
            <a:hlinkClick r:id="rId1"/>
          </p:cNvPr>
          <p:cNvSpPr/>
          <p:nvPr/>
        </p:nvSpPr>
        <p:spPr>
          <a:xfrm>
            <a:off x="611280" y="260280"/>
            <a:ext cx="5905440" cy="3240000"/>
          </a:xfrm>
          <a:custGeom>
            <a:avLst/>
            <a:gdLst>
              <a:gd name="textAreaLeft" fmla="*/ 0 w 5905440"/>
              <a:gd name="textAreaRight" fmla="*/ 5905800 w 5905440"/>
              <a:gd name="textAreaTop" fmla="*/ 419760 h 3240000"/>
              <a:gd name="textAreaBottom" fmla="*/ 282024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ГЛАГО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7"/>
          <p:cNvSpPr/>
          <p:nvPr/>
        </p:nvSpPr>
        <p:spPr>
          <a:xfrm>
            <a:off x="539640" y="189000"/>
            <a:ext cx="216000" cy="6408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28"/>
          <p:cNvGrpSpPr/>
          <p:nvPr/>
        </p:nvGrpSpPr>
        <p:grpSpPr>
          <a:xfrm>
            <a:off x="5651640" y="4365720"/>
            <a:ext cx="2195280" cy="1944720"/>
            <a:chOff x="5651640" y="4365720"/>
            <a:chExt cx="2195280" cy="1944720"/>
          </a:xfrm>
        </p:grpSpPr>
        <p:grpSp>
          <p:nvGrpSpPr>
            <p:cNvPr id="573" name="Group 29"/>
            <p:cNvGrpSpPr/>
            <p:nvPr/>
          </p:nvGrpSpPr>
          <p:grpSpPr>
            <a:xfrm>
              <a:off x="5940360" y="4654800"/>
              <a:ext cx="1510200" cy="1655640"/>
              <a:chOff x="5940360" y="4654800"/>
              <a:chExt cx="1510200" cy="1655640"/>
            </a:xfrm>
          </p:grpSpPr>
          <p:sp>
            <p:nvSpPr>
              <p:cNvPr id="574" name="Oval 30"/>
              <p:cNvSpPr/>
              <p:nvPr/>
            </p:nvSpPr>
            <p:spPr>
              <a:xfrm>
                <a:off x="5940360" y="6021720"/>
                <a:ext cx="502920" cy="288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5" name="Group 31"/>
              <p:cNvGrpSpPr/>
              <p:nvPr/>
            </p:nvGrpSpPr>
            <p:grpSpPr>
              <a:xfrm>
                <a:off x="6156000" y="4654800"/>
                <a:ext cx="1294560" cy="1655640"/>
                <a:chOff x="6156000" y="4654800"/>
                <a:chExt cx="1294560" cy="1655640"/>
              </a:xfrm>
            </p:grpSpPr>
            <p:sp>
              <p:nvSpPr>
                <p:cNvPr id="576" name="Oval 32"/>
                <p:cNvSpPr/>
                <p:nvPr/>
              </p:nvSpPr>
              <p:spPr>
                <a:xfrm>
                  <a:off x="6156000" y="4654800"/>
                  <a:ext cx="1223280" cy="120168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3"/>
                <p:cNvSpPr/>
                <p:nvPr/>
              </p:nvSpPr>
              <p:spPr>
                <a:xfrm flipH="1">
                  <a:off x="6370920" y="5805720"/>
                  <a:ext cx="21564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4"/>
                <p:cNvSpPr/>
                <p:nvPr/>
              </p:nvSpPr>
              <p:spPr>
                <a:xfrm>
                  <a:off x="6874560" y="5805720"/>
                  <a:ext cx="21564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Oval 35"/>
                <p:cNvSpPr/>
                <p:nvPr/>
              </p:nvSpPr>
              <p:spPr>
                <a:xfrm>
                  <a:off x="6947640" y="6021720"/>
                  <a:ext cx="502920" cy="288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36"/>
                <p:cNvSpPr/>
                <p:nvPr/>
              </p:nvSpPr>
              <p:spPr>
                <a:xfrm rot="16200000">
                  <a:off x="6621120" y="5339520"/>
                  <a:ext cx="289080" cy="50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7050" y="2243"/>
                        <a:pt x="12500" y="5080"/>
                        <a:pt x="12500" y="10800"/>
                      </a:cubicBezTo>
                      <a:cubicBezTo>
                        <a:pt x="12500" y="16520"/>
                        <a:pt x="17050" y="1935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Oval 37"/>
                <p:cNvSpPr/>
                <p:nvPr/>
              </p:nvSpPr>
              <p:spPr>
                <a:xfrm>
                  <a:off x="6442920" y="5086440"/>
                  <a:ext cx="7272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Oval 38"/>
                <p:cNvSpPr/>
                <p:nvPr/>
              </p:nvSpPr>
              <p:spPr>
                <a:xfrm>
                  <a:off x="6947640" y="5086440"/>
                  <a:ext cx="7272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3" name="AutoShape 39"/>
            <p:cNvSpPr/>
            <p:nvPr/>
          </p:nvSpPr>
          <p:spPr>
            <a:xfrm>
              <a:off x="5651640" y="4365720"/>
              <a:ext cx="2195280" cy="538200"/>
            </a:xfrm>
            <a:custGeom>
              <a:avLst/>
              <a:gdLst>
                <a:gd name="textAreaLeft" fmla="*/ 548640 w 2195280"/>
                <a:gd name="textAreaRight" fmla="*/ 1646640 w 2195280"/>
                <a:gd name="textAreaTop" fmla="*/ 0 h 538200"/>
                <a:gd name="textAreaBottom" fmla="*/ 47124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ЛЫВУ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21:02:07Z</dcterms:created>
  <dc:creator>User</dc:creator>
  <dc:description/>
  <dc:language>en-US</dc:language>
  <cp:lastModifiedBy>Master</cp:lastModifiedBy>
  <dcterms:modified xsi:type="dcterms:W3CDTF">2012-02-13T09:10:57Z</dcterms:modified>
  <cp:revision>8</cp:revision>
  <dc:subject/>
  <dc:title>Слайд 1</dc:title>
</cp:coreProperties>
</file>