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9B4-A268-4D29-A5BC-6C7B7674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E72-3539-4B5F-952C-AE26E06C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472-FB57-4B4E-9D5A-ABA2680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DE1-2EE5-41E8-844B-1F99ADC2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13E3-4788-4043-847A-192FC303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13D-59DF-4E54-91B7-19010998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B30-B70C-4C91-B6B3-5743011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2A0-865A-4E4B-A6A3-CC1EA72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DF6-D30A-456E-9EC1-211F8F0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D74-B633-44BC-A0A4-891582DF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2ECA-8D38-4BB7-91C0-816F5B6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375-3223-45C0-91B7-4EC2C24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9A4-67E2-4F06-B4F7-415ADAF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FD83-5C2C-4E77-B89D-D39340F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8310-5738-47FB-973D-06F8C63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3D9C-3580-48F0-ADD6-417DFA9E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651-CA8A-4813-90C1-64CF7008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DC4-CEA8-407E-A88D-D176CE35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25B-23CB-4012-9E9C-9D9596F3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7C0-1F6C-4987-93B1-46B2CB7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132-72D5-4DE4-AEAE-A68C73C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986-293E-432B-B84C-2669C3F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A1F-BD80-4FB0-9184-DA12921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028-57C5-470F-BDC5-08C1DC9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EE52-8115-441A-B340-22E6C2080E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92D-402D-44A6-A258-3BDD3A1639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хов Олег Владими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к  11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У  СОШ № 2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щёвск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ая Татьяна Александ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79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«Холокост: различные взгляды на проблему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ложение евреев во время войн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началом войны, нацисты захватили регионы с компактным еврейским населением— Польша, Прибалтика, Украина, Белорус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рупных городах (намного реже— в городах небольших) создавались еврейские гетто, куда сгонялось всё еврейское население города и окрестностей. Крупнейшее гетто было создано в Варшаве, в нем содержалось до 480 000 евреев. Оно было ликвидировано в мае 1943 года, после массовых депортаций в Треблинку летом 1942 года и двух восстаний в январе и апреле 194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6012000" y="1484280"/>
            <a:ext cx="2987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5051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42 году, в Ванзее, нацисты принимают программу «окончательного решения ''еврейского вопроса». Это решение не афишировалось, и мало кто мог поверить, что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е такое возможно. Евреев Германии, Франции, Голландии, Бельгии посылали на восток, в лагеря и гетто Польши и Белоруссии, рассказывая им о временности такого переселения. В Польше создавались т. н. «лагеря смерти», которые вообще не были рассчитаны на проживание большого количества людей — только на быстрое уничтожение новоприбывш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nazi-at-large-4"/>
          <p:cNvPicPr/>
          <p:nvPr/>
        </p:nvPicPr>
        <p:blipFill>
          <a:blip r:embed="rId1"/>
          <a:stretch/>
        </p:blipFill>
        <p:spPr>
          <a:xfrm>
            <a:off x="5435640" y="260280"/>
            <a:ext cx="3457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аше время тема Холокоста не утратила актуальности; социальная напряженность, межэтнические и межконфессиональные конфликты, всплески экстремизма и неофашизма — всё это вынуждает вспоминать о Катастрофе европейского еврейст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им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 войдет в историю? Назовут ли его веком генетики, физики и освоения космоса или же веком геноцида, человекофобии, преследований и убийств людей только за то, что они — другие? Другой расы, другой крови, другой веры, другой нации, другого социального класса... Не придется ли нам вновь и вновь платить своими судьбами и судьбами своих близких за «национальные» идеи сверхчеловека, сверхкласса, сверхнации, вырастающие в идеологии тоталитарных империй, идеологии, ведущие к расчеловечиванию человечества?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651640" y="188640"/>
            <a:ext cx="324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Холокос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тическое преследование и истребление нацистами и их пособниками людей из-за их расовой, этнической, национальной принадлежности как неполноценных, вредных в рамках нацистской расовой теории. (1933-1945г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tumblr_l9b2bwvyBz1qd6gst"/>
          <p:cNvPicPr/>
          <p:nvPr/>
        </p:nvPicPr>
        <p:blipFill>
          <a:blip r:embed="rId1"/>
          <a:stretch/>
        </p:blipFill>
        <p:spPr>
          <a:xfrm>
            <a:off x="357120" y="714240"/>
            <a:ext cx="5113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5148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кост — не только физическое уничтожение людей, по сути дела, это был самый крупный и изощренный грабеж во всей мировой исто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цисты до нитки грабили и тех, кого депортировали в концентрационные лагер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грабили даже трупы своих жертв. Женские волосы, срезанные до или после газовых камер, шли на изготовление теплых носков и одеял для экипажей подводных лодок. Вырванные золотые зубы переплавляли. Золу от сожженных тел применяли в качестве сельскохозяйственного удоб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holocausto%20jud%EDo"/>
          <p:cNvPicPr/>
          <p:nvPr/>
        </p:nvPicPr>
        <p:blipFill>
          <a:blip r:embed="rId1"/>
          <a:stretch/>
        </p:blipFill>
        <p:spPr>
          <a:xfrm>
            <a:off x="4929120" y="928800"/>
            <a:ext cx="40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9218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Stencil"/>
              </a:rPr>
              <a:t>Отличительные черты </a:t>
            </a:r>
            <a:r>
              <a:rPr b="1" i="1" lang="ru-RU" sz="6000" spc="-1" strike="noStrike" u="sng" baseline="-25000">
                <a:solidFill>
                  <a:srgbClr val="ffff00"/>
                </a:solidFill>
                <a:uFillTx/>
                <a:latin typeface="Rockwell Extra Bold"/>
              </a:rPr>
              <a:t>Холокоста</a:t>
            </a:r>
            <a:r>
              <a:rPr b="1" i="1" lang="ru-RU" sz="4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Picture 5" descr="holocost1"/>
          <p:cNvPicPr/>
          <p:nvPr/>
        </p:nvPicPr>
        <p:blipFill>
          <a:blip r:embed="rId1"/>
          <a:stretch/>
        </p:blipFill>
        <p:spPr>
          <a:xfrm>
            <a:off x="1116000" y="2421000"/>
            <a:ext cx="7056360" cy="41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0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Преднамеренная попытка полного истребления целой нации, приведшая к уничтожению 60 % евреев Европы и примерно 35 % еврейского населения мира, а также от четверти до трети цыганского народа, около 10% поляков, в основном интеллигенции, и полному уничтожению всех «чернокожих» немцев и душевнобольных, около 3-х миллионов советских военнопленных и т. 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holocaust-memorial-san-francisco-2-2"/>
          <p:cNvPicPr/>
          <p:nvPr/>
        </p:nvPicPr>
        <p:blipFill>
          <a:blip r:embed="rId1"/>
          <a:stretch/>
        </p:blipFill>
        <p:spPr>
          <a:xfrm rot="183600">
            <a:off x="5579640" y="115560"/>
            <a:ext cx="3373560" cy="277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German-Soldier-Jajinci"/>
          <p:cNvPicPr/>
          <p:nvPr/>
        </p:nvPicPr>
        <p:blipFill>
          <a:blip r:embed="rId2"/>
          <a:stretch/>
        </p:blipFill>
        <p:spPr>
          <a:xfrm rot="300000">
            <a:off x="5303880" y="3933360"/>
            <a:ext cx="3363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635280" y="115560"/>
            <a:ext cx="5329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, предназначенная для массового уничтожения людей: были найдены многочисленные списки потенциальных жертв и свидетельства об убийствах. Во время Второй мировой войны на оккупированных Германией территориях были построены лагеря смерти, предназначенные для убийства миллионов людей; при этом технология уничтожения совершенствова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b0e3b4a91c71"/>
          <p:cNvPicPr/>
          <p:nvPr/>
        </p:nvPicPr>
        <p:blipFill>
          <a:blip r:embed="rId1"/>
          <a:stretch/>
        </p:blipFill>
        <p:spPr>
          <a:xfrm rot="598800">
            <a:off x="395280" y="323640"/>
            <a:ext cx="319104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диозные, межнациональные масштабы истребления: на всей оккупированной Германией территории Европы жертвы преследовались и отсылались в концентрационные лагеря и лагеря уничтожения. Более того, из найденных документов следует, что нацисты планировали истребить еврейство США, Великобритании и Палестины после завоевания этих регионов, а также гомосексуалистов и другие вредные и расово неполноценные и ущербные группы. Истребление продолжалось вплоть до вторжения на территорию Германии и её последующей капитуляции в мае 194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 не менее, полного поимённого списка жертв не существует. К концу войны нацисты уничтожали даже следы от лагерей смерти; сохранились свидетельства о вывозе либо уничтожении уже захороненных останков людей перед приходом советских войск. В музее Холокоста Яд ва-Шем в Иерусалиме хранятся персональные документы о примерно 3 миллионах жертв. Неполнота данных объясняется тем, что зачастую еврейские общины уничтожались целиком , и не оставалось родных, близких, друзей, которые могли вы сообщить имена погибших. Война разбросала людей, и выжившие отказывались сообщать о своих родных как об умерших, надеясь на встречу с ни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640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оценкам «Энциклопедии Холокоста»  погибло до 3 миллионов польских евреев, 1.2 миллиона советских евреев, из них 70 тысяч евреев Латвии; 560 тысяч евреев Венгрии, 280 тысяч — Румынии, 140 тысяч — Германии, 100 тысяч — Голландии, 80 тысяч евреев Франции, 80 тысяч — Чехии, 70 тысяч— Словакии, 65 тысяч— Греции, 60 тысяч— Югославии. В Белоруссии было уничтожено более 800 тысяч евре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mass_grave1"/>
          <p:cNvPicPr/>
          <p:nvPr/>
        </p:nvPicPr>
        <p:blipFill>
          <a:blip r:embed="rId1"/>
          <a:stretch/>
        </p:blipFill>
        <p:spPr>
          <a:xfrm rot="325200">
            <a:off x="6305040" y="2638440"/>
            <a:ext cx="2657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26:03Z</dcterms:created>
  <dc:creator>Оля</dc:creator>
  <dc:description/>
  <dc:language>en-US</dc:language>
  <cp:lastModifiedBy>Admin</cp:lastModifiedBy>
  <dcterms:modified xsi:type="dcterms:W3CDTF">2012-02-09T14:03:05Z</dcterms:modified>
  <cp:revision>4</cp:revision>
  <dc:subject/>
  <dc:title>Слайд 1</dc:title>
</cp:coreProperties>
</file>