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2.jpeg" ContentType="image/jpeg"/>
  <Override PartName="/ppt/media/image19.wmf" ContentType="image/x-wmf"/>
  <Override PartName="/ppt/media/image18.jpeg" ContentType="image/jpeg"/>
  <Override PartName="/ppt/media/image17.jpeg" ContentType="image/jpeg"/>
  <Override PartName="/ppt/media/image15.jpeg" ContentType="image/jpeg"/>
  <Override PartName="/ppt/media/image14.jpeg" ContentType="image/jpeg"/>
  <Override PartName="/ppt/media/image16.wmf" ContentType="image/x-wmf"/>
  <Override PartName="/ppt/media/image10.wmf" ContentType="image/x-wmf"/>
  <Override PartName="/ppt/media/image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7C6E1-C776-42C6-9D41-464BD25F7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11230-9187-4AC2-AEF4-27ED4D5D2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FF4EB-7934-41AB-8C34-AB514A2D4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776BD-E2B4-4EDB-AFC2-E49CACD60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19BE6-11BD-4366-A112-B5779F5ED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14DE8-2B39-46D2-B2EA-B31C07103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1A41C-5A46-4ECC-B24A-9230E0D2D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ACAAB-3593-4942-B467-A943DDFDA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4EA09-33C8-4745-9707-B98999069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5E29E-B7B4-4365-B805-736E00E3B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9E8AD-57DF-4A5A-866D-1CD7528E0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56115-7921-4751-A162-00D3C2E43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0E0A6-2DC1-4175-ADB1-84CA78AB3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F76F8-8DC5-41D6-A125-ABA013172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3444C-206E-46DE-8376-2E466AC36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48A59-FB06-483E-A74E-6F400E2C1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41D12-496D-49BF-9EA3-0D5F0EE08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669BD-9B41-4802-A5BE-E64151D02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80C0E-6869-4962-A167-E7B51508A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3E013-F7E9-4A0E-B91C-36612C677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6DD67-0364-4D9C-9A65-144346B25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FD342-5285-42A3-BE66-7198DC6ED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FFBA0-4E50-47FC-806C-F05CCEA77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19D38-0BF7-48B9-B911-53B2B177C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A0687-72C6-454A-8372-32F68693E72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07A73-1138-4A0E-93EE-C0A11D4903B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wikipedia.ru/" TargetMode="External"/><Relationship Id="rId2" Type="http://schemas.openxmlformats.org/officeDocument/2006/relationships/hyperlink" Target="http://www.5ballov.ru/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11280" y="1143000"/>
            <a:ext cx="80755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33"/>
                </a:solidFill>
                <a:latin typeface="Times New Roman"/>
              </a:rPr>
              <a:t>Проект по физике</a:t>
            </a:r>
            <a:br>
              <a:rPr sz="4400"/>
            </a:br>
            <a:r>
              <a:rPr b="0" lang="en-US" sz="4400" spc="-1" strike="noStrike">
                <a:solidFill>
                  <a:srgbClr val="330033"/>
                </a:solidFill>
                <a:latin typeface="Times New Roman"/>
              </a:rPr>
              <a:t>На тему: Электроэнергетика и наш «Лицей № 2»</a:t>
            </a: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763280" y="3962160"/>
            <a:ext cx="64659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Работу выполнили ученики: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«Л» клас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МОУ «Лицей№2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г.Михайловска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Ставропольского кр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Сиротенко Евг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Гараба Владими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Кудрявцев Станисла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Руководитель - учитель физик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Свердлова Любовь  Георгиевна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Гидроаккумулирующие электростанции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идроаккумулирующие электростанции (ГАЭС) оборудуются агрегатами (гидравлическими и электрическими машинами), которые по своей конструкции способны работать как в турбинном, так и в насосном режим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Газотурбинные установки.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52419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ГТУ широко применяются на малых электростанциях, принадлежащих муниципалитетам или промышленным предприятия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763640" y="2924280"/>
            <a:ext cx="4896000" cy="29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Электростанции с ДВС.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865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На электростанциях, принадлежащих муниципалитетам и промышленным предприятиям, для привода электрогенераторов часто применяются дизельные и бензиновые двигатели внутреннего сгорания. Мощность самых больших дизелей составляет около 5 МВ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500720" y="2276640"/>
            <a:ext cx="3887640" cy="35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Атомные электростанции.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865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На АЭС электроэнергия вырабатывается так же, как и на обычных ТЭС, сжигающих ископаемое топливо, – посредством электромашинных генераторов, приводимых во вращение паровыми турбинам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851280" y="2133720"/>
            <a:ext cx="475632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0033"/>
                </a:solidFill>
                <a:latin typeface="Times New Roman"/>
              </a:rPr>
              <a:t>Солнечные, ветровые, геотермальные электростанции</a:t>
            </a: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 .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374508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олнечная энергия преобразуется непосредственно в электроэнергию полупроводниковыми фотоэлектрическими генераторами тока самая крупная из них, мощностью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 МВт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924360" y="1557360"/>
            <a:ext cx="4762440" cy="317196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042920" y="3933720"/>
            <a:ext cx="2808360" cy="22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Конденсационные электростанции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042560" y="1628640"/>
            <a:ext cx="738036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На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конденсационных электростанциях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тепло, полученное при сжигании топлива, передается в парогенераторе водяному пару, который поступает в конденсационную турбину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332000" y="2852640"/>
            <a:ext cx="597672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Теплоэлектроцентрали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547236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В отличие от КЭС на теплоэлектроцентралях перегретый пар не полностью используется в турбинах, а частично отбирается для нужд теплофикаци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2627280" y="2781360"/>
            <a:ext cx="4753080" cy="35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Стоимость электростанций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Лицею №2» устраивают два типа электростанций: дизельные или гелиоэлектростанции.  Так как гелиоэлектростанции слишком дорогие то они не устраивают «Лицей № 2», следовательно по цене устраивает дизельная электростан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908000" y="3357720"/>
            <a:ext cx="4969080" cy="29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Дизельные электростанции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66103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тоимость одной дизельной электростанции вырабатывающей 1 МВт 76000 рубле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1187280" y="2421000"/>
          <a:ext cx="6769080" cy="3305880"/>
        </p:xfrm>
        <a:graphic>
          <a:graphicData uri="http://schemas.openxmlformats.org/drawingml/2006/table">
            <a:tbl>
              <a:tblPr/>
              <a:tblGrid>
                <a:gridCol w="1822320"/>
                <a:gridCol w="2213280"/>
                <a:gridCol w="2733480"/>
              </a:tblGrid>
              <a:tr h="15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оимость бензина, руб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ход бензина -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тров в ден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щая стоимость, руб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20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Стоимость электроэнергии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971640" y="1773360"/>
          <a:ext cx="7488000" cy="2827080"/>
        </p:xfrm>
        <a:graphic>
          <a:graphicData uri="http://schemas.openxmlformats.org/drawingml/2006/table">
            <a:tbl>
              <a:tblPr/>
              <a:tblGrid>
                <a:gridCol w="1976400"/>
                <a:gridCol w="2544840"/>
                <a:gridCol w="2966760"/>
              </a:tblGrid>
              <a:tr h="1922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оимость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кВ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б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яя потребляемая энергия в день «Лицеем № 2»,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Вт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щая стоимость,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б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8" name=""/>
          <p:cNvSpPr/>
          <p:nvPr/>
        </p:nvSpPr>
        <p:spPr>
          <a:xfrm>
            <a:off x="0" y="3862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Цель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ыяснить, нужна ли автономная электростанция «Лицею № 2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сновополагающий вопрос: выгодно ли использование автономной электростанции  «Лицею № 2»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Вывод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00000" y="169992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042920" y="2275200"/>
            <a:ext cx="73454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делав данную работу и сделав вычисления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ы выяснили,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что «Лицею №2» не нужна стационарна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изельная электростанция, потому что затрат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 её эксплуатацию слишком велик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этому дизельную электростанцию мож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обрести, но включать её следует только при кратковременном  отсутствии электриче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Используемая литература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0033"/>
                </a:solidFill>
                <a:uFillTx/>
                <a:latin typeface="Arial"/>
                <a:hlinkClick r:id="rId1"/>
              </a:rPr>
              <a:t>www.wikipedia.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0033"/>
                </a:solidFill>
                <a:uFillTx/>
                <a:latin typeface="Arial"/>
                <a:hlinkClick r:id="rId2"/>
              </a:rPr>
              <a:t>www.5ballov.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ольшая Советская Энциклопедия Том 30, издание №3, 1978 го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облемные вопросы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колько энергии потребляет Лицей№2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акие виды электростанций существуют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колько они вырабатывают энерги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акая электростанция подходит «Лицею № 2»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Гипотеза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«Лицею № 2» нужна своя электростанц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адачи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оставить план рабо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айти ответы на поставленные вопрос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бработать информацию и сделать выво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формить в виде презента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Защитить проек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Сколько энергии потребляет «Лицей № 2».</a:t>
            </a:r>
            <a:br>
              <a:rPr sz="3800"/>
            </a:b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859280" y="1628640"/>
            <a:ext cx="2578320" cy="45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826920" y="1844640"/>
          <a:ext cx="7772400" cy="3816360"/>
        </p:xfrm>
        <a:graphic>
          <a:graphicData uri="http://schemas.openxmlformats.org/drawingml/2006/table">
            <a:tbl>
              <a:tblPr/>
              <a:tblGrid>
                <a:gridCol w="2162520"/>
                <a:gridCol w="1723680"/>
                <a:gridCol w="1936800"/>
                <a:gridCol w="1949400"/>
              </a:tblGrid>
              <a:tr h="640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, шт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щность, Вт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щая Мощность, Вт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8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ампа накалив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7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8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ампа неонов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8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пьютер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5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8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нтер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8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диционер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 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8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ектор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оловое оборудов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арочный шкаф: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чи: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" name=""/>
          <p:cNvSpPr/>
          <p:nvPr/>
        </p:nvSpPr>
        <p:spPr>
          <a:xfrm>
            <a:off x="900720" y="5733720"/>
            <a:ext cx="230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а день: 1.35МВ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а месяц: 40,5 МВ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а год: 364,5 МВ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левизор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екто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116000" y="2924280"/>
            <a:ext cx="3665520" cy="28573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148360" y="2924280"/>
            <a:ext cx="3240000" cy="29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84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0033"/>
                </a:solidFill>
                <a:latin typeface="Times New Roman"/>
                <a:ea typeface="Times New Roman"/>
              </a:rPr>
              <a:t>Жарочный шкаф</a:t>
            </a:r>
            <a:r>
              <a:rPr b="0" lang="en-US" sz="2500" spc="-1" strike="noStrike">
                <a:solidFill>
                  <a:srgbClr val="330033"/>
                </a:solidFill>
                <a:latin typeface="Times New Roman"/>
                <a:ea typeface="Times New Roman"/>
              </a:rPr>
              <a:t>	</a:t>
            </a:r>
            <a:r>
              <a:rPr b="0" lang="en-US" sz="2500" spc="-1" strike="noStrike">
                <a:solidFill>
                  <a:srgbClr val="330033"/>
                </a:solidFill>
                <a:latin typeface="Times New Roman"/>
                <a:ea typeface="Times New Roman"/>
              </a:rPr>
              <a:t>	</a:t>
            </a:r>
            <a:r>
              <a:rPr b="0" lang="en-US" sz="2500" spc="-1" strike="noStrike">
                <a:solidFill>
                  <a:srgbClr val="330033"/>
                </a:solidFill>
                <a:latin typeface="Times New Roman"/>
                <a:ea typeface="Times New Roman"/>
              </a:rPr>
              <a:t>	</a:t>
            </a:r>
            <a:r>
              <a:rPr b="0" lang="en-US" sz="2500" spc="-1" strike="noStrike">
                <a:solidFill>
                  <a:srgbClr val="330033"/>
                </a:solidFill>
                <a:latin typeface="Times New Roman"/>
                <a:ea typeface="Times New Roman"/>
              </a:rPr>
              <a:t>Печи</a:t>
            </a:r>
            <a:endParaRPr b="0" lang="en-US" sz="25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66819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Кондиционер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Лампа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накалива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611280" y="4076640"/>
            <a:ext cx="2808360" cy="21607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3780000" y="4221000"/>
            <a:ext cx="2663640" cy="22590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1187280" y="907920"/>
            <a:ext cx="2737080" cy="26416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4"/>
          <a:stretch/>
        </p:blipFill>
        <p:spPr>
          <a:xfrm>
            <a:off x="4788000" y="1125360"/>
            <a:ext cx="2232000" cy="24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Принтер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оутбу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Лампы неонов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539640" y="3716280"/>
            <a:ext cx="3097440" cy="26640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4932360" y="3573360"/>
            <a:ext cx="2881440" cy="264168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4140360" y="189000"/>
            <a:ext cx="3286080" cy="294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Электростанции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Электрическая станция, совокупность установок, оборудования и аппаратуры, используемых непосредственно для производства электрической энергии, а также необходимые для этого сооружения и здания, расположенные на определённой территории. В зависимости от источника энергии различают тепловые электростанции, гидроэлектрические станции, гидроаккумулирующие электростанции, Атомные электростанции, а также приливные электростанции, ветроэлектростанции, геотермические электростанции, электростанции с магнитогидродинамическим генератор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547640" y="4292640"/>
            <a:ext cx="2232360" cy="22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Гидроэлектростанции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41623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Около 23% электроэнергии во всем мире вырабатывают ГЭС. Её мощность равна 750 МВт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476360" y="2421000"/>
            <a:ext cx="6335640" cy="37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7T05:33:04Z</dcterms:created>
  <dc:creator>Лицей №2</dc:creator>
  <dc:description/>
  <dc:language>en-US</dc:language>
  <cp:lastModifiedBy>Любовь Георгиевна</cp:lastModifiedBy>
  <dcterms:modified xsi:type="dcterms:W3CDTF">2012-02-09T15:31:30Z</dcterms:modified>
  <cp:revision>13</cp:revision>
  <dc:subject/>
  <dc:title>Проект по физике На тему: «Нужна ли электростанция Лицею№2»</dc:title>
</cp:coreProperties>
</file>