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DB2-B7DC-4AD7-BA27-FFD6F113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447-5C42-451B-BA3D-4898D7C4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D84-3BBD-477F-8300-0977E3AB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FF3-55E2-4EB5-AC2B-248756C1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9F1-45FA-449B-8E34-28436B50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052-0B67-475F-BC6E-E1681208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B53-3B6C-4ECF-979E-374949E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D7D-8AEA-4D88-8F64-1E8FD007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E78-22B2-415A-91A5-D64074F8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4F4-7FDB-4707-B39A-A3F089F7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09D-1C5D-4FD5-B6E7-31E9F01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6DC-2321-42DA-A479-62E1AA1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847-C44D-4DDE-BC57-27B0304D9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Юный лес, в прозрачный  дым одет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лых грез нетерпеливо жд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весны дыханием согре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кругом и любит, и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А.К.Толст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Кругом вода журчит, сверк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к петухов звучит пор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етер, мягкий и сы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за тихонько закр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И. Бун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33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тайте предложени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те их, ориентируясь на количество слов с проверяемой безударной гласной в корне по принципу: от меньшего к бол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661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Он имел именно тот ум], (который нравится женщин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Я знаю край], (в котором всё обильем дыш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Мы свернули на дорогу], (которая вела к ре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Дети подошли к сосне], (которую трудно было не заметить среди 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Возьми книгу], (которая лежит на верхней пол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Лесок, (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м долженствовало происходить побоище), находился в четверти мили от Ганау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Картины, (которые можно будет наклеивать вместо обоев на стены), стопками положили на стол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Она мечтала о том], (какая у неё будет интересная жизнь после замужест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За всю мою жизнь я ни разу не встретила человека], (который сказал бы), (что не любит мо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В лесу, (который темнел вдалеке), росли только сосны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темы и цел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У ворот стояла кибитка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пряженная тройкой татарских лошаде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орот стояла кибитка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торая был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пряжена тройкой татарских лошаде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Шум моря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носившийся сни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оворил о по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Шум моря,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торый доносился  сни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оворил о по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Муму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 бывавшая в таких великолепных поко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очень испуг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Муму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торая не бывала в таких великолепных поко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очень испуг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Урок  по закреплению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лученных знаний  и способов деятельности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теме: «Обособленные опреде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ие  знаний по теме: «Обособление согласованных распространённых и нераспространённых определ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ие  правила замены придаточной части СПП причастным об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умений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ыделять интонационно обособленные члены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оводить синонимическую замену обособленных членов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правильно ставить знаки препинания при обособленных членах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правильно заменять придаточную часть сложноподчинённого предложения обособленным определением, выраженным причастным обор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 и оценка ЗУН по данной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ширение кругозора учащихся при выполнении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900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….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биже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о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ущ.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ак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тличному работни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тощенный усилиями и лишен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ущ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ущ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икогда прежде не бывавший на берегу океана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ь из двух простых предложений одно с обособленными определениями, рассказать о знаках препинания в этих предло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Нас привезли прямо к гостинице. Она стояла на перекрес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По пыльной дороге тянулись скрипучие телеги. Дорога вела к яблоневым с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[…сущ.], (который…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[…гл.], ( союз что…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[…указ. сл. туда], ( союз. слово куда…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Если местоимение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ется подлежащим, можно заменить действительным или страдательным причастием.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р птичьих голосов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 доносился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з лесу, поразил мой слух. - Хор птичьих голосов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осившихся из лесу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разил мой слух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ли местоимение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ется второстепенным членом предложения, можно заменить при условии, что перед словом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т предлога, а сказуемое в придаточной части выражено переходным глаголом.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на подарила мне черепок от вазы, которую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ла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саду. - (Она подарила мне черепок от вазы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енной в саду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ожно заменить, если сказуемое в придаточной части выражено глаголом в форме прошедшего времени.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отрудники, которые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работой раньше установленного срока, будут премированы. - Сотрудники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вшиеся с работой раньше установленного срока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удут премированы.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льзя заменить, если сказуемое в придаточной части выражено глаголом в форме будущего времени.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отрудники, которые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ятся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работой раньше установленного срока, будут премированы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ельзя заменить, если сказуемое в придаточной части выражено прилагательным или существительным.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альчики боялись дворника, который был очень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ит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ельзя заменить, когда придаточная часть представляет собой безличное предложение. (Вокруг нас есть люди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х нам следует оберега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ельзя заменить придаточную часть причастным оборотом, если перед союзным словом стоит предлог. (Дорога,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торой везли ранены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ыла очень ухабистой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Нельзя заменить придаточную часть причастным оборотом, если при сказуемом стоит частица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ичастие не употребляется с частицей – у него нет наклонения как у глагола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 не имеем права подать на экспертизу проект, которы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л б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жения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ельзя заменить придаточную часть причастным оборотом, если придаточная часть присоединяется с помощью указательного местоимения, содержащегося в главной части.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Егор Петрович был олицетворением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устых людей, которые рассуждают о политике и ценах на сахар)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жна Марья посмотрела на Ростова своим лучистым взглядом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торый заставлял забы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красивость её л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оха реакци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торая наступи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след за восстанием декабристов, породила людей, подобных Печо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ска Первой русской арм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торой находился государь, были расположены в укреплённом лагере у Дри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присутствующих Маргарита сразу узнала Азазелл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торый стоя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пинки кро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ю тебе найти книгу, котора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интересовала 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х наши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ожил жизнь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ыла насыщ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тересными встре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едь есть же на белом св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лёкие кра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так стремятся перелётные пти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ький запах полын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торый смешива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нежным ароматом цветов, был разлит в утреннем возду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 птичьих голосов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торый доноси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лесу, поразил мой 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у, котора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рудн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уд. время) тебя дома, можно будет решить в классе с учи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1:12:06Z</dcterms:created>
  <dc:creator>завуч</dc:creator>
  <dc:description/>
  <dc:language>en-US</dc:language>
  <cp:lastModifiedBy>завуч</cp:lastModifiedBy>
  <dcterms:modified xsi:type="dcterms:W3CDTF">2012-02-13T02:38:51Z</dcterms:modified>
  <cp:revision>5</cp:revision>
  <dc:subject/>
  <dc:title> Володина Нина Николаевна учитель русского языка и литературы бюджетное общеобразовательное  учреждение города Омска «Средняя общеобразовательная школа № 16»</dc:title>
</cp:coreProperties>
</file>