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3AC2-B6EB-4483-8D07-5BEFA20F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C814-47EB-4420-9BDD-46F8DE14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238D-EFA3-4F67-8A9F-FCEC2CA7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288D-6A31-4649-9A44-9BF981F33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5813D-ECE4-4FBE-AD6B-AA4BA4B6A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C5C65-FF73-481A-828D-EAA4DA31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93624-FC33-4D09-A9CA-A0E07364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87C44-A5C9-4B19-9498-EA96159D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0A225-3DFA-4010-A6A8-FC342DAC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89A3E-B021-40CD-843A-9F4956CB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F4859-F24F-474D-9D55-5D4C1B7F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DF82-399E-4A06-8587-783F7341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5577B-D136-4FA3-841C-13DD3AA6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94C62-BDDE-43B0-9244-09F9BA9B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D725B-149C-4E01-8F6A-15396D82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55643-4811-43AB-A2C0-A451458BA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FDAE5-63EC-419A-A77F-73C9AA72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1DE285-7045-411F-BF76-19337ABA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0732F0-BAF5-4A90-BEF2-65683D0B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545315-F8E9-41A1-B85E-90698E4F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50BC56-B5A6-4CE8-AD42-740D8E8F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EADBAD-F2F8-4079-8EB8-E5B0DDF9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8A9D-7EC5-421C-A8A4-5560103D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4CFBD8-41E5-4CC7-AA69-23A65134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D35219-615A-42D6-9A30-53090DE1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877811-8FCF-4290-B58B-792EE3FD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B6E4AF-53F6-4F8F-8AC3-03584771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87D02A-6964-4F8E-8849-26297F76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3CFBB-3B2F-4BAB-BFF7-A4B85DAD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D04D76-6D03-4731-B557-AD86B251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61BA6-129F-4FF3-A868-8E4D16CD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5D7FA-6090-4DD3-AC81-C42A24E3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DDDE7-E50D-4123-833D-AB8CBFA1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4921-1DB4-4229-BAA5-8763B9AD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239D6-C4B4-4BDE-A32B-55B5D276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A557F-8476-44D4-82C3-CFD709DF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DE33F-9FC3-4AA9-9B82-FF3F97BE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75E53-C9E1-4B69-8FED-DBDBB7BD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2C174-2742-4EE7-9CB9-832AEF37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F34B5-3FC2-453C-8210-E5045F55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86709-1B98-4672-8D9A-AB6AD89F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B961F-7E41-4779-A79C-817D873FE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CB014-1309-4943-9EB1-4927EC7D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95EC-C7B6-4E78-9990-6571514A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CBE1-10E0-4FC4-9466-A951E246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05F6-78C6-4C3B-A4F2-4BD9F366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6AAE-A84A-4439-BDCF-CBD5FDF8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4C92-3A22-482E-B090-845C47EB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769B-8992-4321-80E7-352EDD5C13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C37D-B8E7-4F27-B84E-6705DD781B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E234-7C7C-44E2-A1AB-53F89CEE098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8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91E0-3898-4DC5-B0E3-34EA69F5B4C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urzilka.org/glossary/knigi_dlya_dete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urzilka.org/glossary/murzilka/" TargetMode="External"/><Relationship Id="rId2" Type="http://schemas.openxmlformats.org/officeDocument/2006/relationships/hyperlink" Target="http://www.murzilka.org/glossary/detskie_zhurnali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4479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Я хочу вам рассказать про    журнал Мурзил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43452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зван он по имени сказочного существа желтого и пушистого Мурзилки. Свое имя Мурзилка получил благодаря озорнику и проказнику — маленькому лесному человечку, существовавшему в популярных 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книгах для детей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 конца 19 века. Это был человечек во фраке, с тросточкой и монокл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Картинка 2 из 924"/>
          <p:cNvPicPr/>
          <p:nvPr/>
        </p:nvPicPr>
        <p:blipFill>
          <a:blip r:embed="rId2"/>
          <a:stretch/>
        </p:blipFill>
        <p:spPr>
          <a:xfrm>
            <a:off x="4724280" y="2343240"/>
            <a:ext cx="4114800" cy="26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42688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Мурзилка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» — популярный детский литературно-художественный журнал. Издаётся с мая 1924 года и адресован детям от 6 до 12 лет. За 87 лет существования всеми любимого 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детского журнала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 его выпуск не прерывался ни ра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головоломки игры"/>
          <p:cNvPicPr/>
          <p:nvPr/>
        </p:nvPicPr>
        <p:blipFill>
          <a:blip r:embed="rId3"/>
          <a:stretch/>
        </p:blipFill>
        <p:spPr>
          <a:xfrm>
            <a:off x="4800600" y="5410080"/>
            <a:ext cx="789120" cy="9813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журнал Мурзилка"/>
          <p:cNvPicPr/>
          <p:nvPr/>
        </p:nvPicPr>
        <p:blipFill>
          <a:blip r:embed="rId4"/>
          <a:stretch/>
        </p:blipFill>
        <p:spPr>
          <a:xfrm>
            <a:off x="5562720" y="5257800"/>
            <a:ext cx="85716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4235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с тех пор в журнале поселился пушистый волшебный герой, жёлтенький, как одуванчик, в красном берете и шарфике, с фотоаппаратом через плечо, такой, каким все знают его сейча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Картинка 70 из 30502"/>
          <p:cNvPicPr/>
          <p:nvPr/>
        </p:nvPicPr>
        <p:blipFill>
          <a:blip r:embed="rId1"/>
          <a:stretch/>
        </p:blipFill>
        <p:spPr>
          <a:xfrm>
            <a:off x="4952880" y="1676520"/>
            <a:ext cx="3419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оевая машина десан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ётр Синя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Я сын десантника, сын лейтенант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т почему я в тельняшке хож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 боевую машину десан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ё, что хотите, вам расскаж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ть у машины крылатой пех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ушки, ракеты и пулемё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розный противник бьёт по броне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ё на ученьях, как на вой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Рисунок сына десантника"/>
          <p:cNvPicPr/>
          <p:nvPr/>
        </p:nvPicPr>
        <p:blipFill>
          <a:blip r:embed="rId1"/>
          <a:stretch/>
        </p:blipFill>
        <p:spPr>
          <a:xfrm>
            <a:off x="5715000" y="1523880"/>
            <a:ext cx="2359080" cy="43484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Боевая машина десан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41925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ши бойцы на своём вездеход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чью и днём, при любой непогод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хо поправят берет голубо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устятся с неба и бросятся в б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чится к победе машина десант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й не страшна никакая заса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вильно в песне поё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сский десант не сдаётся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усть я пока что хожу в детский сад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оро я буду проситься в десан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, хоть сейчас, бээмдэ поведу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пу и Родину не подведу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Картинка 3 из 30502"/>
          <p:cNvPicPr/>
          <p:nvPr/>
        </p:nvPicPr>
        <p:blipFill>
          <a:blip r:embed="rId1"/>
          <a:stretch/>
        </p:blipFill>
        <p:spPr>
          <a:xfrm>
            <a:off x="5029200" y="1981080"/>
            <a:ext cx="3259080" cy="36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4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Конец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6:21:25Z</dcterms:created>
  <dc:creator>kirill zefirov</dc:creator>
  <dc:description/>
  <dc:language>en-US</dc:language>
  <cp:lastModifiedBy>user</cp:lastModifiedBy>
  <dcterms:modified xsi:type="dcterms:W3CDTF">2012-02-08T17:52:2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