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1CF-E7AD-4C03-A750-A20DDAFF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8B1-1A64-4DF4-A7DE-E554791E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F13-9DF4-44F0-9326-1E528A9D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DAE-A4F0-42F2-934B-962CF994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B9F5-739F-4060-8317-3C3BDF99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44B3-285F-472A-91A5-056F6F78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712B-CC86-4FCB-B63D-7E0263D0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45CE-3E42-4451-9D55-BE5832DB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0DB8-8499-4C52-8F3A-BEDD0431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C60E-EC0D-4E10-95C7-36EFD3D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9498-B372-4B9F-97C5-9B9112D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A3F-7D7B-46E1-81E2-0B886F17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FD98-5D27-4B22-8592-0B7F3BBD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ED8E-2F63-43A8-A8F4-D57F0313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8BE2-B4FB-4768-AA49-187320E4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136D-F5FC-49B0-A300-769BE817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AA20-7606-476C-8863-4E9251D5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615-74D3-45B3-B7B6-C03A733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47C-D1E7-46CD-A861-B416A4BC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8A5-C610-4070-972E-4D96E00A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049-56D8-4EAD-897D-8BFAE07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DBE-BE88-4C98-BEE7-9FA0544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B83-2514-48EA-B7E5-115BBC5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545-B7BA-474A-BAFA-AE58745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99A1-4065-4AE0-B1FF-9EC1F8815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9E6-7B79-4064-A3B4-18D0CAD9C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такие насекомые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640" y="4581360"/>
            <a:ext cx="5216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ьцова Н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ЦОКО и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кры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т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риносит поль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3552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 кры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з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осит поль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 – это животные с тремя парами лапок и одной или двумя парами крыл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60440" y="2075040"/>
            <a:ext cx="2716200" cy="1847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2735280" cy="2019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56080" y="4160880"/>
            <a:ext cx="288468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66840" y="1989000"/>
            <a:ext cx="290520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2952720" cy="177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508720" y="4497480"/>
            <a:ext cx="2697120" cy="18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3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816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9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9800" y="5948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344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508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052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216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088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5600" y="421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91600" y="508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51960" y="37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272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108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38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37893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37893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9800" y="4221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180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344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508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05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216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1600" y="465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016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080" y="2421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1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3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652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5800" y="1989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5800" y="2852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6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6520" y="3716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5800" y="414972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6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416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5800" y="3716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3080" y="37162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8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9440" y="37162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5016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9440" y="4581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0160" y="501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5016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3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380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8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45813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1088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1800" y="4581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моги убрать лишне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7280" y="2349360"/>
            <a:ext cx="6400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М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8447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йди не насеком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ды насеко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бери лиш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цы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етит кучка поросят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то ни тронет – завизжа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728" t="2291" r="1842" b="5190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олнц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свет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е птичка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 с крылья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НАСЕКОМЫЕ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круг носа вьётся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 в руки не даётся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693800"/>
            <a:ext cx="5832720" cy="37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5734080"/>
            <a:ext cx="6697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661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м для птиц и животных, впадает в спяч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ам мал, а больше себя ношу носи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227320"/>
            <a:ext cx="4226040" cy="3136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35520" y="2720520"/>
            <a:ext cx="3927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м для птиц и животны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уется в медици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адает в спя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 для птиц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адают в спяч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3:23:59Z</dcterms:created>
  <dc:creator>bik</dc:creator>
  <dc:description/>
  <dc:language>en-US</dc:language>
  <cp:lastModifiedBy>bik</cp:lastModifiedBy>
  <dcterms:modified xsi:type="dcterms:W3CDTF">2007-12-04T13:26:14Z</dcterms:modified>
  <cp:revision>20</cp:revision>
  <dc:subject/>
  <dc:title>Кто такие насекомые?</dc:title>
</cp:coreProperties>
</file>