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A7E-E945-4F4F-867A-2CC71462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F77-ACD2-4129-A4A7-DADBE5C4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741-F6BB-4541-8B8A-4F430D53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354-8548-489B-8C6E-A69D1516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F2FA-7578-4666-8218-A4CEBD92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2ACC-9800-4A93-B11E-4B93D73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1B55-CAA2-4B82-A6B3-7E4CC04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C89E-EDE9-4641-B293-D86FBB8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0F9D-CC70-4919-B288-A726936F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3D8C-7601-4D94-A3E2-BAADD502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1EFA-F94A-437A-9CCA-F8CF836A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018-70D1-4BB6-8F85-F788DDDF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E912-1F55-4B9C-87B0-379D19B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BCEB-1110-47AF-8543-95402B6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3068-F3C4-4647-902C-BDFCA474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AA2F-CF40-4EEC-B9B7-DBE2EEC4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3D41-C9CA-4924-B667-E3F9F6E6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C201-99B6-4F69-A5F2-95B1FD98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5A7A-262F-4964-A429-64999107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E0656-5FA8-4BAD-B7E3-1E813B84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AF6C-A6D2-4417-B115-1D7B0388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1A25-4BB7-4FB9-BEF4-3E698D4C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C35-AF02-4E85-8826-BDAF5562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D38A-6677-4FEC-ABD2-499F821B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6653-6464-46BE-9D15-0B4E0F41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D052-DEC6-45E2-AE3A-A299506B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E700-0180-485F-A674-1A2C1DAE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4D08-320D-40B9-BAEE-F304EC99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C81AE-DE88-44FE-A629-7C7175A9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A04D-BA14-4ECF-A3A0-B9959C49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B21E4-39F2-4933-A034-8B0BA093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875A-BC08-41E6-83BD-BFF38F19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EE49-1123-4541-B148-2F8523D6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B52-2902-4B57-929A-8FB0E6F4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2EF3-6B0B-4DDC-8B46-C64DF5D1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D990-F334-4BBA-84FD-FBF88E5F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27DF-C295-4EDF-8ED5-F9157C64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5DBF-659F-4EFE-B38E-1A25CDFB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048F-2C34-4A72-AB11-BCF385AE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28B8-6C47-4C56-95D2-EC5B37CB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8EFE-F6C4-4B9B-9B0F-BCA0E330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0CD5-FDF3-4B62-9E0E-3AA9375D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38EBF-F793-4583-A9C1-E1452B2B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34F6-FA34-4507-B63B-32DABF98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73C-AF14-4CDB-995F-4429EE0A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94CFA-B900-4C67-AE21-3CFE1156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D968-BBDF-4273-A376-5A6D20C5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9CE6-6EEE-4241-BA54-6866EE47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39AF-6865-4B65-8185-BDC1A8EB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01E4F-0BBA-41FA-81BF-992F7E9A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F43E-32B7-45AD-B5B1-5C542507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DC0BE-0261-45A7-8728-8EA5AD0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F926D-5375-4667-8331-4AE82574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3330D-20E4-4F10-AE06-E0D6CE9C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4B14-6CE6-4EDF-A4C2-D713CA6C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761-698B-4E39-83D1-EE51487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85072-3319-48CE-B269-D84B9D9B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2E3DB-F3F9-4196-B926-E854AC0A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7CB9F-3F2B-41C2-882A-2A544277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79538-98B8-4729-A1CC-58209922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18737-4C40-4EC9-BAB9-ABFEB376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F677-EF8D-41B8-8C4E-6F4A3600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ABE07-EB5D-4D5A-AB85-CA55C0B7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F208D-64C4-4D61-8DEE-52DA8220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BD586-F6B3-474B-BCED-EE9A3B77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2C7EB-A8B0-4CEB-AC52-1E4EE4D4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64E-750D-4802-8762-CF90E2E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7E99F-ED21-4CB2-9596-E28BE38D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3AFA6-E084-467F-B151-377E6500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1D45C-F9D8-4269-A99F-493C8BD2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2FFB-6092-49C0-9263-CCA2F35A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6CB99-4788-4E5C-A709-93227A72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B6B7D-A7A4-49EB-AF0B-8152760C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BFAB8-8EEC-49E7-B208-7592D38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DB32B-6779-4B83-8609-C0341BF5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EDE3C-2DC9-48B4-9C3A-74536C91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CE87D-294E-4279-BD00-B81561C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3E4-D1C6-4B82-8B47-958ADA8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D5D02-7654-4FFF-8FB8-ABA65B3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0410-AE6F-4F85-A4AE-3DF62F56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66089-1933-4413-873A-106E5494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50B06-7745-47AF-AAE9-11AA0EE1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361D6-E069-4689-AF21-74D1586A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9D8-A480-48D2-8167-2E16BB2A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0A9E-A161-4C6B-8C80-3C5FCB2B85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F4AC-7AD8-4F14-84F5-799CC9C7F65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FCAF-375B-4077-93A3-3236C89BF1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D924-4790-4E04-B52A-96859C47EC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81F4-D073-4C00-8B95-C96CC7015A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E798-7048-49DC-BB78-75DDD2C024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8E69-7F7D-43D4-9940-9E3B15F137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Corbel"/>
              </a:rPr>
              <a:t>Социальная структура.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32000" y="4292280"/>
            <a:ext cx="74073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e04"/>
                </a:solidFill>
                <a:latin typeface="Corbel"/>
              </a:rPr>
              <a:t>Урок </a:t>
            </a:r>
            <a:r>
              <a:rPr b="0" lang="en-US" sz="3600" spc="-1" strike="noStrike">
                <a:solidFill>
                  <a:srgbClr val="320e04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20e04"/>
                </a:solidFill>
                <a:latin typeface="Corbel"/>
              </a:rPr>
              <a:t>обществознания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e04"/>
                </a:solidFill>
                <a:latin typeface="Corbel"/>
              </a:rPr>
              <a:t>8 класс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e04"/>
                </a:solidFill>
                <a:latin typeface="Corbel"/>
              </a:rPr>
              <a:t>Учитель Можная Т.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Статусный образ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усные символы, права, обязанности и роль создают статусный образ, и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мидж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мид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совокупность представлений, сложившихся в общественном мнении о том, как должен вести себя человек в соответствии со своим статусом, как должны соотноситься между собой права и обязанности в данном статус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Социальная роль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989000"/>
            <a:ext cx="367344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нера, или способ поведения, в связи со своим статусом называетс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оциальной ролью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Текст 8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257640" cy="40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Заключение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социальная структура обществ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социальный статус? Проиллюстрируйте его на своём приме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статусные символы и статусный имидж? Приведите пример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социальная роль? Проанализируйте ролевой набор ученика школ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Домашнее задание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367344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17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чая тетрадь №1,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Текст 8" descr=""/>
          <p:cNvPicPr/>
          <p:nvPr/>
        </p:nvPicPr>
        <p:blipFill>
          <a:blip r:embed="rId2"/>
          <a:stretch/>
        </p:blipFill>
        <p:spPr>
          <a:xfrm>
            <a:off x="6012000" y="1916280"/>
            <a:ext cx="260352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Социальная структур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71680" y="1523880"/>
            <a:ext cx="45208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Социальная структура – это совокупность взаимосвязанных элементов , составляющих внутреннее строение общест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3" descr="C:\Documents and Settings\1\Рабочий стол\Безымянный.bmp"/>
          <p:cNvPicPr/>
          <p:nvPr/>
        </p:nvPicPr>
        <p:blipFill>
          <a:blip r:embed="rId2"/>
          <a:stretch/>
        </p:blipFill>
        <p:spPr>
          <a:xfrm>
            <a:off x="4740120" y="1341360"/>
            <a:ext cx="44038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Социальный статус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ата – социальный слой людей, имеющих схожие признаки по доходам, власти, образованию, престиж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Текст 8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671640" cy="31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Социальный статус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03280" y="205704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ус – это ниша или место человека в социальной структуре обществе(группы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Текст 8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314460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Виды социальных статусов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447560"/>
            <a:ext cx="449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м обществе различают следующие виды социальных статусов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ьны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мейно-брачно-родственны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итическ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лигиозны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Текст 8" descr=""/>
          <p:cNvPicPr/>
          <p:nvPr/>
        </p:nvPicPr>
        <p:blipFill>
          <a:blip r:embed="rId2"/>
          <a:stretch/>
        </p:blipFill>
        <p:spPr>
          <a:xfrm>
            <a:off x="5435640" y="2060640"/>
            <a:ext cx="3355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</a:rPr>
              <a:t>Разъясните статус ваших родителей. Представьте свой статусный портрет.</a:t>
            </a:r>
            <a:r>
              <a:rPr b="0" lang="en-US" sz="39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риториальные статусы (горожанин, беженец, бомж..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 (женщина/мужчина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раст (ребенок, взрослый, пожилой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а (негроидная, европеоидная, монголоидная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циональ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оровье (инвалид, здоровый..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есси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итические взгляд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игиозные взгляд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Текст 8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29289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Arial"/>
              </a:rPr>
              <a:t>Охарактеризуйте статус лица по нижеприведённым отрывкам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197000"/>
            <a:ext cx="7499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ай Юлий Цезарь родился в 100 г. до н. э. Эту дату сообщают античные писатели. Это был известный римский политический деятель и полководец. Он родился в 12-й день месяца квинтилия, который впоследствии в его честь был переименован в июль. Он происходил из патрицианского рода Юлиев, древнего и знатного, но бедно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й Цезарь получил прекрасное образование, которое в те времена заключалось в изучении греческого языка, литературы, философии, истории и в овладении ораторским искусством. Он быстро достиг выдающихся успехов в краснореч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63 г. он стал верховным жрецом (понтификом). Будучи консулом, он смог вопреки упорному противодействию сената провести в жизнь два аграрных закона в пользу ветеранов и неимущих гражда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лидер партии популяров, он стремился заменить власть сената единоличной властью. Его имя стало отождествлять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м «император». Позднее все "римские императоры сами принимали титул «цезарь» и присваивали ею своим сыновьям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Arial"/>
              </a:rPr>
              <a:t>Охарактеризуйте статус лица по нижеприведённым отрывкам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4960" y="1413000"/>
            <a:ext cx="74995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Известный русский историк С. Ф. Платонов родился в семье типографского служащего 16 июня 1860 г. в Чернигов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городе на Неве он прошел путь от гимназист (1870—1879) и студента (1879—1882) до профессора академика — главы петербургской школы русских историков. Талант педагога-историка был замечен при дворе Платонов был приглашен преподавателем истории в царскую семью. События 1917 г он воспринял как историческую аномалию, вызванную войной, нищетой и разрухой Историк полагал, что установление власти большевиков явление временное. Его политические взгляды не оставались неизменными. До революции Платонов придерживался либеральных буржуазно-монархических позиций. После 1917 г. его воззрения шли в направлении буржуазной демократии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Статусные символ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447560"/>
            <a:ext cx="4535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ство придумало внешние знаки отличия, позволяющие разграничить обладателей различных статусов.(спец.одежда, стиль одежды и атрибутика, жильё, язык, жесты, манера поведения и т.д.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Текст 8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29797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2:05:48Z</dcterms:created>
  <dc:creator>ТатьянаАлександровна</dc:creator>
  <dc:description/>
  <dc:language>en-US</dc:language>
  <cp:lastModifiedBy>Саша</cp:lastModifiedBy>
  <dcterms:modified xsi:type="dcterms:W3CDTF">2010-02-17T18:37:39Z</dcterms:modified>
  <cp:revision>5</cp:revision>
  <dc:subject/>
  <dc:title>      Социальная структура.</dc:title>
</cp:coreProperties>
</file>