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7F0F-18CC-4F2A-BE02-6930BDDD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80CA-1E70-4C18-A467-58207915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B1F5-2454-4E34-80E9-456DB4AC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358C-51D9-438A-B47C-93005945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4487-9BA6-45AD-964C-E93D4353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71EC-0B3F-4DBC-BF9D-8698F889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06C4-FEE1-414B-A660-A2F149D2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AFA6-3556-4F7D-8FAD-09EEE519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9AAD-1677-4913-B3E2-91C5D10D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1082-ED5D-44B3-84DD-C7871ADF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802D-0F49-4D91-B81B-6F67E549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22D0-504F-4FFE-B192-832A7808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8BDD-0BD0-46FF-AF15-7A4E8A69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59F0-5B6B-4251-846D-D281651C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DF45-C8FB-47DC-95F5-E7F5FE3E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E98F-33DA-42DE-A333-DB74A404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45D4-F810-482D-A44D-D7B732AB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6AE8-F2CA-44FE-8D48-80D7F2F7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E636-B015-41CE-A62E-4E2E6C37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5F4D-7517-43B1-BD09-23534006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7D67-9B95-4023-A0D9-384212C3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FC58-04D6-46FD-80CA-97BBD380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803C-28E5-4C7A-8F22-317AEEED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CA8A-36B8-436F-90AF-DB24C410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99D6-2433-493C-91B3-0DBD3D4681E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4531-5FDB-4B4A-8EC2-7FF733EACE4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Презентация к уроку  учителя физики Староатлашской СОШ Курмакаевой Р.А.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 spd="med" advTm="5000">
    <p:wipe dir="d"/>
    <p:sndAc>
      <p:stSnd>
        <p:snd r:embed="rId1" name="whoo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Итоги урока.</a:t>
            </a:r>
            <a:br>
              <a:rPr sz="4400"/>
            </a:b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Домашнее задание.</a:t>
            </a:r>
            <a:br>
              <a:rPr sz="4400"/>
            </a:b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.105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 spd="med" advTm="5000">
    <p:wipe dir="d"/>
    <p:sndAc>
      <p:stSnd>
        <p:snd r:embed="rId1" name="whoo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11280" y="549360"/>
            <a:ext cx="7993080" cy="33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единение проводник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2360" y="2997360"/>
            <a:ext cx="863928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"/>
              </a:rPr>
              <a:t>Презентация урока по физике 10 клас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"/>
              <a:ea typeface="Arial"/>
            </a:endParaRPr>
          </a:p>
        </p:txBody>
      </p:sp>
    </p:spTree>
  </p:cSld>
  <p:transition spd="med" advTm="5000">
    <p:wipe dir="d"/>
    <p:sndAc>
      <p:stSnd>
        <p:snd r:embed="rId1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50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a500"/>
                </a:solidFill>
                <a:latin typeface="Tahoma"/>
              </a:rPr>
              <a:t>Познакомить учащихся с различными способами соединения проводников и закономерностями, существующими в цепи с последовательным и параллельным соединением проводник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a500"/>
                </a:solidFill>
                <a:latin typeface="Tahoma"/>
              </a:rPr>
              <a:t>Формировать умения применять эти закономерности при решении задач</a:t>
            </a:r>
            <a:r>
              <a:rPr b="0" lang="en-US" sz="3200" spc="-1" strike="noStrike">
                <a:solidFill>
                  <a:srgbClr val="808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5000">
    <p:wipe dir="d"/>
    <p:sndAc>
      <p:stSnd>
        <p:snd r:embed="rId1" name="whoosh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роверка знаний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с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U,R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означение каких физических величин? Единицы измерения этих величин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кон Ома для участка цеп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 каких параметров зависит сопротивление проводник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ить силу тока,проходящего по стальному проводу длиной 100м и сечением 0,5 мм ,при напряжении 68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5000">
    <p:wipe dir="d"/>
    <p:sndAc>
      <p:stSnd>
        <p:snd r:embed="rId1" name="whoosh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Изучение новой темы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69138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ледовательное соединение проводни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195640" y="2781360"/>
            <a:ext cx="4968720" cy="2592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284720" y="5734080"/>
            <a:ext cx="1006560" cy="57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wipe dir="d"/>
    <p:sndAc>
      <p:stSnd>
        <p:snd r:embed="rId2" name="whoosh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Закономерности соедине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I=cost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 ,т.е.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I=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=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U=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+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R=R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5000">
    <p:wipe dir="d"/>
    <p:sndAc>
      <p:stSnd>
        <p:snd r:embed="rId1" name="whoosh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98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98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араллельное соедине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908000" y="2293920"/>
            <a:ext cx="5400720" cy="36561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924360" y="6165720"/>
            <a:ext cx="988920" cy="400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wipe dir="d"/>
    <p:sndAc>
      <p:stSnd>
        <p:snd r:embed="rId2" name="whoo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Закономерности соедине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I=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=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=U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R=R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/2  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или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R= R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*R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/R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+R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5000"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796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Лабораторная работа по теме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ль: проверить законы последовательного и параллельного соедин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рудование: источник питания, два проволочных резистора,вольтметр,амперметр,реоста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5000">
    <p:wipe dir="d"/>
    <p:sndAc>
      <p:stSnd>
        <p:snd r:embed="rId1" name="whoo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8:10:18Z</dcterms:created>
  <dc:creator>Administrator</dc:creator>
  <dc:description/>
  <dc:language>en-US</dc:language>
  <cp:lastModifiedBy>Administrator</cp:lastModifiedBy>
  <dcterms:modified xsi:type="dcterms:W3CDTF">2009-10-07T09:04:00Z</dcterms:modified>
  <cp:revision>5</cp:revision>
  <dc:subject/>
  <dc:title>  .</dc:title>
</cp:coreProperties>
</file>