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0FC-7985-4E2A-AF80-76214DBA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25C-BAEB-4CE6-83A4-B66B388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02A-EA2F-43E3-B488-F182BA3E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C80-A5DE-4E5F-82AF-AC0A145F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15D-660F-43C9-8142-DFB854CA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090B-7B60-44D5-80B5-F7EF1A3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AD9-EBFB-417D-B1B2-55870285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4A9-87C7-4B7C-835D-4CE3373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5885-E268-4DD9-A563-D3C6CA5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F34-D07C-4E39-89C8-4C8749D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A15-AF17-4F44-865E-C0859F0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F28-E461-47F3-A21A-645634ED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79D-0192-4AE9-B93B-FFE8BA6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B873-5F70-42FA-B056-567F77E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A0EB-1AE4-435B-B19F-597423BD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8808-04E3-4955-96C9-38BC68BE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E60B-894C-4DF4-82D1-7E1D0443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28A3-7067-4BA6-981A-BB1DFF77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499C-F619-4B27-8FA1-7C5B9038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8D62-7932-41D5-A9A1-5391296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DB1A-41E1-4322-B3B7-FE79E0FD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778F-39B8-4DEE-8FF6-E159086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F42-711F-40B3-90A3-110752D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9529-9011-457A-9806-D4336CF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24C2-0AAB-469E-8C4C-A4D2090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E032-54D7-4A6E-ABD5-8E2D0E3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789F-FD5A-4796-991A-D17C8D6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9119-DE43-4B33-924C-E6A57A0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4994-7D14-4D55-BA2C-05B6CD92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33C5-2736-4147-B915-FEEFFD81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21CA-E1B9-4FF7-A2B3-E67245A9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7574-2586-4DA2-ABF8-A339FBC8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0C06-18B6-439F-AA9A-D82A441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35B-3949-4850-8F12-F592EE0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2A40-3A7A-4813-A1AC-2D02EDB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B2A0-8671-4EB3-B5DD-68B5959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36E8-10EB-4FE7-8FC3-AEA6C0DA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7574-37FE-4DD7-A9BA-C070A22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4F1A-BD5A-49E8-80C7-9DD22EC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2AA9-D0AF-43F8-83E3-EA1F64F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B843-3008-43DA-BE67-D54D174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0DCB-CEC3-4521-964B-D9BFDAAE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4620-B13A-40D3-A722-37B5CF28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304-8638-467C-87FF-9FC9643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787-A613-4851-A201-F888C132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113-2460-44A2-B72C-579DA6D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8CE-1F16-4B81-A81F-B220596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F33-1E59-4AF7-9E33-1B4630E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624-1A5E-4458-BFD8-BE36713D2F5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F26-4094-48BA-868B-2000BC085A0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FE4-72A2-4540-B1D4-7E420D9392F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124-004D-4CFB-BD2F-65E1AC7A5F3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643200"/>
            <a:ext cx="64958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Евтух Дарья Вячеславовн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Ученица  11 класс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БОУ  СОШ № 23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щёвского район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ожная Татьяна Александровн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«МЕЖДУНАРОДНЫЙ ТЕРРОРИЗ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И ЕГО ИСТОКИ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ЗАХВАТ ЗАЛОЖНИКОВ В БЕСЛАНЕ</a:t>
            </a:r>
            <a:br>
              <a:rPr sz="1600"/>
            </a:b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71360" y="1142640"/>
            <a:ext cx="7786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Примерно 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в 8 утра 1 сентября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82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buClr>
                <a:srgbClr val="dc9e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4" name="Picture 2" descr="C:\Users\user\Pictures\террор\6.jpg"/>
          <p:cNvPicPr/>
          <p:nvPr/>
        </p:nvPicPr>
        <p:blipFill>
          <a:blip r:embed="rId1"/>
          <a:stretch/>
        </p:blipFill>
        <p:spPr>
          <a:xfrm>
            <a:off x="5076720" y="378936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user\Pictures\террор\744.jpg"/>
          <p:cNvPicPr/>
          <p:nvPr/>
        </p:nvPicPr>
        <p:blipFill>
          <a:blip r:embed="rId2"/>
          <a:stretch/>
        </p:blipFill>
        <p:spPr>
          <a:xfrm>
            <a:off x="1187280" y="37893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285560" y="356760"/>
            <a:ext cx="74977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Все погибшие - гражданские лица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2" descr="C:\Users\user\Pictures\террор\16.jpg"/>
          <p:cNvPicPr/>
          <p:nvPr/>
        </p:nvPicPr>
        <p:blipFill>
          <a:blip r:embed="rId1"/>
          <a:stretch/>
        </p:blipFill>
        <p:spPr>
          <a:xfrm>
            <a:off x="5000760" y="321480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user\Pictures\террор\12.jpg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user\Pictures\террор\1733.jpg"/>
          <p:cNvPicPr/>
          <p:nvPr/>
        </p:nvPicPr>
        <p:blipFill>
          <a:blip r:embed="rId1"/>
          <a:stretch/>
        </p:blipFill>
        <p:spPr>
          <a:xfrm>
            <a:off x="1000080" y="357120"/>
            <a:ext cx="81439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user\Pictures\террор\1622.jpg"/>
          <p:cNvPicPr/>
          <p:nvPr/>
        </p:nvPicPr>
        <p:blipFill>
          <a:blip r:embed="rId1"/>
          <a:stretch/>
        </p:blipFill>
        <p:spPr>
          <a:xfrm>
            <a:off x="1000080" y="357120"/>
            <a:ext cx="81439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 Narrow"/>
              </a:rPr>
              <a:t>ЖИЗНЬ ПОБЕДИТЬ НЕЛЬЗЯ, НО МОЖНО ЕЁ УНИЧТОЖИТЬ.</a:t>
            </a:r>
            <a:endParaRPr b="0" lang="en-US" sz="35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Picture 2" descr="C:\Users\user\Pictures\террор\2222.jpg"/>
          <p:cNvPicPr/>
          <p:nvPr/>
        </p:nvPicPr>
        <p:blipFill>
          <a:blip r:embed="rId1"/>
          <a:stretch/>
        </p:blipFill>
        <p:spPr>
          <a:xfrm>
            <a:off x="1692360" y="162864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1640" y="0"/>
            <a:ext cx="79344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нутренние вооруженные конфликты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ерестанут быть опасными для стран и народов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только тогда, когда будет покончено с практикой использования этих конфликтов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ретьими странами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для решения своих крупных геополитических и иных задач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Борьба с терроризмом эффективна в тех случаях, когда аппарат подавления действует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адресно и персонально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Выявить террориста в толпе прохожих, среди пассажиров поездов, самолетов и т.п. — значит "прочитать" его намерения.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пределение намерений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является кричащей проблемой в системе авиаперевозок, перевозок пассажиров наземным, водным транспортом, при допуске зрителей на стадионы, в театры и т.п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4" name="Picture 4" descr="614672"/>
          <p:cNvPicPr/>
          <p:nvPr/>
        </p:nvPicPr>
        <p:blipFill>
          <a:blip r:embed="rId1"/>
          <a:stretch/>
        </p:blipFill>
        <p:spPr>
          <a:xfrm>
            <a:off x="1042920" y="4287960"/>
            <a:ext cx="3889440" cy="237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miting1"/>
          <p:cNvPicPr/>
          <p:nvPr/>
        </p:nvPicPr>
        <p:blipFill>
          <a:blip r:embed="rId2"/>
          <a:stretch/>
        </p:blipFill>
        <p:spPr>
          <a:xfrm>
            <a:off x="5148360" y="4149720"/>
            <a:ext cx="3533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Narrow"/>
              </a:rPr>
              <a:t>«ФЕДЕРАЛЬН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ffc000"/>
                </a:solidFill>
                <a:latin typeface="Arial Narrow"/>
              </a:rPr>
              <a:t> ЗАКОН РОССИЙСКОЙ ФЕДЕРАЦИИ О БОРЬБЕ С ТЕРРОРИЗМОМ»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нят Государственной Думой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3 июля 1998 года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 одобрен Советом Федерации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9 июля 1998 года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   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акон определяет правовые и организационные основы борьбы с терроризмом в Российской Федерации, порядок координации деятельности осуществляющих борьбу с терроризмом федеральных органов исполнительной власти, органов исполнительной власти субъектов Российской Федерации, общественных объединений и организаций независимо от форм собственности, должностных лиц и отдельных граждан,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а также права, обязанности и гарантии граждан в связи с осуществлением борьбы с терроризмом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Picture 5" descr="j0178279"/>
          <p:cNvPicPr/>
          <p:nvPr/>
        </p:nvPicPr>
        <p:blipFill>
          <a:blip r:embed="rId1"/>
          <a:stretch/>
        </p:blipFill>
        <p:spPr>
          <a:xfrm>
            <a:off x="285840" y="2858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Narrow"/>
              </a:rPr>
              <a:t>ДЕТИ МИРА ОБЪЕДИНЯЮТСЯ ПРОТИВ ТЕРРОРА</a:t>
            </a:r>
            <a:br>
              <a:rPr sz="35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920" y="2708280"/>
            <a:ext cx="74995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орум прошел под девизом "Дети мира против террора". Зампредседателя Совета муфтиев России Мансур Шакиров особо отметил объединяющее значение фестиваля, который, будет способствовать воспитанию толерантности в подрастающем поколении и противодействию экстремизму. 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"Все вместе, все нации, все конфессии, все дети - это очень большая сила. Птицы летят к теплу без компаса и навигации, и дети сегодня решили бороться с терроризмом искусством. Искусством передавать свою просьбу - что нам не нужны террор и война, нам нужны мир и счастье", - отметил Шакиров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Picture 4" descr="ED2634"/>
          <p:cNvPicPr/>
          <p:nvPr/>
        </p:nvPicPr>
        <p:blipFill>
          <a:blip r:embed="rId1"/>
          <a:stretch/>
        </p:blipFill>
        <p:spPr>
          <a:xfrm>
            <a:off x="5643720" y="857160"/>
            <a:ext cx="3047760" cy="1789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116000" y="1268280"/>
            <a:ext cx="3960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Более тысячи детей из 40 стран мира приняли участие в третьем Международном фестивале "Москва встречает друзей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39640" y="5805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лько все вместе мы сможем остановить терр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единстве наша сил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428616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 Narrow"/>
              </a:rPr>
              <a:t>Терроризм глобален по масштабам, «порочен» по природе, безжалостен к врагам и стремится контролировать все сферы жизни и мысли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2" descr="C:\Users\user\Pictures\террор\3уцкуцк.jpg"/>
          <p:cNvPicPr/>
          <p:nvPr/>
        </p:nvPicPr>
        <p:blipFill>
          <a:blip r:embed="rId1"/>
          <a:stretch/>
        </p:blipFill>
        <p:spPr>
          <a:xfrm>
            <a:off x="1143000" y="214200"/>
            <a:ext cx="2495520" cy="13813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928800" y="2286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c9e1f"/>
                </a:solidFill>
                <a:latin typeface="Georgia"/>
              </a:rPr>
              <a:t>Терроризм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627569"/>
          <p:cNvPicPr/>
          <p:nvPr/>
        </p:nvPicPr>
        <p:blipFill>
          <a:blip r:embed="rId2"/>
          <a:stretch/>
        </p:blipFill>
        <p:spPr>
          <a:xfrm>
            <a:off x="5724360" y="1773360"/>
            <a:ext cx="27133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71640" y="25992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еррор - явление, которое прямо или косвенно касается каждого из нас. Массовое насилие в последние годы стало, к сожалению, неотъемлемой частью нашего социального бытия. Историки утверждают, что терроризм царствует на Земле не менее двух тысяч лет. Несмотря на богатый стаж, терроризм еще никогда не представлял для населения и целых государств такой серьезной угрозы. В настоящее время по всему миру насчитывается около сотни террористических организац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5" descr="07_53"/>
          <p:cNvPicPr/>
          <p:nvPr/>
        </p:nvPicPr>
        <p:blipFill>
          <a:blip r:embed="rId1"/>
          <a:stretch/>
        </p:blipFill>
        <p:spPr>
          <a:xfrm>
            <a:off x="1332000" y="4427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37969733"/>
          <p:cNvPicPr/>
          <p:nvPr/>
        </p:nvPicPr>
        <p:blipFill>
          <a:blip r:embed="rId2"/>
          <a:stretch/>
        </p:blipFill>
        <p:spPr>
          <a:xfrm>
            <a:off x="4716360" y="4449600"/>
            <a:ext cx="381636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КЛАССИФИКАЦИЙ ТЕРРОРИЗМА СУЩЕСТВУЕТ МНОЖЕСТВО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71280" y="1052640"/>
            <a:ext cx="81723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 сфере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- государственный и международный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 зависимости от идентичности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– этнический и религиозный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 средствам, используемым в террористических актах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– терроризм с применением обычных средств поражения и терроризм с применением средств массового поражения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 средствам протекания террористических актов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– наземный, морской, воздушный, космический, компьютерный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 социальной направленности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– социальный, националистический, религиозный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следняя классификация является самой распространенной среди исследователе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3" descr="C:\Users\user\Pictures\террор\336_20051206162747.jpg"/>
          <p:cNvPicPr/>
          <p:nvPr/>
        </p:nvPicPr>
        <p:blipFill>
          <a:blip r:embed="rId1"/>
          <a:stretch/>
        </p:blipFill>
        <p:spPr>
          <a:xfrm>
            <a:off x="1258920" y="4367160"/>
            <a:ext cx="3241800" cy="238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user\Pictures\террор\pentmorris.jpg"/>
          <p:cNvPicPr/>
          <p:nvPr/>
        </p:nvPicPr>
        <p:blipFill>
          <a:blip r:embed="rId2"/>
          <a:stretch/>
        </p:blipFill>
        <p:spPr>
          <a:xfrm>
            <a:off x="5148360" y="4321080"/>
            <a:ext cx="3671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2920" y="0"/>
            <a:ext cx="79344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Так, 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среди причин роста терроризма в России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респонденты указали: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26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ухудшение социально-экономического положения населения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19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усиление противоборства криминальных группировок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13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расслоение населения по имущественному признаку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8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деятельность национально- и регилиозно-экстремистских группировок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 8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приграничное положение, близость к местности, где происходят межнациональные конфликты, войны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 7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рост числа безработных в самых различных социальных группах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 7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приток мигрантов из стран ближнего зарубежья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 5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4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деятельность или влияние зарубежных террористических групп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    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3% </a:t>
            </a: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- факторы дискриминации отдельных национальных общностей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Narrow"/>
              </a:rPr>
              <a:t>SOS</a:t>
            </a:r>
            <a:endParaRPr b="0" lang="en-US" sz="8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85520" y="1571400"/>
            <a:ext cx="835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ссия сегодня, в начале 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ка имеет около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-х миллионов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беспризорных детей. Через несколько лет те, кто из них останется в живых, станут базой НОВОГО ТЕРРОРА -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ЦИАЛЬНОГО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, внутреннего, на каждой улице, в каждом городе, в каждом доме!!!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Narrow"/>
              </a:rPr>
              <a:t>ЛЮДИ, ОПОМНИТЕСЬ!!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1" lang="ru-RU" sz="4400" spc="-1" strike="noStrike">
                <a:solidFill>
                  <a:srgbClr val="ffc000"/>
                </a:solidFill>
                <a:latin typeface="Arial Narrow"/>
              </a:rPr>
              <a:t>ТЕРРОРИЗМ В МОСКВЕ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Arial Narrow"/>
              </a:rPr>
              <a:t>Террористический акт в Москве 2002 год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23 октября 2002 года в 21.05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центре Москвы (в театральном центре на Дубровке) более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50 вооруженных террористов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захватили зал, в котором шел популярный мюзикл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«Норд-Ост».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26 октября в 5.32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сле уникальной в мировой истории спецоперации более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500 заложников были освобождены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Уничтожены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50 террористов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– 32 мужчин и 18 женщин.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117 заложников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28 октября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3814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00080" y="189000"/>
            <a:ext cx="7934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Террористический акт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на Тушинском аэродроме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05 июля 2003 года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Москве был совершён террористический акт: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у входа на Тушинский аэродром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, где в это время проходил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рок-фестиваль «Крылья»,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были взорваны две бомбы. Взрывы произвели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две террористки-смертницы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По официальным данным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гибло 13 и ранено 59 человек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Больших жертв удалось избежать только потому, что охрана, заподозрив этих женщин,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не пропустила их в толпу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17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35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3333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42920" y="260280"/>
            <a:ext cx="79344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Террористический акт около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гостиницы «Националь»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9 декабря 2003 года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дна террористка-смертница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Прокуратура столицы уже распространила фотографию этой женщины. Предполагается, что у нее была сообщница, фоторобот которой, передает ИТАР-ТАСС, также разослан во все отделения милиции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3745080" cy="232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33130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39:25Z</dcterms:created>
  <dc:creator>user</dc:creator>
  <dc:description/>
  <dc:language>en-US</dc:language>
  <cp:lastModifiedBy>Admin</cp:lastModifiedBy>
  <dcterms:modified xsi:type="dcterms:W3CDTF">2012-02-09T14:07:26Z</dcterms:modified>
  <cp:revision>55</cp:revision>
  <dc:subject/>
  <dc:title>Слайд 1</dc:title>
</cp:coreProperties>
</file>