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F93C-F75F-4D25-A21F-B30F8AE80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BFA8-F58D-401C-A52A-DC9357C57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2043-313F-49F6-AF8C-CE672EFC3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0869-DA83-4370-BA4B-99B713B3C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C9A1-CBDA-4174-87A0-FD138E51A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CA85-F80A-40AB-BF09-E525B5A4E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F9D3-3F6F-4BA1-B87D-C5EEB2A72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4A59-119A-4487-9070-24E93FF29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731B-3250-47F6-9625-0B44C6ACB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1519-8378-4223-9656-2C6AD879B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9B6-D76D-44B8-BB24-B98DFA049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47F7-84CF-4DA6-BFB4-7DD76C7A7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FFD7-CFCE-4FE8-865D-82349D161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7B75-FD75-4163-9BAF-D1CF51B55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1447-7243-439A-A56D-3AB47BB35B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617-1DD8-4416-B12C-4CAC7663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AED-5B18-4410-B726-94DDF7F6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09C-4442-44E3-809D-4865EF88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42A-07E9-40D8-9C53-EBCF6FFC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C80-FCA5-40B0-808E-856A7743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DF2-6867-40DA-A5D1-85E567C1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48B-B20F-4E11-B826-B3A21879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93C-3250-49E6-BE3D-72F01445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44C-9390-4BD5-A397-FD7BF7E6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A8B-708C-4829-B958-E1D153FB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6F6-9A08-46C2-B5CC-E9841C2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51E-E6C4-4F26-BC4B-70D203B6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A38B-2317-4330-B098-B31E77FEA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28000"/>
          </a:blip>
          <a:srcRect l="0" t="0" r="-1609" b="0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0"/>
            <a:ext cx="932508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исследователь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Удивительный мир кра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Автор: Зотова Наталья Сергеевна, учитель ГБОУ СОШ №1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05"/>
          <p:cNvPicPr/>
          <p:nvPr/>
        </p:nvPicPr>
        <p:blipFill>
          <a:blip r:embed="rId2"/>
          <a:stretch/>
        </p:blipFill>
        <p:spPr>
          <a:xfrm>
            <a:off x="2987640" y="1197000"/>
            <a:ext cx="2160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4:56:36Z</dcterms:created>
  <dc:creator>Neo</dc:creator>
  <dc:description/>
  <dc:language>en-US</dc:language>
  <cp:lastModifiedBy>Наталья</cp:lastModifiedBy>
  <dcterms:modified xsi:type="dcterms:W3CDTF">2012-02-11T22:43:19Z</dcterms:modified>
  <cp:revision>8</cp:revision>
  <dc:subject/>
  <dc:title>Слайд 1</dc:title>
</cp:coreProperties>
</file>