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506-5005-4AF0-9BB7-85C067BA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78F-67C9-4EE7-8865-1B6E54A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E4E-0FC0-4CE4-9834-4A8BB46D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36D-80FB-48B7-BFE2-5C245135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47E-820F-4D23-95BD-0E7A7CB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92A-D5A3-4527-8B62-2B07A8B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D55-38EC-49CD-B2A7-0FC50DF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4F9-C5E3-4461-8D54-4444384E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92E-746C-4FCE-BB35-107299A2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865-F526-41B3-B31B-7038B2D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00B-B98A-4074-BAFE-E58213B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4BF-DC6C-464A-8D1A-2990BAD5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76AD-CEEE-4EC5-B875-D07530004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2280" y="61128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c00000"/>
                </a:solidFill>
                <a:latin typeface="Monotype Corsiva"/>
              </a:rPr>
              <a:t>команда «если – то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3560" y="7353360"/>
            <a:ext cx="54723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ород Лыткар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У СОШ№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пова Е. 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321.gif"/>
          <p:cNvPicPr/>
          <p:nvPr/>
        </p:nvPicPr>
        <p:blipFill>
          <a:blip r:embed="rId1"/>
          <a:stretch/>
        </p:blipFill>
        <p:spPr>
          <a:xfrm>
            <a:off x="836640" y="2627280"/>
            <a:ext cx="528300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840" y="285840"/>
            <a:ext cx="6286320" cy="85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ением какого устройства, полезного инструмента связано изучение инфор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каких профессий могут использовать компьютер в своей рабо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689705852.jpg"/>
          <p:cNvPicPr/>
          <p:nvPr/>
        </p:nvPicPr>
        <p:blipFill>
          <a:blip r:embed="rId2"/>
          <a:stretch/>
        </p:blipFill>
        <p:spPr>
          <a:xfrm>
            <a:off x="3713040" y="1712880"/>
            <a:ext cx="25844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759553703.jpg"/>
          <p:cNvPicPr/>
          <p:nvPr/>
        </p:nvPicPr>
        <p:blipFill>
          <a:blip r:embed="rId3"/>
          <a:stretch/>
        </p:blipFill>
        <p:spPr>
          <a:xfrm>
            <a:off x="255600" y="1768320"/>
            <a:ext cx="27622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4200" y="500040"/>
            <a:ext cx="6429600" cy="82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компьютер догадаться, что у человека есть проблема, и начать действ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из перечисленных действий может выполнить компьют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сти знания, научит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мни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хоте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план действ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действие по план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ить один предмет от  друг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480" y="214200"/>
            <a:ext cx="6357960" cy="84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 может выполнить действия только по заранее составленному плану, который называется 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горитм это подробный ответ на вопрос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шаг в алгоритме принято называть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85480"/>
            <a:ext cx="6858000" cy="514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- подняться, потянуться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- нагнуть, разогнуться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- в ладоши, три хлопка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ю три кивк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- руки шире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- руками помахать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- на место тихо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0_ae11_fdf47dab_XL.jpg"/>
          <p:cNvPicPr/>
          <p:nvPr/>
        </p:nvPicPr>
        <p:blipFill>
          <a:blip r:embed="rId1"/>
          <a:stretch/>
        </p:blipFill>
        <p:spPr>
          <a:xfrm>
            <a:off x="712800" y="4857840"/>
            <a:ext cx="5359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45:21Z</dcterms:created>
  <dc:creator>Елена</dc:creator>
  <dc:description/>
  <dc:language>en-US</dc:language>
  <cp:lastModifiedBy>ф</cp:lastModifiedBy>
  <dcterms:modified xsi:type="dcterms:W3CDTF">2012-02-13T18:23:56Z</dcterms:modified>
  <cp:revision>8</cp:revision>
  <dc:subject/>
  <dc:title>Слайд 1</dc:title>
</cp:coreProperties>
</file>