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D3C-2423-4C52-B74E-F2428500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64B-EB57-4505-AF89-97C2C370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B96-0A2C-4BD6-8816-EE1C3479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BE7-5174-46B6-B656-C67261AB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3BE-0984-48ED-B080-89396099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9B2-516E-41DE-BC47-6B7BAF8A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560-9ECA-4F35-ACDF-C1A88F8D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F70-D2C9-4367-B11A-A992F821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CD4-892E-4891-962E-C590F6FC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B64-C44F-4553-B8F1-06AB13F1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7BC-8215-4A71-874C-A49E8415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A8F-901C-4B29-A709-1C25E2E3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E8A1-FDD9-4C64-8234-A5520E7A149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8672-B0BA-42DE-9019-298629F29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colier/ph04503.jpg" TargetMode="External"/><Relationship Id="rId2" Type="http://schemas.openxmlformats.org/officeDocument/2006/relationships/hyperlink" Target="http://nsc.1september.ru/2002/33/10.jpg" TargetMode="External"/><Relationship Id="rId3" Type="http://schemas.openxmlformats.org/officeDocument/2006/relationships/hyperlink" Target="http://www.magicbaikal.ru/album/burkhan/images/lake-baikal-l26f22.jpg" TargetMode="External"/><Relationship Id="rId4" Type="http://schemas.openxmlformats.org/officeDocument/2006/relationships/hyperlink" Target="http://www.dgt.kz/data/imgdat/sept2008/smile.jpg" TargetMode="External"/><Relationship Id="rId5" Type="http://schemas.openxmlformats.org/officeDocument/2006/relationships/hyperlink" Target="http://www.spikemag.com.au/images/blogphotos/sad+smiley+face%5B1%5D.jpg" TargetMode="External"/><Relationship Id="rId6" Type="http://schemas.openxmlformats.org/officeDocument/2006/relationships/hyperlink" Target="http://www.foxmovies.ru/graphics/n/36/671_047.jpg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9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755640" y="126828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ff"/>
                </a:solidFill>
                <a:latin typeface="Monotype Corsiva"/>
              </a:rPr>
              <a:t>Устная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ff"/>
                </a:solidFill>
                <a:latin typeface="Monotype Corsiva"/>
              </a:rPr>
              <a:t>разминка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ff"/>
                </a:solidFill>
                <a:latin typeface="Monotype Corsiva"/>
              </a:rPr>
              <a:t>на уроке</a:t>
            </a: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24000" y="436680"/>
            <a:ext cx="8491320" cy="61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Используемые материа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Автайкина А.К. Некоторые формы организации устного счета // Математика в школе. – 1991. - №3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Виленкин Н..Я., Жохов В.И.  Математика: Учебник для 5 класса общеобразовательных учреждений. – М.: Мнемозина, 2007.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Жохов В. Методические советы из опыта преподавания в 5-6 классах // Первое сентября. Математика. – 2001.- №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Павленко Т. Графические диктанты и устные контрольные работы // Первое сентября. Математика. – 2001.- №1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Фридман Л.Ф. Изучаем математику: Книга для учащихся 5 – 6 классов общеобразовательных учреждений. – М.: Просвещение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Фальке Л.Я. Час занимательной математики. – М.: Народное образование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Фотография из личного арх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dic.academic.ru/pictures/enc_colier/ph0450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nsc.1september.ru/2002/33/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magicbaikal.ru/album/burkhan/images/lake-baikal-l26f2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dgt.kz/data/imgdat/sept2008/smil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spikemag.com.au/images/blogphotos/sad+smiley+face%5B1%5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foxmovies.ru/graphics/n/36/671_04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.http://images.google.ru/imglanding?imgurl=http://revision.ru/images/authors/2106/ryis_lyigi.jpg&amp;imgrefurl=http://revision.ru/work/14036/&amp;usg=__FYD_sScQZiL8rK239CafV6SXbgg%3D&amp;h=500&amp;w=491&amp;sz=97&amp;hl=ru&amp;tbnid=P2lI6kjiMAQOZM:&amp;tbnh=130&amp;tbnw=128&amp;prev=/images%3Fq%3D%25D0%25BB%25D1%258B%25D0%25B6%25D0%25BD%25D0%25B8%25D0%25BA%26hl%3Dru%26newwindow%3D1&amp;q=%D0%BB%D1%8B%D0%B6%D0%BD%D0%B8%D0%BA&amp;newwindow=1&amp;start=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5. http://www.it-n.ru/communities.aspx?cat_no=4510&amp;lib_no=130597&amp;tmpl=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вченко Е.В. Примеры использования анимационных презентаций для сопровождения уроков математики в 5-6 классе  (картинка карандаш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6"/>
          <p:cNvSpPr/>
          <p:nvPr/>
        </p:nvSpPr>
        <p:spPr>
          <a:xfrm>
            <a:off x="826920" y="476280"/>
            <a:ext cx="324036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efee4"/>
              </a:gs>
              <a:gs pos="50000">
                <a:srgbClr val="ffffff"/>
              </a:gs>
              <a:gs pos="100000">
                <a:srgbClr val="befee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Уровень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2" action="ppaction://hlinksldjump"/>
              </a:rPr>
              <a:t>«Теорет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3" action="ppaction://hlinksldjump"/>
              </a:rPr>
              <a:t>разми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7"/>
          <p:cNvSpPr/>
          <p:nvPr/>
        </p:nvSpPr>
        <p:spPr>
          <a:xfrm>
            <a:off x="5076720" y="476280"/>
            <a:ext cx="324036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efee4"/>
              </a:gs>
              <a:gs pos="50000">
                <a:srgbClr val="f9fffd"/>
              </a:gs>
              <a:gs pos="100000">
                <a:srgbClr val="befee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Уровень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5" action="ppaction://hlinksldjump"/>
              </a:rPr>
              <a:t>«Найти ошиб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9"/>
          <p:cNvSpPr/>
          <p:nvPr/>
        </p:nvSpPr>
        <p:spPr>
          <a:xfrm>
            <a:off x="684360" y="2565360"/>
            <a:ext cx="338292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efee4"/>
              </a:gs>
              <a:gs pos="50000">
                <a:srgbClr val="f5fffb"/>
              </a:gs>
              <a:gs pos="100000">
                <a:srgbClr val="befee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Уровень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7" action="ppaction://hlinksldjump"/>
              </a:rPr>
              <a:t>«Математ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8" action="ppaction://hlinksldjump"/>
              </a:rPr>
              <a:t>цепо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0"/>
          <p:cNvSpPr/>
          <p:nvPr/>
        </p:nvSpPr>
        <p:spPr>
          <a:xfrm>
            <a:off x="5148360" y="2492280"/>
            <a:ext cx="338292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efee4"/>
              </a:gs>
              <a:gs pos="50000">
                <a:srgbClr val="f8fffc"/>
              </a:gs>
              <a:gs pos="100000">
                <a:srgbClr val="befee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Уровень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10" action="ppaction://hlinksldjump"/>
              </a:rPr>
              <a:t>«Матема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11" action="ppaction://hlinksldjump"/>
              </a:rPr>
              <a:t>слал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2"/>
          <p:cNvSpPr/>
          <p:nvPr/>
        </p:nvSpPr>
        <p:spPr>
          <a:xfrm>
            <a:off x="755640" y="4653000"/>
            <a:ext cx="338292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efee4"/>
              </a:gs>
              <a:gs pos="50000">
                <a:srgbClr val="f6fffb"/>
              </a:gs>
              <a:gs pos="100000">
                <a:srgbClr val="befee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Уровень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13" action="ppaction://hlinksldjump"/>
              </a:rPr>
              <a:t>« Это интерес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14" action="ppaction://hlinksldjump"/>
              </a:rPr>
              <a:t>           знать»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3"/>
          <p:cNvSpPr/>
          <p:nvPr/>
        </p:nvSpPr>
        <p:spPr>
          <a:xfrm>
            <a:off x="5219640" y="4653000"/>
            <a:ext cx="338292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efee4"/>
              </a:gs>
              <a:gs pos="50000">
                <a:srgbClr val="eafff6"/>
              </a:gs>
              <a:gs pos="100000">
                <a:srgbClr val="befee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Уровень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16" action="ppaction://hlinksldjump"/>
              </a:rPr>
              <a:t>«Потеряла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Monotype Corsiva"/>
                <a:hlinkClick r:id="rId17" action="ppaction://hlinksldjump"/>
              </a:rPr>
              <a:t>запят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4">
            <a:hlinkClick r:id="" action="ppaction://hlinkshowjump?jump=lastslide"/>
          </p:cNvPr>
          <p:cNvSpPr/>
          <p:nvPr/>
        </p:nvSpPr>
        <p:spPr>
          <a:xfrm>
            <a:off x="8388360" y="6165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5735" y="10800"/>
                </a:moveTo>
                <a:lnTo>
                  <a:pt x="5229" y="17806"/>
                </a:lnTo>
                <a:lnTo>
                  <a:pt x="5229" y="3794"/>
                </a:lnTo>
                <a:close/>
              </a:path>
              <a:path fill="darken" w="24471" h="21600">
                <a:moveTo>
                  <a:pt x="17580" y="3794"/>
                </a:moveTo>
                <a:lnTo>
                  <a:pt x="17580" y="17806"/>
                </a:lnTo>
                <a:lnTo>
                  <a:pt x="19242" y="17806"/>
                </a:lnTo>
                <a:lnTo>
                  <a:pt x="19242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68360" y="1068120"/>
            <a:ext cx="8280360" cy="435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Чтобы сложить (вычесть) две десятичные дроби, над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)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уравнять число знаков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в слагаем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)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записать слагаемые друг под другом так, чтобы запятая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3)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ыполнить сложение(вычитание), не обращая внимания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4)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ставить в ответе запят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222880" y="191628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осле зап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279240" y="321300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была записана под зап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213440" y="407664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а запят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0360" y="4508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од запятой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755640" y="494172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анных дроб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>
            <a:hlinkClick r:id="rId1" action="ppaction://hlinksldjump"/>
          </p:cNvPr>
          <p:cNvSpPr/>
          <p:nvPr/>
        </p:nvSpPr>
        <p:spPr>
          <a:xfrm>
            <a:off x="8317080" y="60213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324000" y="1499040"/>
            <a:ext cx="8424720" cy="3080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Чтобы перемножить две десятичные дроби, над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)выполнить умножение, не обращая внимания на                   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)отделить запятой                        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,   сколько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х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тоит после запятой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2916360" y="2781360"/>
            <a:ext cx="20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запя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4140360" y="321300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столько цифр с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29440" y="3645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в обо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468360" y="40053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множителях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95280" y="1574640"/>
            <a:ext cx="8497800" cy="3080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Чтобы разделить десятичную дробь на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десятичную дробь, над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)в делимом и в делителе пере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столько цифр, сколько их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)выполнить деление                 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4500720" y="393696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а натуральн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684360" y="350352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осле запятой в дели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7095240" y="263988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запят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614880" y="307188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611280" y="260280"/>
            <a:ext cx="525780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Найти ошиб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659640" y="836640"/>
            <a:ext cx="116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12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6876720" y="3068640"/>
            <a:ext cx="14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0,0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6731640" y="4221000"/>
            <a:ext cx="17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0,0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smile"/>
          <p:cNvPicPr/>
          <p:nvPr/>
        </p:nvPicPr>
        <p:blipFill>
          <a:blip r:embed="rId1"/>
          <a:stretch/>
        </p:blipFill>
        <p:spPr>
          <a:xfrm>
            <a:off x="5292720" y="1844640"/>
            <a:ext cx="1297080" cy="9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sad+smiley+face%5B1%5D"/>
          <p:cNvPicPr/>
          <p:nvPr/>
        </p:nvPicPr>
        <p:blipFill>
          <a:blip r:embed="rId2"/>
          <a:stretch/>
        </p:blipFill>
        <p:spPr>
          <a:xfrm>
            <a:off x="5292720" y="9097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smile"/>
          <p:cNvPicPr/>
          <p:nvPr/>
        </p:nvPicPr>
        <p:blipFill>
          <a:blip r:embed="rId3"/>
          <a:stretch/>
        </p:blipFill>
        <p:spPr>
          <a:xfrm>
            <a:off x="4932360" y="5445000"/>
            <a:ext cx="1297080" cy="966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sad+smiley+face%5B1%5D"/>
          <p:cNvPicPr/>
          <p:nvPr/>
        </p:nvPicPr>
        <p:blipFill>
          <a:blip r:embed="rId4"/>
          <a:stretch/>
        </p:blipFill>
        <p:spPr>
          <a:xfrm>
            <a:off x="5724360" y="3141720"/>
            <a:ext cx="640080" cy="639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1" descr="sad+smiley+face%5B1%5D"/>
          <p:cNvPicPr/>
          <p:nvPr/>
        </p:nvPicPr>
        <p:blipFill>
          <a:blip r:embed="rId5"/>
          <a:stretch/>
        </p:blipFill>
        <p:spPr>
          <a:xfrm>
            <a:off x="5508720" y="4221000"/>
            <a:ext cx="639720" cy="640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2"/>
          <p:cNvSpPr/>
          <p:nvPr/>
        </p:nvSpPr>
        <p:spPr>
          <a:xfrm>
            <a:off x="1262520" y="907920"/>
            <a:ext cx="332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7,2 + 5 = 7,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759240" y="1916280"/>
            <a:ext cx="43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0,42 – 0,3 = 0,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471960" y="3068640"/>
            <a:ext cx="47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0,1 – 0,003 = 0,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758520" y="5589720"/>
            <a:ext cx="367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0,5 * 0,4 = 0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759240" y="422100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0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,006 : 10 = 0,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>
            <a:hlinkClick r:id="rId6" action="ppaction://hlinksldjump"/>
          </p:cNvPr>
          <p:cNvSpPr/>
          <p:nvPr/>
        </p:nvSpPr>
        <p:spPr>
          <a:xfrm>
            <a:off x="8317080" y="60213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68"/>
          <p:cNvSpPr/>
          <p:nvPr/>
        </p:nvSpPr>
        <p:spPr>
          <a:xfrm>
            <a:off x="2629080" y="4508640"/>
            <a:ext cx="792000" cy="936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5"/>
          <p:cNvSpPr/>
          <p:nvPr/>
        </p:nvSpPr>
        <p:spPr>
          <a:xfrm>
            <a:off x="4788000" y="2492280"/>
            <a:ext cx="2376360" cy="64944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9"/>
          <p:cNvSpPr/>
          <p:nvPr/>
        </p:nvSpPr>
        <p:spPr>
          <a:xfrm>
            <a:off x="1620720" y="5589720"/>
            <a:ext cx="792360" cy="936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0"/>
          <p:cNvSpPr/>
          <p:nvPr/>
        </p:nvSpPr>
        <p:spPr>
          <a:xfrm flipH="1">
            <a:off x="1044360" y="3933720"/>
            <a:ext cx="647640" cy="503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1"/>
          <p:cNvSpPr/>
          <p:nvPr/>
        </p:nvSpPr>
        <p:spPr>
          <a:xfrm>
            <a:off x="684360" y="333360"/>
            <a:ext cx="792000" cy="936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2"/>
          <p:cNvSpPr/>
          <p:nvPr/>
        </p:nvSpPr>
        <p:spPr>
          <a:xfrm>
            <a:off x="2556000" y="333360"/>
            <a:ext cx="792000" cy="936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3"/>
          <p:cNvSpPr/>
          <p:nvPr/>
        </p:nvSpPr>
        <p:spPr>
          <a:xfrm>
            <a:off x="1620720" y="3141720"/>
            <a:ext cx="792360" cy="936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4"/>
          <p:cNvSpPr/>
          <p:nvPr/>
        </p:nvSpPr>
        <p:spPr>
          <a:xfrm>
            <a:off x="2556000" y="1916280"/>
            <a:ext cx="792000" cy="936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5"/>
          <p:cNvSpPr/>
          <p:nvPr/>
        </p:nvSpPr>
        <p:spPr>
          <a:xfrm>
            <a:off x="684360" y="1916280"/>
            <a:ext cx="792000" cy="936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6"/>
          <p:cNvSpPr/>
          <p:nvPr/>
        </p:nvSpPr>
        <p:spPr>
          <a:xfrm>
            <a:off x="684360" y="4437000"/>
            <a:ext cx="792000" cy="936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7"/>
          <p:cNvSpPr/>
          <p:nvPr/>
        </p:nvSpPr>
        <p:spPr>
          <a:xfrm flipH="1">
            <a:off x="2052720" y="5084640"/>
            <a:ext cx="1440" cy="5050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8"/>
          <p:cNvSpPr/>
          <p:nvPr/>
        </p:nvSpPr>
        <p:spPr>
          <a:xfrm>
            <a:off x="2916360" y="1268280"/>
            <a:ext cx="0" cy="648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9"/>
          <p:cNvSpPr/>
          <p:nvPr/>
        </p:nvSpPr>
        <p:spPr>
          <a:xfrm>
            <a:off x="1087560" y="13399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-2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0"/>
          <p:cNvSpPr/>
          <p:nvPr/>
        </p:nvSpPr>
        <p:spPr>
          <a:xfrm>
            <a:off x="568080" y="386064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1"/>
          <p:cNvSpPr/>
          <p:nvPr/>
        </p:nvSpPr>
        <p:spPr>
          <a:xfrm>
            <a:off x="2588760" y="47628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2"/>
          <p:cNvSpPr/>
          <p:nvPr/>
        </p:nvSpPr>
        <p:spPr>
          <a:xfrm>
            <a:off x="2116080" y="1339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+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3"/>
          <p:cNvSpPr/>
          <p:nvPr/>
        </p:nvSpPr>
        <p:spPr>
          <a:xfrm>
            <a:off x="717120" y="54936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4,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4"/>
          <p:cNvSpPr/>
          <p:nvPr/>
        </p:nvSpPr>
        <p:spPr>
          <a:xfrm>
            <a:off x="1044720" y="1268280"/>
            <a:ext cx="0" cy="719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5"/>
          <p:cNvSpPr/>
          <p:nvPr/>
        </p:nvSpPr>
        <p:spPr>
          <a:xfrm>
            <a:off x="2816280" y="39337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-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6"/>
          <p:cNvSpPr/>
          <p:nvPr/>
        </p:nvSpPr>
        <p:spPr>
          <a:xfrm>
            <a:off x="1981080" y="2492280"/>
            <a:ext cx="0" cy="64764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7"/>
          <p:cNvSpPr/>
          <p:nvPr/>
        </p:nvSpPr>
        <p:spPr>
          <a:xfrm>
            <a:off x="1802880" y="198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8"/>
          <p:cNvSpPr/>
          <p:nvPr/>
        </p:nvSpPr>
        <p:spPr>
          <a:xfrm>
            <a:off x="2340000" y="3933720"/>
            <a:ext cx="504720" cy="57492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9"/>
          <p:cNvSpPr/>
          <p:nvPr/>
        </p:nvSpPr>
        <p:spPr>
          <a:xfrm>
            <a:off x="3276720" y="623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0"/>
          <p:cNvSpPr/>
          <p:nvPr/>
        </p:nvSpPr>
        <p:spPr>
          <a:xfrm>
            <a:off x="1476360" y="5084640"/>
            <a:ext cx="115272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1"/>
          <p:cNvSpPr/>
          <p:nvPr/>
        </p:nvSpPr>
        <p:spPr>
          <a:xfrm>
            <a:off x="1476360" y="2492280"/>
            <a:ext cx="115272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2"/>
          <p:cNvSpPr/>
          <p:nvPr/>
        </p:nvSpPr>
        <p:spPr>
          <a:xfrm>
            <a:off x="1926720" y="465300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3"/>
          <p:cNvSpPr/>
          <p:nvPr/>
        </p:nvSpPr>
        <p:spPr>
          <a:xfrm>
            <a:off x="645480" y="206208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4"/>
          <p:cNvSpPr/>
          <p:nvPr/>
        </p:nvSpPr>
        <p:spPr>
          <a:xfrm>
            <a:off x="2588760" y="206064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4,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5"/>
          <p:cNvSpPr/>
          <p:nvPr/>
        </p:nvSpPr>
        <p:spPr>
          <a:xfrm>
            <a:off x="1851120" y="3357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6"/>
          <p:cNvSpPr/>
          <p:nvPr/>
        </p:nvSpPr>
        <p:spPr>
          <a:xfrm>
            <a:off x="2661840" y="472428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4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7"/>
          <p:cNvSpPr/>
          <p:nvPr/>
        </p:nvSpPr>
        <p:spPr>
          <a:xfrm>
            <a:off x="717120" y="458136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9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8"/>
          <p:cNvSpPr/>
          <p:nvPr/>
        </p:nvSpPr>
        <p:spPr>
          <a:xfrm>
            <a:off x="1653480" y="580716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4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1"/>
          <p:cNvSpPr/>
          <p:nvPr/>
        </p:nvSpPr>
        <p:spPr>
          <a:xfrm>
            <a:off x="3996000" y="333360"/>
            <a:ext cx="4527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ое озеро в нашей стра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з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жемчужиной планеты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5,8 – Онеж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4,7 – Бай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9,1 – Балха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3" descr="lake-baikal-l26f22"/>
          <p:cNvPicPr/>
          <p:nvPr/>
        </p:nvPicPr>
        <p:blipFill>
          <a:blip r:embed="rId1"/>
          <a:srcRect l="0" t="0" r="0" b="10007"/>
          <a:stretch/>
        </p:blipFill>
        <p:spPr>
          <a:xfrm>
            <a:off x="4572000" y="4005360"/>
            <a:ext cx="3871800" cy="230652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5364000" y="1843200"/>
            <a:ext cx="936720" cy="863640"/>
          </a:xfrm>
          <a:prstGeom prst="hexagon">
            <a:avLst>
              <a:gd name="adj" fmla="val 27115"/>
              <a:gd name="vf" fmla="val 11547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4"/>
          <p:cNvSpPr/>
          <p:nvPr/>
        </p:nvSpPr>
        <p:spPr>
          <a:xfrm>
            <a:off x="5796000" y="3932280"/>
            <a:ext cx="0" cy="43164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5"/>
          <p:cNvSpPr/>
          <p:nvPr/>
        </p:nvSpPr>
        <p:spPr>
          <a:xfrm flipH="1">
            <a:off x="6804000" y="4795920"/>
            <a:ext cx="1440" cy="6490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6"/>
          <p:cNvSpPr/>
          <p:nvPr/>
        </p:nvSpPr>
        <p:spPr>
          <a:xfrm>
            <a:off x="7091280" y="835200"/>
            <a:ext cx="576360" cy="1008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7"/>
          <p:cNvSpPr/>
          <p:nvPr/>
        </p:nvSpPr>
        <p:spPr>
          <a:xfrm>
            <a:off x="6054840" y="119556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-4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4851360" y="263520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5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5468400" y="198756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7566120" y="119556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-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1"/>
          <p:cNvSpPr/>
          <p:nvPr/>
        </p:nvSpPr>
        <p:spPr>
          <a:xfrm flipH="1">
            <a:off x="5795640" y="835200"/>
            <a:ext cx="647640" cy="1008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7947000" y="2635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+3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3"/>
          <p:cNvSpPr/>
          <p:nvPr/>
        </p:nvSpPr>
        <p:spPr>
          <a:xfrm>
            <a:off x="5796000" y="2708280"/>
            <a:ext cx="0" cy="360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4"/>
          <p:cNvSpPr/>
          <p:nvPr/>
        </p:nvSpPr>
        <p:spPr>
          <a:xfrm>
            <a:off x="7740720" y="2635200"/>
            <a:ext cx="0" cy="43344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5"/>
          <p:cNvSpPr/>
          <p:nvPr/>
        </p:nvSpPr>
        <p:spPr>
          <a:xfrm>
            <a:off x="8028000" y="616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6"/>
          <p:cNvSpPr/>
          <p:nvPr/>
        </p:nvSpPr>
        <p:spPr>
          <a:xfrm>
            <a:off x="6227640" y="4795920"/>
            <a:ext cx="115272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6698880" y="429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8"/>
          <p:cNvSpPr/>
          <p:nvPr/>
        </p:nvSpPr>
        <p:spPr>
          <a:xfrm>
            <a:off x="6299280" y="187200"/>
            <a:ext cx="936720" cy="863640"/>
          </a:xfrm>
          <a:prstGeom prst="hexagon">
            <a:avLst>
              <a:gd name="adj" fmla="val 27115"/>
              <a:gd name="vf" fmla="val 11547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9"/>
          <p:cNvSpPr/>
          <p:nvPr/>
        </p:nvSpPr>
        <p:spPr>
          <a:xfrm>
            <a:off x="7236000" y="1843200"/>
            <a:ext cx="936360" cy="863640"/>
          </a:xfrm>
          <a:prstGeom prst="hexagon">
            <a:avLst>
              <a:gd name="adj" fmla="val 27105"/>
              <a:gd name="vf" fmla="val 11547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0"/>
          <p:cNvSpPr/>
          <p:nvPr/>
        </p:nvSpPr>
        <p:spPr>
          <a:xfrm>
            <a:off x="5364000" y="3068640"/>
            <a:ext cx="936720" cy="863640"/>
          </a:xfrm>
          <a:prstGeom prst="hexagon">
            <a:avLst>
              <a:gd name="adj" fmla="val 27115"/>
              <a:gd name="vf" fmla="val 11547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1"/>
          <p:cNvSpPr/>
          <p:nvPr/>
        </p:nvSpPr>
        <p:spPr>
          <a:xfrm>
            <a:off x="7307280" y="3068640"/>
            <a:ext cx="936720" cy="863640"/>
          </a:xfrm>
          <a:prstGeom prst="hexagon">
            <a:avLst>
              <a:gd name="adj" fmla="val 27115"/>
              <a:gd name="vf" fmla="val 11547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2"/>
          <p:cNvSpPr/>
          <p:nvPr/>
        </p:nvSpPr>
        <p:spPr>
          <a:xfrm>
            <a:off x="5364000" y="4363920"/>
            <a:ext cx="936720" cy="863640"/>
          </a:xfrm>
          <a:prstGeom prst="hexagon">
            <a:avLst>
              <a:gd name="adj" fmla="val 27115"/>
              <a:gd name="vf" fmla="val 11547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3"/>
          <p:cNvSpPr/>
          <p:nvPr/>
        </p:nvSpPr>
        <p:spPr>
          <a:xfrm>
            <a:off x="7380360" y="4363920"/>
            <a:ext cx="936720" cy="863640"/>
          </a:xfrm>
          <a:prstGeom prst="hexagon">
            <a:avLst>
              <a:gd name="adj" fmla="val 27115"/>
              <a:gd name="vf" fmla="val 11547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4"/>
          <p:cNvSpPr/>
          <p:nvPr/>
        </p:nvSpPr>
        <p:spPr>
          <a:xfrm>
            <a:off x="6372360" y="5443560"/>
            <a:ext cx="936360" cy="863640"/>
          </a:xfrm>
          <a:prstGeom prst="hexagon">
            <a:avLst>
              <a:gd name="adj" fmla="val 27105"/>
              <a:gd name="vf" fmla="val 11547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5"/>
          <p:cNvSpPr/>
          <p:nvPr/>
        </p:nvSpPr>
        <p:spPr>
          <a:xfrm>
            <a:off x="6405120" y="3319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8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6"/>
          <p:cNvSpPr/>
          <p:nvPr/>
        </p:nvSpPr>
        <p:spPr>
          <a:xfrm>
            <a:off x="7812000" y="3932280"/>
            <a:ext cx="0" cy="43164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7"/>
          <p:cNvSpPr/>
          <p:nvPr/>
        </p:nvSpPr>
        <p:spPr>
          <a:xfrm>
            <a:off x="5032440" y="38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8"/>
          <p:cNvSpPr/>
          <p:nvPr/>
        </p:nvSpPr>
        <p:spPr>
          <a:xfrm>
            <a:off x="8126280" y="386064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-5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9"/>
          <p:cNvSpPr/>
          <p:nvPr/>
        </p:nvSpPr>
        <p:spPr>
          <a:xfrm>
            <a:off x="7413120" y="198756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0"/>
          <p:cNvSpPr/>
          <p:nvPr/>
        </p:nvSpPr>
        <p:spPr>
          <a:xfrm>
            <a:off x="5666040" y="3211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1"/>
          <p:cNvSpPr/>
          <p:nvPr/>
        </p:nvSpPr>
        <p:spPr>
          <a:xfrm>
            <a:off x="7281360" y="321156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10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2"/>
          <p:cNvSpPr/>
          <p:nvPr/>
        </p:nvSpPr>
        <p:spPr>
          <a:xfrm>
            <a:off x="5666040" y="4508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3"/>
          <p:cNvSpPr/>
          <p:nvPr/>
        </p:nvSpPr>
        <p:spPr>
          <a:xfrm>
            <a:off x="7682040" y="4508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6674040" y="5587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5">
            <a:hlinkClick r:id="rId1" action="ppaction://hlinksldjump"/>
          </p:cNvPr>
          <p:cNvSpPr/>
          <p:nvPr/>
        </p:nvSpPr>
        <p:spPr>
          <a:xfrm>
            <a:off x="8317080" y="60213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395280" y="404640"/>
            <a:ext cx="4572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ая птица может 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дну водоё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7– Оля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2,3 – С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7,1 – Ласточ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8" descr="671_047"/>
          <p:cNvPicPr/>
          <p:nvPr/>
        </p:nvPicPr>
        <p:blipFill>
          <a:blip r:embed="rId2"/>
          <a:stretch/>
        </p:blipFill>
        <p:spPr>
          <a:xfrm>
            <a:off x="395280" y="3716280"/>
            <a:ext cx="3816360" cy="262908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150" name="Rectangle 69"/>
          <p:cNvSpPr/>
          <p:nvPr/>
        </p:nvSpPr>
        <p:spPr>
          <a:xfrm>
            <a:off x="1332000" y="1413000"/>
            <a:ext cx="2160360" cy="649080"/>
          </a:xfrm>
          <a:prstGeom prst="rect">
            <a:avLst/>
          </a:prstGeom>
          <a:noFill/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4"/>
          <p:cNvGrpSpPr/>
          <p:nvPr/>
        </p:nvGrpSpPr>
        <p:grpSpPr>
          <a:xfrm>
            <a:off x="358920" y="692280"/>
            <a:ext cx="8784720" cy="5306400"/>
            <a:chOff x="358920" y="692280"/>
            <a:chExt cx="8784720" cy="5306400"/>
          </a:xfrm>
        </p:grpSpPr>
        <p:sp>
          <p:nvSpPr>
            <p:cNvPr id="152" name="AutoShape 5"/>
            <p:cNvSpPr/>
            <p:nvPr/>
          </p:nvSpPr>
          <p:spPr>
            <a:xfrm>
              <a:off x="358920" y="692280"/>
              <a:ext cx="8784720" cy="53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>
              <a:off x="506520" y="1373040"/>
              <a:ext cx="268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506520" y="2597400"/>
              <a:ext cx="2680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8"/>
            <p:cNvSpPr/>
            <p:nvPr/>
          </p:nvSpPr>
          <p:spPr>
            <a:xfrm>
              <a:off x="506520" y="3821760"/>
              <a:ext cx="2680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9"/>
            <p:cNvSpPr/>
            <p:nvPr/>
          </p:nvSpPr>
          <p:spPr>
            <a:xfrm>
              <a:off x="506520" y="5046120"/>
              <a:ext cx="2680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0"/>
            <p:cNvSpPr/>
            <p:nvPr/>
          </p:nvSpPr>
          <p:spPr>
            <a:xfrm flipV="1">
              <a:off x="6017040" y="2053080"/>
              <a:ext cx="2679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6017040" y="3277800"/>
              <a:ext cx="253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2"/>
            <p:cNvSpPr/>
            <p:nvPr/>
          </p:nvSpPr>
          <p:spPr>
            <a:xfrm>
              <a:off x="6017040" y="4502520"/>
              <a:ext cx="267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3"/>
            <p:cNvSpPr/>
            <p:nvPr/>
          </p:nvSpPr>
          <p:spPr>
            <a:xfrm>
              <a:off x="6017040" y="5726880"/>
              <a:ext cx="267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4"/>
            <p:cNvSpPr/>
            <p:nvPr/>
          </p:nvSpPr>
          <p:spPr>
            <a:xfrm>
              <a:off x="3187800" y="1373040"/>
              <a:ext cx="2829240" cy="68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 flipV="1">
              <a:off x="3187800" y="2053080"/>
              <a:ext cx="2829240" cy="54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6"/>
            <p:cNvSpPr/>
            <p:nvPr/>
          </p:nvSpPr>
          <p:spPr>
            <a:xfrm flipV="1">
              <a:off x="3187800" y="3277800"/>
              <a:ext cx="2829240" cy="54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7"/>
            <p:cNvSpPr/>
            <p:nvPr/>
          </p:nvSpPr>
          <p:spPr>
            <a:xfrm flipV="1">
              <a:off x="3187800" y="4502520"/>
              <a:ext cx="2829240" cy="54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8"/>
            <p:cNvSpPr/>
            <p:nvPr/>
          </p:nvSpPr>
          <p:spPr>
            <a:xfrm>
              <a:off x="3187800" y="2597400"/>
              <a:ext cx="2829240" cy="68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>
              <a:off x="3187800" y="3821760"/>
              <a:ext cx="2829240" cy="68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0"/>
            <p:cNvSpPr/>
            <p:nvPr/>
          </p:nvSpPr>
          <p:spPr>
            <a:xfrm>
              <a:off x="3187800" y="5046120"/>
              <a:ext cx="2829240" cy="68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3187800" y="964440"/>
              <a:ext cx="470160" cy="25560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22"/>
            <p:cNvSpPr/>
            <p:nvPr/>
          </p:nvSpPr>
          <p:spPr>
            <a:xfrm>
              <a:off x="6017040" y="1644840"/>
              <a:ext cx="469800" cy="25560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3"/>
            <p:cNvSpPr/>
            <p:nvPr/>
          </p:nvSpPr>
          <p:spPr>
            <a:xfrm>
              <a:off x="3187800" y="2053440"/>
              <a:ext cx="470160" cy="25416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24"/>
            <p:cNvSpPr/>
            <p:nvPr/>
          </p:nvSpPr>
          <p:spPr>
            <a:xfrm>
              <a:off x="6017040" y="2869200"/>
              <a:ext cx="469800" cy="25560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5"/>
            <p:cNvSpPr/>
            <p:nvPr/>
          </p:nvSpPr>
          <p:spPr>
            <a:xfrm>
              <a:off x="3187800" y="3412800"/>
              <a:ext cx="470160" cy="25560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6"/>
            <p:cNvSpPr/>
            <p:nvPr/>
          </p:nvSpPr>
          <p:spPr>
            <a:xfrm>
              <a:off x="6017040" y="4093920"/>
              <a:ext cx="469800" cy="25560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7"/>
            <p:cNvSpPr/>
            <p:nvPr/>
          </p:nvSpPr>
          <p:spPr>
            <a:xfrm>
              <a:off x="3187800" y="4637520"/>
              <a:ext cx="470160" cy="25560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8"/>
            <p:cNvSpPr/>
            <p:nvPr/>
          </p:nvSpPr>
          <p:spPr>
            <a:xfrm>
              <a:off x="6017040" y="5317920"/>
              <a:ext cx="469800" cy="2559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3187800" y="1236240"/>
              <a:ext cx="1800" cy="13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0"/>
            <p:cNvSpPr/>
            <p:nvPr/>
          </p:nvSpPr>
          <p:spPr>
            <a:xfrm flipV="1">
              <a:off x="6017040" y="1916640"/>
              <a:ext cx="0" cy="13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1"/>
            <p:cNvSpPr/>
            <p:nvPr/>
          </p:nvSpPr>
          <p:spPr>
            <a:xfrm flipV="1">
              <a:off x="3187800" y="2325240"/>
              <a:ext cx="1800" cy="27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 flipV="1">
              <a:off x="6017040" y="3141000"/>
              <a:ext cx="0" cy="13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V="1">
              <a:off x="3187800" y="3684960"/>
              <a:ext cx="1800" cy="1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 flipV="1">
              <a:off x="6017040" y="4365720"/>
              <a:ext cx="0" cy="13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5"/>
            <p:cNvSpPr/>
            <p:nvPr/>
          </p:nvSpPr>
          <p:spPr>
            <a:xfrm flipV="1">
              <a:off x="3187800" y="4910760"/>
              <a:ext cx="1800" cy="1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6"/>
            <p:cNvSpPr/>
            <p:nvPr/>
          </p:nvSpPr>
          <p:spPr>
            <a:xfrm flipV="1">
              <a:off x="6017040" y="5589720"/>
              <a:ext cx="0" cy="13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37"/>
          <p:cNvSpPr/>
          <p:nvPr/>
        </p:nvSpPr>
        <p:spPr>
          <a:xfrm>
            <a:off x="647640" y="83664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 + 1,2 = 7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8"/>
          <p:cNvSpPr/>
          <p:nvPr/>
        </p:nvSpPr>
        <p:spPr>
          <a:xfrm>
            <a:off x="574560" y="2060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,8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с =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6480000" y="155592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 – 1,5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1"/>
          <p:cNvSpPr/>
          <p:nvPr/>
        </p:nvSpPr>
        <p:spPr>
          <a:xfrm>
            <a:off x="430200" y="3284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8,6 – р = 3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6551640" y="5229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3"/>
          <p:cNvSpPr/>
          <p:nvPr/>
        </p:nvSpPr>
        <p:spPr>
          <a:xfrm>
            <a:off x="574560" y="4508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: 20,2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4"/>
          <p:cNvSpPr/>
          <p:nvPr/>
        </p:nvSpPr>
        <p:spPr>
          <a:xfrm>
            <a:off x="6480000" y="3932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,9 + х = 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1439640" y="8366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6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6"/>
          <p:cNvSpPr/>
          <p:nvPr/>
        </p:nvSpPr>
        <p:spPr>
          <a:xfrm>
            <a:off x="6913440" y="15559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7"/>
          <p:cNvSpPr/>
          <p:nvPr/>
        </p:nvSpPr>
        <p:spPr>
          <a:xfrm>
            <a:off x="1512720" y="1989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9"/>
          <p:cNvSpPr/>
          <p:nvPr/>
        </p:nvSpPr>
        <p:spPr>
          <a:xfrm>
            <a:off x="6984360" y="508464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0"/>
          <p:cNvSpPr/>
          <p:nvPr/>
        </p:nvSpPr>
        <p:spPr>
          <a:xfrm>
            <a:off x="1655640" y="321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7056360" y="38606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0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1"/>
          <p:cNvSpPr/>
          <p:nvPr/>
        </p:nvSpPr>
        <p:spPr>
          <a:xfrm>
            <a:off x="7054920" y="2708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2"/>
          <p:cNvSpPr/>
          <p:nvPr/>
        </p:nvSpPr>
        <p:spPr>
          <a:xfrm>
            <a:off x="6623640" y="277956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 : b = 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3"/>
          <p:cNvSpPr/>
          <p:nvPr/>
        </p:nvSpPr>
        <p:spPr>
          <a:xfrm>
            <a:off x="1438200" y="4437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6,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5">
            <a:hlinkClick r:id="rId1" action="ppaction://hlinksldjump"/>
          </p:cNvPr>
          <p:cNvSpPr/>
          <p:nvPr/>
        </p:nvSpPr>
        <p:spPr>
          <a:xfrm>
            <a:off x="8244000" y="616572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1" descr="ryis_lyigi"/>
          <p:cNvPicPr/>
          <p:nvPr/>
        </p:nvPicPr>
        <p:blipFill>
          <a:blip r:embed="rId2"/>
          <a:srcRect l="0" t="0" r="0" b="8823"/>
          <a:stretch/>
        </p:blipFill>
        <p:spPr>
          <a:xfrm>
            <a:off x="3059280" y="0"/>
            <a:ext cx="1966680" cy="18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0.17604 0.07269 E">
                                      <p:cBhvr>
                                        <p:cTn id="32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604 0.07269 L -0.03941 0.18912 E">
                                      <p:cBhvr>
                                        <p:cTn id="33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18912 L 0.16545 0.28356 E">
                                      <p:cBhvr>
                                        <p:cTn id="344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0.28357 L -0.05226 0.36667 E">
                                      <p:cBhvr>
                                        <p:cTn id="35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6 0.36667 L 0.18125 0.45116 E">
                                      <p:cBhvr>
                                        <p:cTn id="36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25 0.45116 L -0.05487 0.54583 E">
                                      <p:cBhvr>
                                        <p:cTn id="38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54583 L 0.18941 0.62963 E">
                                      <p:cBhvr>
                                        <p:cTn id="39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403 0.62894 L -0.00278 0.71482 E">
                                      <p:cBhvr>
                                        <p:cTn id="404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Object 7"/>
              <p:cNvSpPr txBox="1"/>
              <p:nvPr/>
            </p:nvSpPr>
            <p:spPr>
              <a:xfrm>
                <a:off x="468360" y="1197000"/>
                <a:ext cx="27702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,6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Text Box 12"/>
          <p:cNvSpPr/>
          <p:nvPr/>
        </p:nvSpPr>
        <p:spPr>
          <a:xfrm>
            <a:off x="3133800" y="5661000"/>
            <a:ext cx="4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V="1">
            <a:off x="4500720" y="1628640"/>
            <a:ext cx="136656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5940360" y="1628640"/>
            <a:ext cx="57636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6516720" y="1773360"/>
            <a:ext cx="122400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 flipH="1">
            <a:off x="7164000" y="2709720"/>
            <a:ext cx="57636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 flipH="1">
            <a:off x="5866920" y="3429000"/>
            <a:ext cx="129708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H="1" flipV="1">
            <a:off x="4859280" y="3573000"/>
            <a:ext cx="100800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4500720" y="2565360"/>
            <a:ext cx="35856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 flipH="1">
            <a:off x="3779640" y="404640"/>
            <a:ext cx="18716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 flipH="1">
            <a:off x="4500360" y="477720"/>
            <a:ext cx="1150920" cy="44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5651640" y="477720"/>
            <a:ext cx="288720" cy="46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5651640" y="477720"/>
            <a:ext cx="649080" cy="331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5651640" y="477720"/>
            <a:ext cx="2233440" cy="44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5651640" y="477720"/>
            <a:ext cx="1800000" cy="259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5651640" y="404640"/>
            <a:ext cx="2952720" cy="324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9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0"/>
          <p:cNvSpPr/>
          <p:nvPr/>
        </p:nvSpPr>
        <p:spPr>
          <a:xfrm>
            <a:off x="4717800" y="3645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1"/>
          <p:cNvSpPr/>
          <p:nvPr/>
        </p:nvSpPr>
        <p:spPr>
          <a:xfrm>
            <a:off x="5437080" y="4078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2"/>
          <p:cNvSpPr/>
          <p:nvPr/>
        </p:nvSpPr>
        <p:spPr>
          <a:xfrm>
            <a:off x="6300720" y="3860640"/>
            <a:ext cx="28728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6734160" y="3502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4"/>
          <p:cNvSpPr/>
          <p:nvPr/>
        </p:nvSpPr>
        <p:spPr>
          <a:xfrm>
            <a:off x="7742160" y="2133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7451640" y="3068640"/>
            <a:ext cx="7207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221080" y="1197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6445080" y="1341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3493800" y="393372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0"/>
          <p:cNvSpPr/>
          <p:nvPr/>
        </p:nvSpPr>
        <p:spPr>
          <a:xfrm>
            <a:off x="4141440" y="47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1"/>
          <p:cNvSpPr/>
          <p:nvPr/>
        </p:nvSpPr>
        <p:spPr>
          <a:xfrm>
            <a:off x="5436720" y="501336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2"/>
          <p:cNvSpPr/>
          <p:nvPr/>
        </p:nvSpPr>
        <p:spPr>
          <a:xfrm>
            <a:off x="7598160" y="486900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3"/>
          <p:cNvSpPr/>
          <p:nvPr/>
        </p:nvSpPr>
        <p:spPr>
          <a:xfrm>
            <a:off x="8460720" y="3502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4"/>
          <p:cNvSpPr/>
          <p:nvPr/>
        </p:nvSpPr>
        <p:spPr>
          <a:xfrm>
            <a:off x="6517800" y="5013360"/>
            <a:ext cx="3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5"/>
          <p:cNvSpPr/>
          <p:nvPr/>
        </p:nvSpPr>
        <p:spPr>
          <a:xfrm>
            <a:off x="7742160" y="364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7" descr="ph04503"/>
          <p:cNvPicPr/>
          <p:nvPr/>
        </p:nvPicPr>
        <p:blipFill>
          <a:blip r:embed="rId1"/>
          <a:stretch/>
        </p:blipFill>
        <p:spPr>
          <a:xfrm>
            <a:off x="468360" y="5013360"/>
            <a:ext cx="2448000" cy="153180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235" name="AutoShape 50">
            <a:hlinkClick r:id="rId2" action="ppaction://hlinksldjump"/>
          </p:cNvPr>
          <p:cNvSpPr/>
          <p:nvPr/>
        </p:nvSpPr>
        <p:spPr>
          <a:xfrm>
            <a:off x="8317080" y="616572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1"/>
              <p:cNvSpPr txBox="1"/>
              <p:nvPr/>
            </p:nvSpPr>
            <p:spPr>
              <a:xfrm>
                <a:off x="324000" y="404640"/>
                <a:ext cx="360036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52"/>
              <p:cNvSpPr txBox="1"/>
              <p:nvPr/>
            </p:nvSpPr>
            <p:spPr>
              <a:xfrm>
                <a:off x="324000" y="1989000"/>
                <a:ext cx="33480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53"/>
              <p:cNvSpPr txBox="1"/>
              <p:nvPr/>
            </p:nvSpPr>
            <p:spPr>
              <a:xfrm>
                <a:off x="468360" y="2709720"/>
                <a:ext cx="2817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,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54"/>
              <p:cNvSpPr txBox="1"/>
              <p:nvPr/>
            </p:nvSpPr>
            <p:spPr>
              <a:xfrm>
                <a:off x="468360" y="3429000"/>
                <a:ext cx="29653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,5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55"/>
              <p:cNvSpPr txBox="1"/>
              <p:nvPr/>
            </p:nvSpPr>
            <p:spPr>
              <a:xfrm>
                <a:off x="539640" y="4149720"/>
                <a:ext cx="2527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1,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56"/>
          <p:cNvSpPr/>
          <p:nvPr/>
        </p:nvSpPr>
        <p:spPr>
          <a:xfrm>
            <a:off x="3852720" y="56610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7"/>
          <p:cNvSpPr/>
          <p:nvPr/>
        </p:nvSpPr>
        <p:spPr>
          <a:xfrm>
            <a:off x="4501800" y="5661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5149440" y="5661000"/>
            <a:ext cx="6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9"/>
          <p:cNvSpPr/>
          <p:nvPr/>
        </p:nvSpPr>
        <p:spPr>
          <a:xfrm>
            <a:off x="5868720" y="5661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0"/>
          <p:cNvSpPr/>
          <p:nvPr/>
        </p:nvSpPr>
        <p:spPr>
          <a:xfrm>
            <a:off x="6589800" y="566100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1"/>
          <p:cNvGrpSpPr/>
          <p:nvPr/>
        </p:nvGrpSpPr>
        <p:grpSpPr>
          <a:xfrm>
            <a:off x="7629120" y="4392720"/>
            <a:ext cx="1093680" cy="2199600"/>
            <a:chOff x="7629120" y="4392720"/>
            <a:chExt cx="1093680" cy="2199600"/>
          </a:xfrm>
        </p:grpSpPr>
        <p:sp>
          <p:nvSpPr>
            <p:cNvPr id="247" name="Freeform 62"/>
            <p:cNvSpPr/>
            <p:nvPr/>
          </p:nvSpPr>
          <p:spPr>
            <a:xfrm flipH="1" rot="186600">
              <a:off x="7718040" y="4416480"/>
              <a:ext cx="937440" cy="21520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3"/>
            <p:cNvSpPr/>
            <p:nvPr/>
          </p:nvSpPr>
          <p:spPr>
            <a:xfrm flipH="1" rot="186600">
              <a:off x="7640280" y="6154200"/>
              <a:ext cx="236520" cy="4183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4"/>
            <p:cNvSpPr/>
            <p:nvPr/>
          </p:nvSpPr>
          <p:spPr>
            <a:xfrm flipH="1" rot="186600">
              <a:off x="7638120" y="6398280"/>
              <a:ext cx="90000" cy="1591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7725960" y="4399560"/>
              <a:ext cx="996840" cy="1860120"/>
              <a:chOff x="7725960" y="4399560"/>
              <a:chExt cx="996840" cy="1860120"/>
            </a:xfrm>
          </p:grpSpPr>
          <p:sp>
            <p:nvSpPr>
              <p:cNvPr id="251" name="Freeform 66"/>
              <p:cNvSpPr/>
              <p:nvPr/>
            </p:nvSpPr>
            <p:spPr>
              <a:xfrm flipH="1" rot="186600">
                <a:off x="7773480" y="4440600"/>
                <a:ext cx="818640" cy="17978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7"/>
              <p:cNvSpPr/>
              <p:nvPr/>
            </p:nvSpPr>
            <p:spPr>
              <a:xfrm flipH="1" rot="18469800">
                <a:off x="8617320" y="4384800"/>
                <a:ext cx="46800" cy="17028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18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42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627280" y="5372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5867280" y="4437000"/>
            <a:ext cx="28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2411280" y="3429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5219640" y="242100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, 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826920" y="155736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84360" y="534240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0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39640" y="4042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Где поставить запятую, чт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равенство было вер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10"/>
          <p:cNvPicPr/>
          <p:nvPr/>
        </p:nvPicPr>
        <p:blipFill>
          <a:blip r:embed="rId1"/>
          <a:stretch/>
        </p:blipFill>
        <p:spPr>
          <a:xfrm>
            <a:off x="7020000" y="333360"/>
            <a:ext cx="1877760" cy="10288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543240" y="1508040"/>
            <a:ext cx="394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2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+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 1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8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3638880" y="2349360"/>
            <a:ext cx="487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3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+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0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8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0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398160" y="3357720"/>
            <a:ext cx="48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 –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0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3854880" y="4365720"/>
            <a:ext cx="48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0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 –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 4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8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 1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7">
            <a:hlinkClick r:id="rId2" action="ppaction://hlinksldjump"/>
          </p:cNvPr>
          <p:cNvSpPr/>
          <p:nvPr/>
        </p:nvSpPr>
        <p:spPr>
          <a:xfrm>
            <a:off x="7596360" y="6237360"/>
            <a:ext cx="466560" cy="39348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8" y="10800"/>
                </a:moveTo>
                <a:lnTo>
                  <a:pt x="19811" y="3794"/>
                </a:lnTo>
                <a:lnTo>
                  <a:pt x="1981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9">
            <a:hlinkClick r:id="" action="ppaction://hlinkshowjump?jump=lastslide"/>
          </p:cNvPr>
          <p:cNvSpPr/>
          <p:nvPr/>
        </p:nvSpPr>
        <p:spPr>
          <a:xfrm>
            <a:off x="8388360" y="6237360"/>
            <a:ext cx="468360" cy="39348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25707" h="21600">
                <a:moveTo>
                  <a:pt x="0" y="0"/>
                </a:moveTo>
                <a:lnTo>
                  <a:pt x="25707" y="0"/>
                </a:lnTo>
                <a:lnTo>
                  <a:pt x="25707" y="21600"/>
                </a:lnTo>
                <a:lnTo>
                  <a:pt x="0" y="21600"/>
                </a:lnTo>
                <a:close/>
              </a:path>
              <a:path fill="lightenLess" w="25707" h="21600">
                <a:moveTo>
                  <a:pt x="0" y="0"/>
                </a:moveTo>
                <a:lnTo>
                  <a:pt x="25707" y="0"/>
                </a:lnTo>
                <a:lnTo>
                  <a:pt x="24307" y="1400"/>
                </a:lnTo>
                <a:lnTo>
                  <a:pt x="1400" y="1400"/>
                </a:lnTo>
                <a:close/>
              </a:path>
              <a:path fill="darken" w="25707" h="21600">
                <a:moveTo>
                  <a:pt x="25707" y="0"/>
                </a:moveTo>
                <a:lnTo>
                  <a:pt x="25707" y="21600"/>
                </a:lnTo>
                <a:lnTo>
                  <a:pt x="24307" y="20200"/>
                </a:lnTo>
                <a:lnTo>
                  <a:pt x="24307" y="1400"/>
                </a:lnTo>
                <a:close/>
              </a:path>
              <a:path fill="darkenLess" w="25707" h="21600">
                <a:moveTo>
                  <a:pt x="25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07" y="20200"/>
                </a:lnTo>
                <a:close/>
              </a:path>
              <a:path fill="lighten" w="25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07" h="21600">
                <a:moveTo>
                  <a:pt x="16352" y="10800"/>
                </a:moveTo>
                <a:lnTo>
                  <a:pt x="5847" y="17806"/>
                </a:lnTo>
                <a:lnTo>
                  <a:pt x="5847" y="3794"/>
                </a:lnTo>
                <a:close/>
              </a:path>
              <a:path fill="darken" w="25707" h="21600">
                <a:moveTo>
                  <a:pt x="18197" y="3794"/>
                </a:moveTo>
                <a:lnTo>
                  <a:pt x="18197" y="17806"/>
                </a:lnTo>
                <a:lnTo>
                  <a:pt x="19860" y="17806"/>
                </a:lnTo>
                <a:lnTo>
                  <a:pt x="19860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67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2:53:41Z</dcterms:created>
  <dc:creator>Колобова О.А.</dc:creator>
  <dc:description/>
  <dc:language>en-US</dc:language>
  <cp:lastModifiedBy>1</cp:lastModifiedBy>
  <dcterms:modified xsi:type="dcterms:W3CDTF">2012-02-12T12:53:13Z</dcterms:modified>
  <cp:revision>42</cp:revision>
  <dc:subject/>
  <dc:title>Устная разминка</dc:title>
</cp:coreProperties>
</file>