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glass.wav" ContentType="audio/x-wav"/>
  <Override PartName="/ppt/media/image4.wmf" ContentType="image/x-wmf"/>
  <Override PartName="/ppt/media/chimes.wav" ContentType="audio/x-wav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134-BB0C-40CE-B071-8EFA54E0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8EAF-F5DD-4571-B468-FFE54E7B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A244-7D4D-47CF-87D1-84EA30D9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3064-19E2-46DD-8376-FF3EB00D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B779-4293-4311-A80C-1C4A5FF5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CE37-086B-46E5-9BA5-40D4AE44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5D4A-F0C6-4AA8-BE3B-5A9B8C31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DEE5-31F0-4521-9D34-8A30B19B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E3F7-F8F1-446D-8E66-58E288FA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EEC9-088F-464C-B018-3D1FC71C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2CA9-0FAD-4959-AF33-B4DFE586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7398-5ED1-413B-9ACB-F4EACD39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877F-1D76-455C-9EA5-5843C35D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4CC9-2BDB-42A0-8D9C-53928D74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FC47-6159-4EF2-AC00-E803900A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96D2-384B-4867-9242-BF69574B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BF8B-BEE2-45AA-AC70-B7CF4BBB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3E9D-5562-40BC-B320-2A73F802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44A-4CBB-4B4E-9F8D-70B4FE87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27F3-2D1F-4CAF-80BC-4EF1D7DA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8410-1FCA-4B2B-BE74-EEC6DCBA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2759-F20D-4103-8A76-5786F473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61F3-EEA4-499B-B730-D81AF462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384C-009A-4CB7-AB1E-2FFA7BAA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6303-F684-436C-AFED-838F9915CFD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4EEB-53D1-423E-A322-3ADBAFB43F6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 чём измеряется выносливость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35080" y="1981080"/>
            <a:ext cx="291132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00720" y="486900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ницын В.П., учитель МОУ «Миасская СОШ №2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Виды вынослив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Аэробная вынослив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Скоростная (анаэробная) вынослив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Общая вынослив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Методы развития вынослив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Используемая литерату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5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6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иды выносливост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24280" y="2743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Аэробная вынослив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Скоростная (анаэробная) вынослив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Общая вынослив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2527200"/>
            <a:ext cx="3809880" cy="302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эробная выносливость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Это способность организма длительное время работать в состоянии, когда потребность в кислороде соответствует его поглощени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Измеряется в мышечной работе, совершённой за данное врем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2073240"/>
            <a:ext cx="3809880" cy="39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коростная (анаэробная) выносливость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Это способность человека выполнять работу за счёт бескислородных источников образования энерг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Измеряется во времени потраченном на выполнение данной работ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2344680"/>
            <a:ext cx="3809880" cy="33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5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бщая выносливость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Это способность организма к продолжительным нагрузка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Измеряется в способности работы без утомл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0440" y="1981080"/>
            <a:ext cx="24606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етоды развития выносливост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Равномерный метод: заключается в длительной, а главное, в непрерывной рабо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Повторный метод: заключается в повторном выполнении работы заданной мощности с определённым интервалом отдых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Интервальный метод: заключается в повторном выполнении работы с минимальной продолжительностью отдых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95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спользуемая литератур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Купер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Аэробика для хорошего самочувствия.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Каганов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Развиваем выносливость.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Синяков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Гимнастика дыхания.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Браун, Греэхем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Цель.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9:08:39Z</dcterms:created>
  <dc:creator>Света</dc:creator>
  <dc:description/>
  <dc:language>en-US</dc:language>
  <cp:lastModifiedBy>SamLab.ws</cp:lastModifiedBy>
  <dcterms:modified xsi:type="dcterms:W3CDTF">2003-02-10T21:13:42Z</dcterms:modified>
  <cp:revision>6</cp:revision>
  <dc:subject/>
  <dc:title>В чём измеряется выносливость?</dc:title>
</cp:coreProperties>
</file>