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DA5-3118-4E3F-98A7-9097C515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836-1F56-4B2D-95BD-C1F2150A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7F9-4F6F-46BD-B3AB-81E7F54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59B-1FCE-48F0-BCE6-F00679C5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9A5-6411-45C9-8CDF-0F4EA282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FF8-A906-44A0-8E9C-669582D1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09E-9564-4A03-A868-8085500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386-F8AA-42CA-B5A7-68DA9DBF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E36-6FAC-4E51-9B74-BDA47485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A67-7AF8-4630-B399-D67E39F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1B0-4398-4084-B992-A2E34536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451-FF17-42CA-AF50-A9D15724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C0D6-1060-4A74-891F-1FE2CE6A3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3860640"/>
            <a:ext cx="4824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66"/>
                </a:solidFill>
                <a:latin typeface="Arial"/>
              </a:rPr>
              <a:t>ДЕНЬ  ПТИ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чьи рекор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быстрая  птица С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рость более 300 км в час при стремительном пикир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альная скорость-190км в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38720" y="195732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роль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кушка съедает за день 39 кузнечиков, до 40 гусениц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а съедает за ночь 7-8 мышей. Одна её семья уничтожила за год 10 тысяч мышей и т.о спасла 20 тонн з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ворцы поедают много майских жуков, слизней и других вред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ица круглый год отыскивает на деревьях вредных насекомых, их яйца и лич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19360" cy="81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101080" y="476280"/>
            <a:ext cx="819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 г.- появилась в России Красная кн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ие известные нам птицы исчезают с Земли каждый год, каждый день, кажд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гите пти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тицы- наши верные друзь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1936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20000" y="549360"/>
            <a:ext cx="819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 Если случайно окажешься возле гнезда, не прикасайся к нему, сразу же уходи. Иначе  родители птиц могут насовсем покинуть гнез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 Не подходи близко к гнёздам птиц. По твоим следам их могут    отыскать и разорить хищник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 Не разоряй птичье гнез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 Если у тебя есть собака, не пускай её гулять в лесу и парке весной или начале лета. Она легко может поймать плохо летающих пте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 Не лови и не уноси домой здоровых пте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24000" y="333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859280" y="260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596360" y="260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227640" y="333360"/>
            <a:ext cx="10479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усть птичьи голо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молкнут нико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223236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84720" y="3645000"/>
            <a:ext cx="223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ыполнена учителем начальных классов МОУ СОШ№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ыхаловой Т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Встречай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любовью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стаи птичь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шла 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риходом весны вернулись к нам наши пернатые друз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мелодичные,  звонкие , весёлые песни и яркое оперение оживляют природу. Без птиц природа мер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34080" y="1600200"/>
            <a:ext cx="366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1739880" cy="1396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42920" y="1196640"/>
            <a:ext cx="6048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преля  Международный день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6 г.  подписана Международная конвенция об охране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г. в России стали отмечать День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г. год Зиморо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аворо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одновременно со скворц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етают звонкие голосис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аворонки. Найдет он ямку где-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ь в поле- вот и его гнездо.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ички у этих птиц под цвет травы хлебов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жется, весна сама в развед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ала птицу, и, пригнувши вет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й грач дорогу верную откры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строит свое гнездо на вершине дер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способен  уничтожить за день 400 червей, вредителей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вор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и прилетают самцы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ки. Это очень полезные п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живут там, где живет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ят за его полем, очищают от вредных букашек, поедают бабочек, жу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ут скворцы в домиках- сквореч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с увлечением громко пою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00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асточ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юга ласточки явили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етели к нам вес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опотливо закруж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 беседкой вырез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ышен писк и щебет птич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там смотрит из гнез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атся ласточки с добы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ам нужна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чьи рекор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маленькая птица КОЛИБ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 менее 2 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е маленькое гнездо( меньше половинки скорлупки грецкого орех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е маленькие яйца (всего 2 миллиграм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5621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0:02:48Z</dcterms:created>
  <dc:creator>Алякритская </dc:creator>
  <dc:description/>
  <dc:language>en-US</dc:language>
  <cp:lastModifiedBy>Светик</cp:lastModifiedBy>
  <dcterms:modified xsi:type="dcterms:W3CDTF">2009-03-07T19:00:00Z</dcterms:modified>
  <cp:revision>18</cp:revision>
  <dc:subject/>
  <dc:title>Слайд 1</dc:title>
</cp:coreProperties>
</file>