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gif" ContentType="image/gif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10D3-DAA4-47B5-AF03-686F8F75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A99B-F8C4-44AF-9A2E-1D7F5BCF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DB38-1BDB-4CDE-8E62-573ABA0A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7865-D045-433E-BC25-E97CBF88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10D8-F131-4316-8E12-0C93C489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CDBD-766C-402A-8819-1EDEB6E1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D6C1-4E75-42FA-9CAE-81D62E57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9142-32C7-4ACA-9231-C1605770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EE5D-1A69-4C38-9FC1-64086146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87D2-8C9E-46EB-B8E7-0AFD876C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8285-327B-41BB-9C2B-819F9718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852D-CF93-4580-8269-5EF95B47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2432-00F8-469B-AB2D-C2821AB41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95280" y="3860640"/>
            <a:ext cx="48243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66"/>
                </a:solidFill>
                <a:latin typeface="Arial"/>
              </a:rPr>
              <a:t>ДЕНЬ  ПТИ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тичьи рекорд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ая быстрая  птица СО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рость более 300 км в час при стремительном пикиров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ксимальная скорость-190км в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238720" y="1957320"/>
            <a:ext cx="2857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кологическая роль пт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кушка съедает за день 39 кузнечиков, до 40 гусениц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ва съедает за ночь 7-8 мышей. Одна её семья уничтожила за год 10 тысяч мышей и т.о спасла 20 тонн зер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ворцы поедают много майских жуков, слизней и других вредных насеко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ница круглый год отыскивает на деревьях вредных насекомых, их яйца и личи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819360" cy="819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8101080" y="476280"/>
            <a:ext cx="8190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асная кни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4 г.- появилась в России Красная кни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гие известные нам птицы исчезают с Земли каждый год, каждый день, кажд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регите пти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тицы- наши верные друзья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819360" cy="819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020000" y="549360"/>
            <a:ext cx="8190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   Если случайно окажешься возле гнезда, не прикасайся к нему, сразу же уходи. Иначе  родители птиц могут насовсем покинуть гнезд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   Не подходи близко к гнёздам птиц. По твоим следам их могут    отыскать и разорить хищники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   Не разоряй птичье гнез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   Если у тебя есть собака, не пускай её гулять в лесу и парке весной или начале лета. Она легко может поймать плохо летающих птенц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   Не лови и не уноси домой здоровых птенц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492360" y="33336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2124000" y="33336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859280" y="26028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7596360" y="26028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6227640" y="333360"/>
            <a:ext cx="10479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Пусть птичьи голо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смолкнут никогд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6920" y="3716280"/>
            <a:ext cx="2232360" cy="1689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659640" y="476280"/>
            <a:ext cx="1944720" cy="1512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419640" y="3645000"/>
            <a:ext cx="2232000" cy="1689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6084720" y="3645000"/>
            <a:ext cx="22323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выполнена учителем начальных классов МОУ СОШ№ 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лыхаловой Т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Встречай   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любовью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стаи птичь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шла вес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приходом весны вернулись к нам наши пернатые друзь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х мелодичные,  звонкие , весёлые песни и яркое оперение оживляют природу. Без птиц природа мер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834080" y="1600200"/>
            <a:ext cx="366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1739880" cy="1396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42920" y="1196640"/>
            <a:ext cx="6048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апреля  Международный день пт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6 г.  подписана Международная конвенция об охране пт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6 г. в России стали отмечать День пт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 г. год Зимород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аворон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ой одновременно со скворц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летают звонкие голосист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аворонки. Найдет он ямку где- 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дь в поле- вот и его гнездо.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ички у этих птиц под цвет травы хлебов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2376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ч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кажется, весна сама в развед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ала птицу, и, пригнувши ветк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й грач дорогу верную откры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ч строит свое гнездо на вершине дер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ч способен  уничтожить за день 400 червей, вредителей раст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1280" y="115920"/>
            <a:ext cx="2663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ворц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ыми прилетают самцы, а зат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ки. Это очень полезные птиц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и живут там, где живет челов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едят за его полем, очищают от вредных букашек, поедают бабочек, жу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вут скворцы в домиках- скворечни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и с увлечением громко поют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700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асточ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юга ласточки явилис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летели к нам весн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лопотливо закружи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д беседкой вырез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ышен писк и щебет птич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то там смотрит из гнез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чатся ласточки с добыч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лышам нужна е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тичьи рекор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ая маленькая птица КОЛИБ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с менее 2 гра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ое маленькое гнездо( меньше половинки скорлупки грецкого орех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ые маленькие яйца (всего 2 миллиграмм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648320" y="2562120"/>
            <a:ext cx="40384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10:02:48Z</dcterms:created>
  <dc:creator>Алякритская </dc:creator>
  <dc:description/>
  <dc:language>en-US</dc:language>
  <cp:lastModifiedBy>Светик</cp:lastModifiedBy>
  <dcterms:modified xsi:type="dcterms:W3CDTF">2009-03-07T19:00:00Z</dcterms:modified>
  <cp:revision>18</cp:revision>
  <dc:subject/>
  <dc:title>Слайд 1</dc:title>
</cp:coreProperties>
</file>