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2D1-34A6-480F-8E91-96B262B2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46F-E092-42E6-A19D-395A91A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CF7-B94B-413D-943B-B70ECCD6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602-D76E-487B-A0FA-D4F542F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F7A-EE79-4165-B379-AE95107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404-E764-4528-8108-A00F39C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B13-9485-4085-9574-B05E8359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8FF-3292-4E57-9F71-987F4107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7ED-A61C-444B-B8ED-A7597B2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55F-B504-425A-820C-E5A3D45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F90-B030-4D32-9822-AA3284B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FF9-6F5A-4CA4-9173-A1528C4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9B0-4744-44F4-920A-CCBBD94D1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festival.1september.ru/articles/518408/" TargetMode="External"/><Relationship Id="rId4" Type="http://schemas.openxmlformats.org/officeDocument/2006/relationships/hyperlink" Target="http://www.junior.ru/students/erina/index_drygba.htm" TargetMode="External"/><Relationship Id="rId5" Type="http://schemas.openxmlformats.org/officeDocument/2006/relationships/hyperlink" Target="http://www.junior.ru/students/erina/index_drygba.htm" TargetMode="External"/><Relationship Id="rId6" Type="http://schemas.openxmlformats.org/officeDocument/2006/relationships/hyperlink" Target="http://www.junior.ru/students/erina/index_drygba.htm" TargetMode="External"/><Relationship Id="rId7" Type="http://schemas.openxmlformats.org/officeDocument/2006/relationships/hyperlink" Target="http://www.junior.ru/students/erina/index_drygba.htm" TargetMode="External"/><Relationship Id="rId8" Type="http://schemas.openxmlformats.org/officeDocument/2006/relationships/hyperlink" Target="http://www.junior.ru/students/erina/index_drygba.htm" TargetMode="External"/><Relationship Id="rId9" Type="http://schemas.openxmlformats.org/officeDocument/2006/relationships/hyperlink" Target="http://www.junior.ru/students/erina/index_drygba.htm" TargetMode="External"/><Relationship Id="rId10" Type="http://schemas.openxmlformats.org/officeDocument/2006/relationships/hyperlink" Target="http://www.junior.ru/students/erina/index_drygba.htm" TargetMode="External"/><Relationship Id="rId11" Type="http://schemas.openxmlformats.org/officeDocument/2006/relationships/hyperlink" Target="http://www.junior.ru/students/erina/index_drygba.htm" TargetMode="External"/><Relationship Id="rId12" Type="http://schemas.openxmlformats.org/officeDocument/2006/relationships/hyperlink" Target="http://www.junior.ru/students/erina/index_drygba.htm" TargetMode="External"/><Relationship Id="rId13" Type="http://schemas.openxmlformats.org/officeDocument/2006/relationships/hyperlink" Target="http://www.junior.ru/students/erina/index_drygba.htm" TargetMode="External"/><Relationship Id="rId14" Type="http://schemas.openxmlformats.org/officeDocument/2006/relationships/hyperlink" Target="http://www.junior.ru/students/erina/index_drygba.htm" TargetMode="External"/><Relationship Id="rId15" Type="http://schemas.openxmlformats.org/officeDocument/2006/relationships/hyperlink" Target="http://www.junior.ru/students/erina/index_drygba.htm" TargetMode="External"/><Relationship Id="rId16" Type="http://schemas.openxmlformats.org/officeDocument/2006/relationships/hyperlink" Target="http://www.junior.ru/students/erina/index_drygba.htm" TargetMode="External"/><Relationship Id="rId17" Type="http://schemas.openxmlformats.org/officeDocument/2006/relationships/hyperlink" Target="http://www.junior.ru/students/erina/index_drygba.htm" TargetMode="External"/><Relationship Id="rId18" Type="http://schemas.openxmlformats.org/officeDocument/2006/relationships/hyperlink" Target="http://www.junior.ru/students/erina/index_drygba.htm" TargetMode="External"/><Relationship Id="rId19" Type="http://schemas.openxmlformats.org/officeDocument/2006/relationships/hyperlink" Target="http://www.junior.ru/students/erina/index_drygba.htm" TargetMode="External"/><Relationship Id="rId20" Type="http://schemas.openxmlformats.org/officeDocument/2006/relationships/hyperlink" Target="http://www.junior.ru/students/erina/index_drygba.htm" TargetMode="External"/><Relationship Id="rId21" Type="http://schemas.openxmlformats.org/officeDocument/2006/relationships/hyperlink" Target="http://o-druzhbe.ru/" TargetMode="External"/><Relationship Id="rId22" Type="http://schemas.openxmlformats.org/officeDocument/2006/relationships/hyperlink" Target="http://letter.com.ua/aphorism/friend1.php" TargetMode="External"/><Relationship Id="rId23" Type="http://schemas.openxmlformats.org/officeDocument/2006/relationships/hyperlink" Target="http://letter.com.ua/aphorism/friend1.php" TargetMode="External"/><Relationship Id="rId24" Type="http://schemas.openxmlformats.org/officeDocument/2006/relationships/hyperlink" Target="http://letter.com.ua/aphorism/friend1.php" TargetMode="External"/><Relationship Id="rId25" Type="http://schemas.openxmlformats.org/officeDocument/2006/relationships/hyperlink" Target="http://letter.com.ua/aphorism/friend1.php" TargetMode="External"/><Relationship Id="rId26" Type="http://schemas.openxmlformats.org/officeDocument/2006/relationships/hyperlink" Target="http://letter.com.ua/aphorism/friend1.php" TargetMode="External"/><Relationship Id="rId27" Type="http://schemas.openxmlformats.org/officeDocument/2006/relationships/hyperlink" Target="http://letter.com.ua/aphorism/friend1.php" TargetMode="External"/><Relationship Id="rId28" Type="http://schemas.openxmlformats.org/officeDocument/2006/relationships/hyperlink" Target="http://letter.com.ua/aphorism/friend1.php" TargetMode="External"/><Relationship Id="rId29" Type="http://schemas.openxmlformats.org/officeDocument/2006/relationships/hyperlink" Target="http://letter.com.ua/aphorism/friend1.php" TargetMode="External"/><Relationship Id="rId30" Type="http://schemas.openxmlformats.org/officeDocument/2006/relationships/hyperlink" Target="http://letter.com.ua/aphorism/friend1.php" TargetMode="External"/><Relationship Id="rId31" Type="http://schemas.openxmlformats.org/officeDocument/2006/relationships/hyperlink" Target="http://letter.com.ua/aphorism/friend1.php" TargetMode="External"/><Relationship Id="rId32" Type="http://schemas.openxmlformats.org/officeDocument/2006/relationships/hyperlink" Target="http://letter.com.ua/aphorism/friend1.php" TargetMode="External"/><Relationship Id="rId33" Type="http://schemas.openxmlformats.org/officeDocument/2006/relationships/hyperlink" Target="http://letter.com.ua/aphorism/friend1.php" TargetMode="External"/><Relationship Id="rId34" Type="http://schemas.openxmlformats.org/officeDocument/2006/relationships/hyperlink" Target="http://letter.com.ua/aphorism/friend1.php" TargetMode="External"/><Relationship Id="rId35" Type="http://schemas.openxmlformats.org/officeDocument/2006/relationships/image" Target="../media/image8.jpeg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o-druzhbe.ru/" TargetMode="External"/><Relationship Id="rId4" Type="http://schemas.openxmlformats.org/officeDocument/2006/relationships/hyperlink" Target="http://lifeglobe.net/blogs/details?id=572" TargetMode="External"/><Relationship Id="rId5" Type="http://schemas.openxmlformats.org/officeDocument/2006/relationships/hyperlink" Target="http://lifeglobe.net/blogs/details?id=572" TargetMode="External"/><Relationship Id="rId6" Type="http://schemas.openxmlformats.org/officeDocument/2006/relationships/hyperlink" Target="http://lifeglobe.net/blogs/details?id=572" TargetMode="External"/><Relationship Id="rId7" Type="http://schemas.openxmlformats.org/officeDocument/2006/relationships/hyperlink" Target="http://lifeglobe.net/blogs/details?id=572" TargetMode="External"/><Relationship Id="rId8" Type="http://schemas.openxmlformats.org/officeDocument/2006/relationships/hyperlink" Target="http://lifeglobe.net/blogs/details?id=572" TargetMode="External"/><Relationship Id="rId9" Type="http://schemas.openxmlformats.org/officeDocument/2006/relationships/hyperlink" Target="http://lifeglobe.net/blogs/details?id=572" TargetMode="External"/><Relationship Id="rId10" Type="http://schemas.openxmlformats.org/officeDocument/2006/relationships/hyperlink" Target="http://lifeglobe.net/blogs/details?id=572" TargetMode="External"/><Relationship Id="rId11" Type="http://schemas.openxmlformats.org/officeDocument/2006/relationships/hyperlink" Target="http://lifeglobe.net/blogs/details?id=572" TargetMode="External"/><Relationship Id="rId12" Type="http://schemas.openxmlformats.org/officeDocument/2006/relationships/hyperlink" Target="http://lifeglobe.net/blogs/details?id=572" TargetMode="External"/><Relationship Id="rId13" Type="http://schemas.openxmlformats.org/officeDocument/2006/relationships/hyperlink" Target="http://lifeglobe.net/blogs/details?id=572" TargetMode="External"/><Relationship Id="rId14" Type="http://schemas.openxmlformats.org/officeDocument/2006/relationships/hyperlink" Target="http://lifeglobe.net/blogs/details?id=572" TargetMode="External"/><Relationship Id="rId15" Type="http://schemas.openxmlformats.org/officeDocument/2006/relationships/hyperlink" Target="http://lifeglobe.net/blogs/details?id=572" TargetMode="External"/><Relationship Id="rId16" Type="http://schemas.openxmlformats.org/officeDocument/2006/relationships/hyperlink" Target="http://www.historyonesong.com/2010/12/druzhba_1/" TargetMode="External"/><Relationship Id="rId17" Type="http://schemas.openxmlformats.org/officeDocument/2006/relationships/image" Target="../media/image11.jpe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forum.lki.ru/" TargetMode="External"/><Relationship Id="rId4" Type="http://schemas.openxmlformats.org/officeDocument/2006/relationships/hyperlink" Target="http://tanuchka.narod.ru/" TargetMode="External"/><Relationship Id="rId5" Type="http://schemas.openxmlformats.org/officeDocument/2006/relationships/hyperlink" Target="http://tanuchka.narod.ru/fanTEST1.html" TargetMode="External"/><Relationship Id="rId6" Type="http://schemas.openxmlformats.org/officeDocument/2006/relationships/hyperlink" Target="http://help4family.ru/" TargetMode="External"/><Relationship Id="rId7" Type="http://schemas.openxmlformats.org/officeDocument/2006/relationships/hyperlink" Target="http://help4family.ru/test-druzhba/" TargetMode="External"/><Relationship Id="rId8" Type="http://schemas.openxmlformats.org/officeDocument/2006/relationships/hyperlink" Target="http://festival.1september.ru/" TargetMode="External"/><Relationship Id="rId9" Type="http://schemas.openxmlformats.org/officeDocument/2006/relationships/hyperlink" Target="http://www.chetvertnoy.ru/" TargetMode="External"/><Relationship Id="rId10" Type="http://schemas.openxmlformats.org/officeDocument/2006/relationships/hyperlink" Target="http://www.chetvertnoy.ru/archive/5/5-89.shtml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28760" y="642960"/>
            <a:ext cx="8286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Дружба</a:t>
            </a:r>
            <a:r>
              <a:rPr b="1" i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 близ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ношения, основанные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заимном довери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вязанности, общ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“Толковый сло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усского языка” С. И. Ожего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020400" y="1429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ритерии оценки веб – кв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817560"/>
          <a:ext cx="9144000" cy="6040440"/>
        </p:xfrm>
        <a:graphic>
          <a:graphicData uri="http://schemas.openxmlformats.org/drawingml/2006/table">
            <a:tbl>
              <a:tblPr/>
              <a:tblGrid>
                <a:gridCol w="1432080"/>
                <a:gridCol w="2708280"/>
                <a:gridCol w="2592360"/>
                <a:gridCol w="2411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тлич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орош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довлетворит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нимание 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бота демонстрирует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очное понимание зада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ащиеся хорошо знают музыкальные фрагменты и могут соотнести их с живописными полотнам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работу включены как материал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 теме, так и материал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 имеющие отношения к ней; используется ограниченное количество источников информ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работе используются материалы, не имеющие непосредственного отношения к теме; информация неточна, используется один источни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ыполнение 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териал отобран правильно и сгруппирован тематически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 составлении отчётов демонстрируется владение информаци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з различных источников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бота оформлена графически грамот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 вся информация взята из достоверных источников; часть информации неточна или не имеет прямого отношения к тем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бота не содержит достаточного количества материалов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борка материалов случайная; отсутствуют попытки оценить или проанализировать информаци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476280"/>
          <a:ext cx="9144000" cy="5394240"/>
        </p:xfrm>
        <a:graphic>
          <a:graphicData uri="http://schemas.openxmlformats.org/drawingml/2006/table">
            <a:tbl>
              <a:tblPr/>
              <a:tblGrid>
                <a:gridCol w="1432080"/>
                <a:gridCol w="2708280"/>
                <a:gridCol w="2592360"/>
                <a:gridCol w="24112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е материалы имеют непосредственное отношение к теме проекта. Информация представлена чётко и логично, хорошо структурирована и отредактирова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ормация точно структурирована, однако, не осмыслена и не проанализирована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териал логически не выстроен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 подан внешне не привлекатель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ворческий под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бота отличается яркой индивидуальностью и выражает точку зрения микрогрупп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бота оформлена привлекательно, однако есть сходство с другими работам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ащиеся просто копируют информацию из предложенных источников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 них отсутствует критический взгляд на проблему, работа мало связана с ответом на главный вопрос веб-кве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4200" y="285840"/>
            <a:ext cx="41911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ы дружбу не купишь за деньги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ё не найдешь просто так,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дь дружба, как золото цен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так же не всем по зуба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а - это то, что не каждый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жизнь себе сможет сыскать,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 если нашел, береги же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дай никому отобр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Рисунок13.jpg"/>
          <p:cNvPicPr/>
          <p:nvPr/>
        </p:nvPicPr>
        <p:blipFill>
          <a:blip r:embed="rId1"/>
          <a:stretch/>
        </p:blipFill>
        <p:spPr>
          <a:xfrm>
            <a:off x="4143240" y="214200"/>
            <a:ext cx="48657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Рисунок4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285840" y="54000"/>
            <a:ext cx="4286160" cy="68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ружба? Каждый знает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и спрашивать смешно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дружба» что обозначает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поход вдвоём в кино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хороший пас в футболе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подсказку у доски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защиту в драке школьной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осто средство от тоски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может быть, молчанье в классе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руг плохое совершит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м, Коля стены разукрасил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сё видел, но молчи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 это дружба, если кто-то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дома не хотел решать: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не было охоты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жок даёт ему списать…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может, дружба - это если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риятно говорит всегда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свою пересыпая лестью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скажет резкость никогд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ружба, каждый знает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и спрашивать смешно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всё же, что обозначает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о? Значит что оно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— это если друг твой болен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может в школу приходить, —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643280" y="-446040"/>
            <a:ext cx="48578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щать его по доброй воле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уроки приносить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ливо объяснять заданья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взять часть его забо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вать ему своё вниманье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, недели, месяц или год..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руг твой что-то, к сожаленью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сделал или же сказал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честно, прямо, без сомненья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у высказать ему в глаза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понять он всё не сможет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обидится он вдруг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равно сказать ты правду должен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на то и нужен лучший друг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в радости и дружба в горе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следнее всегда отдас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не тот, кто льстит, а тот, кто спорит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не обманет, не предаст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никогда границ не знает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еград для дружбы никаких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на земле объединяет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етей — и белых, и цветных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- это если пишут дети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детям из другой страны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— это мир на всей планете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ирот, без ужасов вой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Рисунок (18).jpg"/>
          <p:cNvPicPr/>
          <p:nvPr/>
        </p:nvPicPr>
        <p:blipFill>
          <a:blip r:embed="rId1"/>
          <a:stretch/>
        </p:blipFill>
        <p:spPr>
          <a:xfrm>
            <a:off x="-111240" y="0"/>
            <a:ext cx="396900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928800" y="50007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нять и пояснить что такое дружба и почему ею нужно до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4500720" y="357120"/>
            <a:ext cx="421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дружбе размышляли во все времена. О ней письменно и устно излагали свои мысли и поэты, и писатели, и ученые, и философы, и крестьяне, и дворяне. Например, философ Сократ говорил так: «Никакое общение между людьми невозможно без дружбы». Люди сложили о дружбе много пословиц и погово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85840" y="214200"/>
            <a:ext cx="8501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редполагает групповой вид деятельности: на каждую роль приблизительно 5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человека. Всего— 4 груп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йствия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берите себе одну из предложенных р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ерейдите к досье по вашей роли и изуч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Изучите список информацион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Исследуйте информационные ресурсы по своей 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Не забывайте о творческой фантазии, из представленных работ выберите наиболее удачные вари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Оформите свой отчет в виде соответствующей страницы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После того, как работа будет завершена, все группы должны собраться вместе, обсудить результаты и подвести итоги работы в форме "круглого сто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Оформите выводы по работе и представьте общий отчет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Рисунок6.jpg"/>
          <p:cNvPicPr/>
          <p:nvPr/>
        </p:nvPicPr>
        <p:blipFill>
          <a:blip r:embed="rId1"/>
          <a:stretch/>
        </p:blipFill>
        <p:spPr>
          <a:xfrm>
            <a:off x="7000920" y="1428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5000760" y="428760"/>
            <a:ext cx="3714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Лингви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Истор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Экспер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Прак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Критерии оценки веб-кве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Рисунок7.png"/>
          <p:cNvPicPr/>
          <p:nvPr/>
        </p:nvPicPr>
        <p:blipFill>
          <a:blip r:embed="rId6"/>
          <a:stretch/>
        </p:blipFill>
        <p:spPr>
          <a:xfrm>
            <a:off x="-214200" y="285840"/>
            <a:ext cx="48830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1" descr=""/>
          <p:cNvPicPr/>
          <p:nvPr/>
        </p:nvPicPr>
        <p:blipFill>
          <a:blip r:embed="rId1"/>
          <a:stretch/>
        </p:blipFill>
        <p:spPr>
          <a:xfrm>
            <a:off x="5029200" y="450720"/>
            <a:ext cx="278604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2944800" y="1652760"/>
            <a:ext cx="6010200" cy="3084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28760" y="4365360"/>
            <a:ext cx="76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festival.1september.ru/articles/51840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junio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student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erin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5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6"/>
              </a:rPr>
              <a:t>index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7"/>
              </a:rPr>
              <a:t>_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8"/>
              </a:rPr>
              <a:t>drygb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0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1"/>
              </a:rPr>
              <a:t>http://o-druzhb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3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4"/>
              </a:rPr>
              <a:t>lett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5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6"/>
              </a:rPr>
              <a:t>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7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8"/>
              </a:rPr>
              <a:t>u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9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0"/>
              </a:rPr>
              <a:t>aphoris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1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2"/>
              </a:rPr>
              <a:t>friend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3"/>
              </a:rPr>
              <a:t>1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4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Рисунок8.jpg"/>
          <p:cNvPicPr/>
          <p:nvPr/>
        </p:nvPicPr>
        <p:blipFill>
          <a:blip r:embed="rId35"/>
          <a:stretch/>
        </p:blipFill>
        <p:spPr>
          <a:xfrm>
            <a:off x="142920" y="785880"/>
            <a:ext cx="2670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-122400" y="384120"/>
            <a:ext cx="2737080" cy="1292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201600" y="1652760"/>
            <a:ext cx="6016680" cy="3084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28760" y="4792680"/>
            <a:ext cx="764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-druzhb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lifeglob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blog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detail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?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d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=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historyonesong.com/2010/12/druzhba_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Рисунок9.jpg"/>
          <p:cNvPicPr/>
          <p:nvPr/>
        </p:nvPicPr>
        <p:blipFill>
          <a:blip r:embed="rId17"/>
          <a:stretch/>
        </p:blipFill>
        <p:spPr>
          <a:xfrm>
            <a:off x="5657760" y="1143000"/>
            <a:ext cx="34862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1" descr=""/>
          <p:cNvPicPr/>
          <p:nvPr/>
        </p:nvPicPr>
        <p:blipFill>
          <a:blip r:embed="rId1"/>
          <a:stretch/>
        </p:blipFill>
        <p:spPr>
          <a:xfrm>
            <a:off x="3170160" y="317520"/>
            <a:ext cx="2730600" cy="12920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-208080" y="1652760"/>
            <a:ext cx="5943600" cy="307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428760" y="455940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orum.lk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tanuchka.narod.ru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›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anTEST1.html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elp4family.ru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›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test-druzhba/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festival.1september.ru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›articles/41044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chetvertnoy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›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archive/5/5-89.shtm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Рисунок10.jpg"/>
          <p:cNvPicPr/>
          <p:nvPr/>
        </p:nvPicPr>
        <p:blipFill>
          <a:blip r:embed="rId11"/>
          <a:stretch/>
        </p:blipFill>
        <p:spPr>
          <a:xfrm>
            <a:off x="5786280" y="1571760"/>
            <a:ext cx="30718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1523880" y="384120"/>
            <a:ext cx="2737080" cy="12924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-268200" y="1494000"/>
            <a:ext cx="5943600" cy="307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428760" y="455940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na-zelenskaj.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litra.ru/composition/get/coid/00506881209112290676/woid/0002400118477307074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TAl4ccVC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Рисунок12.jpg"/>
          <p:cNvPicPr/>
          <p:nvPr/>
        </p:nvPicPr>
        <p:blipFill>
          <a:blip r:embed="rId3"/>
          <a:stretch/>
        </p:blipFill>
        <p:spPr>
          <a:xfrm>
            <a:off x="5522760" y="208080"/>
            <a:ext cx="36450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21:15:55Z</dcterms:created>
  <dc:creator>юсоф</dc:creator>
  <dc:description/>
  <dc:language>en-US</dc:language>
  <cp:lastModifiedBy>учитель1</cp:lastModifiedBy>
  <dcterms:modified xsi:type="dcterms:W3CDTF">2011-12-22T07:09:03Z</dcterms:modified>
  <cp:revision>30</cp:revision>
  <dc:subject/>
  <dc:title>Слайд 1</dc:title>
</cp:coreProperties>
</file>