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E658-5E05-44C7-BC30-362CE849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E466-0148-467E-9DE7-73BCCB8C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3F3D-429C-4978-B6A4-77910AE6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47DE-CC53-4436-B9FC-ECF6660D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F165-9B35-47AD-8102-14A582A1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462B-9154-4971-B300-61AF5DE8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F9D8-E74C-4CBE-A6AA-795285E4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93AC-E9EB-48E5-9586-514B6A1B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82BF-E3CC-4187-A673-B6E5578C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6EA2-2437-4115-AE5A-D41C0CFE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B236-9A9C-48C2-8C68-DF1D9B37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765F-F615-4BAA-804D-8D0E8C88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E2B4-BA7A-4C89-ABE1-E032584C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5C10-3D89-49B4-83EE-AF4870F3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0A3C-6D6A-4EB6-8630-1ECE1DD9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4560-1FEA-4A74-A637-3C110E54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D77A-FE76-47A4-9004-1AD73D03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A5AE-6A16-4712-BE48-8776AD77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A5D0-6B24-4B9B-BEAC-862AC08D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0D00-3035-4E80-B65A-0D597459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85A1-372E-43C4-8B04-07D45AB1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D253-3539-4852-A58B-2AC7A8F4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E122-2935-45B5-8F86-55990FED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E09C-C699-436F-BBA2-B3E4251A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13C3-A92D-4A2F-8F5E-7E32422B9F0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E61F-198E-4B98-AD9A-062169D6EBD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elidov.edu.ru/" TargetMode="External"/><Relationship Id="rId2" Type="http://schemas.openxmlformats.org/officeDocument/2006/relationships/hyperlink" Target="http://www.nmedik.ru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71640" y="404640"/>
            <a:ext cx="691344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нциклопедия слова -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124000" y="1916280"/>
            <a:ext cx="4464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>
                    <a:alpha val="7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емляника</a:t>
            </a:r>
            <a:endParaRPr b="0" lang="en-US" sz="1800" spc="1" strike="noStrike">
              <a:ln w="0">
                <a:noFill/>
              </a:ln>
              <a:solidFill>
                <a:srgbClr val="ff0000">
                  <a:alpha val="7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/>
          <p:nvPr/>
        </p:nvSpPr>
        <p:spPr>
          <a:xfrm>
            <a:off x="4644000" y="3787920"/>
            <a:ext cx="408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втор : Пустобаева О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.г.т. Алексеевско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Руководитель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итрофанова Т.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507960" y="3699000"/>
            <a:ext cx="37036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24000" y="2852640"/>
            <a:ext cx="88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3068640"/>
            <a:ext cx="860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32000" y="620640"/>
            <a:ext cx="684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ово в русском фольклор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348000" y="2133720"/>
            <a:ext cx="216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гад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3132000"/>
            <a:ext cx="79059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На припеке у пеньков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Много тонких стебельк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Каждый тонкий стебеле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Держит алый огоне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Разгребаем стебельк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обираем огонь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8880" y="-458640"/>
            <a:ext cx="838512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3772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тоят Ермачки-               Стоит Егор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расные колпачки.           В красной ермолк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то ни пройдет,              Кто ни пройдет-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сяк поклон отдает.      Всяк наклони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расна, сладка, души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стет низко, к земле близк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16640" y="5300640"/>
            <a:ext cx="558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Росла за горой, за пригорк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Земляничка с земляненк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59280" y="4005360"/>
            <a:ext cx="32414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ороговор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8880" y="-84852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4762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43280" y="404640"/>
            <a:ext cx="338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ослови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2060640"/>
            <a:ext cx="82645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Родная земля-земляника, чужая-черни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Где земляника, там и зме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 доме, где едят землянику и чернику, врачам делать нече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Земляника красна-сеять овес напрас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Ради земляники земле поклонишься не ра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7991640" cy="55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 окном метель мел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доме я была од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Что-то грустно мне вдруг ст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Я о лете помечт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учик солнца  мне б в  ладо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ождик тёплый , в речке волны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емляничное варенье- это солнца наваждение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Я тихонечко вздох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ожкой солнце зачерпну.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Оля Пустобае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19000" y="476280"/>
            <a:ext cx="750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лово земляника в моём творчестве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141300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Земляничная фантаз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3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3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3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3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3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3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3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3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3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8880" y="-84852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2602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341360"/>
            <a:ext cx="830088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 результате исследования я убедилась, что «историческим корнем» слова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земляника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является слово земл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 этом словарном слове 2 безударные гласные –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е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я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сследование помогло мне сделать вывод ,что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лова- родственники слова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земляника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образованные суффиксальным способ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земл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ян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земл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як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являются проверочными безударной гласной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42920" y="333360"/>
            <a:ext cx="633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казательство гипотез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458640"/>
            <a:ext cx="838512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333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19708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476280"/>
            <a:ext cx="82803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лова- родственники, образованные с помощью приставки-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под, по, на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являются проверочными               безударной гласной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на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зем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под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зем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по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зем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4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Я капелька лета на тоненькой нож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Плетут для меня кузовки и лукош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то любит меня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Тот и рад поклонить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А имя дала мне родная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ЗЕМЛИЦА</a:t>
            </a:r>
            <a:r>
              <a:rPr b="0" i="1" lang="en-US" sz="2400" spc="-1" strike="noStrike">
                <a:solidFill>
                  <a:srgbClr val="99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8b7de"/>
                </a:solidFill>
                <a:latin typeface="Arial Black"/>
              </a:rPr>
              <a:t>Чтобы ошибок не делать в словах,</a:t>
            </a:r>
            <a:br>
              <a:rPr sz="3200"/>
            </a:br>
            <a:r>
              <a:rPr b="1" lang="ru-RU" sz="3200" spc="-1" strike="noStrike">
                <a:solidFill>
                  <a:srgbClr val="78b7de"/>
                </a:solidFill>
                <a:latin typeface="Arial Black"/>
              </a:rPr>
              <a:t>Запомним </a:t>
            </a:r>
            <a:r>
              <a:rPr b="1" lang="en-US" sz="3200" spc="-1" strike="noStrike">
                <a:solidFill>
                  <a:srgbClr val="78b7de"/>
                </a:solidFill>
                <a:latin typeface="Arial Black"/>
              </a:rPr>
              <a:t>  </a:t>
            </a:r>
            <a:r>
              <a:rPr b="1" lang="ru-RU" sz="3200" spc="-1" strike="noStrike">
                <a:solidFill>
                  <a:srgbClr val="78b7de"/>
                </a:solidFill>
                <a:latin typeface="Arial Black"/>
              </a:rPr>
              <a:t>все мы  это слово в стихах!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емляничка, земляничк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расненькая невелич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еленький цветоч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 тройной листоч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асто снится мне во с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лово пишем с букв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53280" y="4095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74760" y="4959360"/>
            <a:ext cx="407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есяц, заяц и январ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Земляника и янтар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шибиться тут нельз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Здесь пять сл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се с букв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91480" y="632772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99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990099"/>
                </a:solidFill>
                <a:latin typeface="Arial"/>
              </a:rPr>
              <a:t>Я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3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3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3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0"/>
                            </p:stCondLst>
                            <p:childTnLst>
                              <p:par>
                                <p:cTn id="3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8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-316080"/>
            <a:ext cx="7772400" cy="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4200" bIns="34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303120" y="1216080"/>
            <a:ext cx="8589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.П. Жуков . Словарь русских пословиц и поговорок. М;2007 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Г.А. Крылов. Этималогический словарь русского языка. ООО «Виктория плюс», 2008 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.Я. Черных. Историко-этимологический словарь современного русского языка: в 2 т. М;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71640" y="333360"/>
            <a:ext cx="7345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исок используемой литератур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403280" y="3933720"/>
            <a:ext cx="655344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исок используемых сай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/>
          <p:nvPr/>
        </p:nvSpPr>
        <p:spPr>
          <a:xfrm>
            <a:off x="376200" y="4743360"/>
            <a:ext cx="876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nelidov.edu.ru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www.nmedik.ru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sc.1 september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908000" y="270828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Гипотеза: название слову дала родная земл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 rot="220200">
            <a:off x="1403280" y="253800"/>
            <a:ext cx="70185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куда пришло к нам это слово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692360" y="242100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Каково лексическое значение слов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Какова история происхождения слов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Есть ли у слова родственни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Есть ли у слова друзья – синоним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Какое место занимает слово в русском фольклор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908000" y="765000"/>
            <a:ext cx="568836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ы исследова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501336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2447640" cy="2232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659640" y="4797360"/>
            <a:ext cx="2484360" cy="2060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692360" y="333360"/>
            <a:ext cx="6716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76360" y="476280"/>
            <a:ext cx="626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ексическое значение слов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11480" y="1812960"/>
            <a:ext cx="5492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А) Земляника- травянистое растение семейства розоцветных, с белыми цветами, дающее душистые плоды розовато- красного цве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7840" y="5124600"/>
            <a:ext cx="570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Б) Душистые, сладкие ягоды этого раст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76560" y="164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64000" y="4005360"/>
            <a:ext cx="3454560" cy="2590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543480" y="100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11280" y="333360"/>
            <a:ext cx="712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тория происхождения слова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7960" y="1387440"/>
            <a:ext cx="92808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звание –по низкой подвеске ягод: спелые ягоды земляники поч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ежат на земле, стелются по земле, жмутся к ней и поэтому являю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ак бы более «земляными», чем другие ягоды. Образовано это слов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уффиксальным способом на базе словосочетания земляная ягод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5440" y="2997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440" y="3645000"/>
            <a:ext cx="5551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ервое упоминание о ней встречается 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убеже 1-2 вв. до н.э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12в. Земляника считалась «нечистой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ягодой из-за того, что растет близко 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емле и может быть заразной о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икосновений жаб и зм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Этим суеверием положил коне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арл Линней, «прописав» себ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емляничную диет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84360" y="3860640"/>
            <a:ext cx="3959280" cy="2997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547640" y="692280"/>
            <a:ext cx="612000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ова родственники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397080" y="2060640"/>
            <a:ext cx="84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Земл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я – верхний слой нашей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планет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64000" y="3933720"/>
            <a:ext cx="3780000" cy="2924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19640" cy="2690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709080" y="0"/>
            <a:ext cx="5391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зем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ка – вьюга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во время которо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по земле дует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низовой вете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80" y="4086360"/>
            <a:ext cx="5187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Под</a:t>
            </a: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зем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ный –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находящийся п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поверхность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земли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26920" y="620640"/>
            <a:ext cx="51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252400">
            <a:off x="179280" y="1413000"/>
            <a:ext cx="662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677120" cy="3533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64200" y="392040"/>
            <a:ext cx="7226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Земл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янка – укрепленно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жилище, находящеес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под земле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 rot="261000">
            <a:off x="900000" y="-72720"/>
            <a:ext cx="777744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лова- синонимы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916360" y="3860640"/>
            <a:ext cx="3671640" cy="2997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1484280"/>
            <a:ext cx="79041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«Виктория»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- сорт земляники, названный в честь английской королевы и одним из первых завезенный в Россию в конце 18 в. , оттого и ставший нарицательны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1:12:03Z</dcterms:created>
  <dc:creator>User</dc:creator>
  <dc:description/>
  <dc:language>en-US</dc:language>
  <cp:lastModifiedBy>Администратор</cp:lastModifiedBy>
  <dcterms:modified xsi:type="dcterms:W3CDTF">2011-04-08T15:43:45Z</dcterms:modified>
  <cp:revision>22</cp:revision>
  <dc:subject/>
  <dc:title>Слайд 1</dc:title>
</cp:coreProperties>
</file>