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83F-6028-490F-9FCA-E7256D60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9F3-4C2E-4DEA-9BC6-2E66976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3A9-249C-4190-ADE5-80A110E5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068-02EC-4BFA-9D8C-E586630B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41EC-C2EB-4587-8B27-5E9425F5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ACA9-7ED0-45BA-8188-56E11A20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7A43-1E98-4BC7-8A86-1423BF46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2732-40C0-406E-8F6C-B38BEF99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F691-D7A0-4D31-AA28-A7634655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3E0-5E01-4B8A-B239-2E335FC6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F70F-D5B2-4ADE-9CDF-3B620A97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968-9848-4DDE-B1CD-A514BC68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FF8E-4916-4022-BA91-2870B43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3E4E-3CEF-4674-9241-16D4D5F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30B0-C865-4CB7-B9F3-09901765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D13-54F0-4E07-93C7-F899405F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0F05-028E-4530-9833-F812CA4B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8FD7-9246-4BAC-B17F-8453A9C9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2F53-9BC7-4EDC-9845-8524B05F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1BB9-CE7D-44D9-AC03-8BCF3142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6F3C-2F8A-4FD5-BB1F-38F7419F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3D37-558C-49C8-AC68-BCA35263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358-3730-4EA6-8B21-ABF7BE65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714E-65E6-4392-8053-5FF03418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003B-9EFE-4501-99F7-82ECA863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30F1-C88A-4C26-8B79-55C1898B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0B3C-6551-44FC-A6C4-BC09EB46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98A5-5DFC-447E-9D79-3462E9B6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F07D-FA1F-4C0E-8290-AC012ED4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930F-5C5F-4100-9343-1E24722F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A1C9-742E-459D-AF9C-B5669964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3A8BB-62A7-44B9-8788-3090E76D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09868-5B14-47DC-AD82-AD5CDC47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D16-6440-4BD5-9B3C-4FB4E849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AC26-0263-49A5-B773-31F08C6A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C9C3-8F2C-47FC-BA2A-0908F26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9206-BB2C-4ACA-AFDE-3C8B6A46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D76D-9266-456F-94BB-4D639ECF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3396-1C98-47CE-B0E2-FECE2D7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2E63-191A-4010-95B7-FCDDA757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E7BB-7743-4F2D-8CD9-37B4D69B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27AB-FE35-4FBE-9F49-29FBADC0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D98DA-98D7-42C9-B2DA-CD18E6D2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FB5-644E-40F3-94C8-8448E630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9D1-F30F-49E5-9E83-9D69D59B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19D-3572-496B-B21C-4E4A0D8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765-4051-49B0-87B3-150A53E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AA8-63F8-4BCC-9686-7CC42066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3EFD-8494-475C-955E-3BFCA864BB3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63F0-CFB2-4A84-8514-CA8DA82B0AF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836-55CE-4144-B015-A0FF3E63309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F0F6-20B4-4E04-A3BB-AD06C11040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bf5f9"/>
                </a:solidFill>
                <a:latin typeface="Arial"/>
              </a:rPr>
              <a:t>Технология  создания электронного учебник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195640" y="3068640"/>
            <a:ext cx="6480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Колчин Максим Анреевич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«Лицей им. Г.Ф. Атякшева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чук Татьяна Анатолье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информатики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«Лицей им. Г.Ф. Атякшева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Электронный учебник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«Разработка WEB-сайтов-с использованием языка разметки гипертекста HTML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Текст 29" descr=""/>
          <p:cNvPicPr/>
          <p:nvPr/>
        </p:nvPicPr>
        <p:blipFill>
          <a:blip r:embed="rId2"/>
          <a:stretch/>
        </p:blipFill>
        <p:spPr>
          <a:xfrm>
            <a:off x="1763640" y="1989000"/>
            <a:ext cx="581652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Цель рабо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создать электронный учебник по информатике на тему «Разработка WEB-сайтов-с использованием языка разметки гипертекста HTML», который можно использовать на уроках информатики, а также для самостоятельного изучения.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7168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Объект: 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создание электронного учебника.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Предмет: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электронный учебник по информатике на тему «Разработка WEB-сайтов-с использованием языка разметки гипертекста HTML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Гипотез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Есл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применять ЭУ на уроках информатики,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т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это будет способствовать повышению качеству визуальной информаций и самостоятельности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Задач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зучить и провести анализ литературы по теме рабо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а основе методики изучения информатики, создать учебни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Электронный учебник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это текст, представленный в электронной форме и снабженный разветвленной системой связей, позволяющей мгновенно переходить от одного его фрагмента к другому в соответствии с некоторой иерархией фрагмен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учебное издание, содержащее систематическое изложение учебной дисциплины или ее раздела, части, соответствующее государственному стандарту и учебной программе и официально утвержденное в качестве данного вида издан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Дистанционное обучение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мплекс образовательных услуг, предоставляемых широким слоям населения в стране и за рубежом с помощью специализированной информационной образовательной среды, базирующейся на средствах обмена учебной информацией на расстоянии (спутниковое телевидение, радио, компьютерная связь и т.п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Средства создания Э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традиционные алгоритмические язы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нструментальные средства общего назнач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редства мультимеди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ипертекстовые и гипермедиа средств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едактор eAuthor 2.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32511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едактор eAuthor 2.0 ‑ удобный инструмент разработки проекта учебного кур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46656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7:48:34Z</dcterms:created>
  <dc:creator>sobchuk</dc:creator>
  <dc:description/>
  <dc:language>en-US</dc:language>
  <cp:lastModifiedBy>driver</cp:lastModifiedBy>
  <dcterms:modified xsi:type="dcterms:W3CDTF">2010-03-29T14:22:21Z</dcterms:modified>
  <cp:revision>12</cp:revision>
  <dc:subject/>
  <dc:title>Электронный учебник «Создание web-страниц»</dc:title>
</cp:coreProperties>
</file>