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02C-77CD-410D-8195-272F9C74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2F7-A055-4E4D-A68D-5072B7A1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49F-04C6-4A33-B7DD-DBCB176B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6A9-C2D5-4899-BE74-70BF909B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CAF5-6157-4643-AA6B-FDA383E4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7AD9-38D9-4309-B797-FCF8C710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705E-D569-433D-AE87-E7288F92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882A-484F-45C9-A9D0-592CC17C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15F4-E6FC-4372-B972-D058D551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ADD1-87C9-44C8-9E9D-0065956A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C1E5-F994-4C3E-9736-E6D670B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900-6831-44E5-A076-18BE89B0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9360-8A51-485E-810A-67DC8F85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A37B-1495-490A-AA70-B1D7B81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7642-1540-4FD8-AD0B-80BDFAC3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DE0D-8DED-4275-9254-A54CB912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C9C6-16FC-4436-9D65-CED1603B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1952-637C-47AC-8EEA-D865DBF6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8CCE-8329-44EF-9B93-8B26305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1093-8567-4DE4-87FC-568F82DB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8E0A-5FA3-41F0-9539-CB78AC1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D5AE-D0B2-4CAC-8B13-943AFC79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07E-CE6A-4355-9A7F-242320A0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3567-F200-45F6-9291-D1713970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EB63-A430-4AC2-A1DD-4D4BE67D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08C8-53D4-4B88-B270-C4FC68D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2124-9755-4258-8264-4DE9C19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917D-F197-42DE-BD38-D6C91B63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65039-CA5A-47BA-B61F-8DBD4C04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BEB8-2433-4695-943A-2BDD6DAB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FABB-518C-43E6-B680-92734C09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B8D9-FCB7-4739-BFF1-3951CBF6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F253-08D7-4732-8137-0C9AA380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F1E-344F-42D8-BD35-109FA00A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8ED8-4E94-49F8-80EC-CC445284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82D5-25F5-4C79-9290-19FED365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AEBC-7683-4984-9389-528F1EDE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7DE60-41C0-4C6E-89DC-E5FD3F6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82A4-9825-4195-8324-920F40F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2473-2A9A-4477-9BA4-8C34B3B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FBE6-5878-45E1-8DC4-1C5AF7F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2D97-20AA-4BEE-A357-DBE70491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7010-A4F8-4582-9FF0-A1D70B13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AD16-C1FB-47A7-B829-636D3247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85F-5B1B-44AF-8107-0C03286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4A8D-40A9-45A3-ACE6-0F8E6C1E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52DE-C601-427D-895E-7F5CE231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EE678-7BEF-482A-99B9-3DFD8C24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CA8A-42B5-4EF0-8EA3-A704FEE6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559A-B801-42D6-9019-5F1BD1E7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47DCD-4DC7-46DA-BD28-5EFFF04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9C67-251C-4118-A371-BC494CE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C8FF3-E418-4F92-8E8D-30F35780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B521-4ED0-4084-9D88-96D23FAB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7AF46-36FF-45FD-8E98-66AD8A22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564-98C6-451E-A8B2-97317C39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66FD-64F2-44E6-890B-B9A6C158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C17-7C57-4929-99FE-944A634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95D-EC58-455E-84DB-89D8338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240-5C8A-4FF3-8D82-277A2A9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72A1-927E-4622-AB71-90C35FD33B6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56CE-0563-47C3-B11D-1DB931AF468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70CD-D4A2-407E-9E5B-087216BB90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590C-5923-4875-9F3B-CC1BFC0862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319-229D-4FA4-AD85-67A19A8B9F6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ambria"/>
              </a:rPr>
              <a:t>«Одежда»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езентация проекта на тему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177360" y="4149720"/>
            <a:ext cx="279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ница 1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Еляхина Юл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981840" y="5589720"/>
            <a:ext cx="1622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 Г.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39640" y="404640"/>
            <a:ext cx="37483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mbria"/>
              </a:rPr>
              <a:t>Национальна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787640" y="404640"/>
            <a:ext cx="3749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34817"/>
                </a:solidFill>
                <a:latin typeface="Cambria"/>
              </a:rPr>
              <a:t>         </a:t>
            </a:r>
            <a:r>
              <a:rPr b="0" lang="ru-RU" sz="3600" spc="-1" strike="noStrike">
                <a:solidFill>
                  <a:srgbClr val="d34817"/>
                </a:solidFill>
                <a:latin typeface="Cambria"/>
              </a:rPr>
              <a:t>Делова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8" name="Рисунок 4" descr="P1000225.JPG"/>
          <p:cNvPicPr/>
          <p:nvPr/>
        </p:nvPicPr>
        <p:blipFill>
          <a:blip r:embed="rId1"/>
          <a:stretch/>
        </p:blipFill>
        <p:spPr>
          <a:xfrm>
            <a:off x="593640" y="1341360"/>
            <a:ext cx="3321000" cy="4427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59" name="Рисунок 5" descr="Изображение 004.jpg"/>
          <p:cNvPicPr/>
          <p:nvPr/>
        </p:nvPicPr>
        <p:blipFill>
          <a:blip r:embed="rId2"/>
          <a:stretch/>
        </p:blipFill>
        <p:spPr>
          <a:xfrm>
            <a:off x="4716360" y="1365120"/>
            <a:ext cx="3324240" cy="44323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>
    <p:cover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333360"/>
            <a:ext cx="37497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3300"/>
                </a:solidFill>
                <a:latin typeface="Cambria"/>
              </a:rPr>
              <a:t>Рабоча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59280" y="333360"/>
            <a:ext cx="37497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mbria"/>
              </a:rPr>
              <a:t>Спортивна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2" name="Рисунок 4" descr="P1000239.JPG"/>
          <p:cNvPicPr/>
          <p:nvPr/>
        </p:nvPicPr>
        <p:blipFill>
          <a:blip r:embed="rId1"/>
          <a:stretch/>
        </p:blipFill>
        <p:spPr>
          <a:xfrm>
            <a:off x="539640" y="1341360"/>
            <a:ext cx="3672000" cy="4896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63" name="Рисунок 5" descr="P1000231.JPG"/>
          <p:cNvPicPr/>
          <p:nvPr/>
        </p:nvPicPr>
        <p:blipFill>
          <a:blip r:embed="rId2"/>
          <a:stretch/>
        </p:blipFill>
        <p:spPr>
          <a:xfrm>
            <a:off x="4643280" y="1341360"/>
            <a:ext cx="3673800" cy="4896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55640" y="404640"/>
            <a:ext cx="37497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34817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d34817"/>
                </a:solidFill>
                <a:latin typeface="Cambria"/>
              </a:rPr>
              <a:t>Домашня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933800" y="404640"/>
            <a:ext cx="3749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mbria"/>
              </a:rPr>
              <a:t>Празднична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Рисунок 4" descr="P1000236.JPG"/>
          <p:cNvPicPr/>
          <p:nvPr/>
        </p:nvPicPr>
        <p:blipFill>
          <a:blip r:embed="rId1"/>
          <a:stretch/>
        </p:blipFill>
        <p:spPr>
          <a:xfrm>
            <a:off x="684360" y="1484280"/>
            <a:ext cx="3617640" cy="4824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67" name="Рисунок 5" descr="001.jpg"/>
          <p:cNvPicPr/>
          <p:nvPr/>
        </p:nvPicPr>
        <p:blipFill>
          <a:blip r:embed="rId2"/>
          <a:stretch/>
        </p:blipFill>
        <p:spPr>
          <a:xfrm>
            <a:off x="4788000" y="1484280"/>
            <a:ext cx="3529080" cy="48117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>
    <p:cover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Users\Галина\Desktop\изображения\Анимационные картинки для презентаций. Часть 2\Школа\14_1.jpg"/>
          <p:cNvPicPr/>
          <p:nvPr/>
        </p:nvPicPr>
        <p:blipFill>
          <a:blip r:embed="rId1"/>
          <a:stretch/>
        </p:blipFill>
        <p:spPr>
          <a:xfrm>
            <a:off x="755640" y="333360"/>
            <a:ext cx="1476360" cy="12812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" descr="deti-forma-01.jpg"/>
          <p:cNvPicPr/>
          <p:nvPr/>
        </p:nvPicPr>
        <p:blipFill>
          <a:blip r:embed="rId2"/>
          <a:stretch/>
        </p:blipFill>
        <p:spPr>
          <a:xfrm>
            <a:off x="5292720" y="1844640"/>
            <a:ext cx="3537000" cy="3313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70" name="Picture 2" descr="C:\Users\Галина\Desktop\изображения\1 а класс\1 класс праздники\IMG_2410.JPG"/>
          <p:cNvPicPr/>
          <p:nvPr/>
        </p:nvPicPr>
        <p:blipFill>
          <a:blip r:embed="rId3"/>
          <a:stretch/>
        </p:blipFill>
        <p:spPr>
          <a:xfrm>
            <a:off x="539640" y="1844640"/>
            <a:ext cx="4416480" cy="3313080"/>
          </a:xfrm>
          <a:prstGeom prst="rect">
            <a:avLst/>
          </a:prstGeom>
          <a:ln w="22320">
            <a:solidFill>
              <a:srgbClr val="002060"/>
            </a:solidFill>
            <a:miter/>
          </a:ln>
        </p:spPr>
      </p:pic>
      <p:sp>
        <p:nvSpPr>
          <p:cNvPr id="271" name="Содержимое 2"/>
          <p:cNvSpPr/>
          <p:nvPr/>
        </p:nvSpPr>
        <p:spPr>
          <a:xfrm>
            <a:off x="2627280" y="476280"/>
            <a:ext cx="525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34817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66"/>
                </a:solidFill>
                <a:latin typeface="Cambria"/>
              </a:rPr>
              <a:t>Школьная 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7527960" cy="704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Пословиц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000" y="1628280"/>
            <a:ext cx="8434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одежде встречают, по уму провожают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орошая одежда ума не прибавит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ереги одежду снова, а разум с молод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язная одежда лучше, чем совсем никако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over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Загадк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11280" y="1412640"/>
            <a:ext cx="374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б не мерзну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ять ребя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печке вяза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дя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6" name="Содержимое 4" descr="Varezhki-Fialki-okt.2006-mal..JPG"/>
          <p:cNvPicPr/>
          <p:nvPr/>
        </p:nvPicPr>
        <p:blipFill>
          <a:blip r:embed="rId1"/>
          <a:stretch/>
        </p:blipFill>
        <p:spPr>
          <a:xfrm>
            <a:off x="971640" y="3716280"/>
            <a:ext cx="1792080" cy="2389320"/>
          </a:xfrm>
          <a:prstGeom prst="rect">
            <a:avLst/>
          </a:prstGeom>
          <a:ln w="0">
            <a:noFill/>
          </a:ln>
        </p:spPr>
      </p:pic>
      <p:sp>
        <p:nvSpPr>
          <p:cNvPr id="277" name="Содержимое 2"/>
          <p:cNvSpPr/>
          <p:nvPr/>
        </p:nvSpPr>
        <p:spPr>
          <a:xfrm>
            <a:off x="4716360" y="1484280"/>
            <a:ext cx="37483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жу верх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знаю на 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накомца встре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оскочу - приве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6" descr="dakine_scruntch_beanies_10_800_05_C04.jpg"/>
          <p:cNvPicPr/>
          <p:nvPr/>
        </p:nvPicPr>
        <p:blipFill>
          <a:blip r:embed="rId2"/>
          <a:stretch/>
        </p:blipFill>
        <p:spPr>
          <a:xfrm>
            <a:off x="4932360" y="3789360"/>
            <a:ext cx="2382840" cy="2382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914400" y="404640"/>
            <a:ext cx="374976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дороге я шёл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ве дороги нашёл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обеим пошё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933800" y="404640"/>
            <a:ext cx="37497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Черна, а не земл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ушиста, а не снег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еет, а не печк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1" name="Рисунок 7" descr="1166101_181.jpg"/>
          <p:cNvPicPr/>
          <p:nvPr/>
        </p:nvPicPr>
        <p:blipFill>
          <a:blip r:embed="rId1"/>
          <a:stretch/>
        </p:blipFill>
        <p:spPr>
          <a:xfrm>
            <a:off x="1835280" y="1989000"/>
            <a:ext cx="1441440" cy="1863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8" descr="shop_items_catalog_image212.jpg"/>
          <p:cNvPicPr/>
          <p:nvPr/>
        </p:nvPicPr>
        <p:blipFill>
          <a:blip r:embed="rId2"/>
          <a:stretch/>
        </p:blipFill>
        <p:spPr>
          <a:xfrm>
            <a:off x="5508720" y="1989000"/>
            <a:ext cx="1942920" cy="19447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9"/>
          <p:cNvSpPr/>
          <p:nvPr/>
        </p:nvSpPr>
        <p:spPr>
          <a:xfrm>
            <a:off x="1119240" y="458136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режки для н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0" descr="h-2411137792.jpg"/>
          <p:cNvPicPr/>
          <p:nvPr/>
        </p:nvPicPr>
        <p:blipFill>
          <a:blip r:embed="rId3"/>
          <a:stretch/>
        </p:blipFill>
        <p:spPr>
          <a:xfrm>
            <a:off x="4932360" y="4581360"/>
            <a:ext cx="2209680" cy="1295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«Коллекция моделей одежды» 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Еляхиной Юлиан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6" name="Содержимое 5" descr="001.jpg"/>
          <p:cNvPicPr/>
          <p:nvPr/>
        </p:nvPicPr>
        <p:blipFill>
          <a:blip r:embed="rId1"/>
          <a:stretch/>
        </p:blipFill>
        <p:spPr>
          <a:xfrm>
            <a:off x="1127160" y="1447920"/>
            <a:ext cx="3324240" cy="4572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87" name="Содержимое 6" descr="4.jpg"/>
          <p:cNvPicPr/>
          <p:nvPr/>
        </p:nvPicPr>
        <p:blipFill>
          <a:blip r:embed="rId2"/>
          <a:stretch/>
        </p:blipFill>
        <p:spPr>
          <a:xfrm>
            <a:off x="5146560" y="1447920"/>
            <a:ext cx="3324240" cy="4572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Заголовок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одержимое 2"/>
          <p:cNvSpPr/>
          <p:nvPr/>
        </p:nvSpPr>
        <p:spPr>
          <a:xfrm>
            <a:off x="684360" y="1484280"/>
            <a:ext cx="74674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дежда является одним из главных атрибутов человека (без неё люди стали б походить на животны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разновидности одежды можно определить эпоху и, даже, местность, где проживает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дежда должна быть удобной и соответствовать человеку, который её нос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школу ученики должны ходить в удобной школьной  одежде (форм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67840" cy="72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Литератур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5280" y="1557360"/>
            <a:ext cx="7467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лчкова В.Н. «Познавательно развитие», 2004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артынова А.Н. «Пословицы. Загадки», 1986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уждина Т.Д. «Энциклопедия Чудо-всюду», 1998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Одежда в картинках»–пособие для детей, 2001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рлова Н. «Я познаю мир», 2000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шинский К.Д. «Как рубашка в поле выросла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1"/>
          <p:cNvSpPr/>
          <p:nvPr/>
        </p:nvSpPr>
        <p:spPr>
          <a:xfrm>
            <a:off x="1332000" y="404640"/>
            <a:ext cx="602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755640" y="1052640"/>
            <a:ext cx="746748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сегда ли у людей была одеж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к и почему она появила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значение одеж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1692360" y="3429000"/>
            <a:ext cx="602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971640" y="4076640"/>
            <a:ext cx="74674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Я считаю, что одежда у человека была всегда. Но внешний вид её в разную эпоху  был особ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1"/>
          <p:cNvSpPr/>
          <p:nvPr/>
        </p:nvSpPr>
        <p:spPr>
          <a:xfrm>
            <a:off x="785880" y="42876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ОПРОС УЧЕНИКОВ 1 «А»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Диаграмма 3" descr=""/>
          <p:cNvPicPr/>
          <p:nvPr/>
        </p:nvPicPr>
        <p:blipFill>
          <a:blip r:embed="rId1"/>
          <a:stretch/>
        </p:blipFill>
        <p:spPr>
          <a:xfrm>
            <a:off x="1352520" y="1420920"/>
            <a:ext cx="6724800" cy="4870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467480" cy="56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Цель проект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1628280"/>
            <a:ext cx="7643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знать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к и когда появилась первая одеж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к и чем люди шили первую одежду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кую одежду носит современный человек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еж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овокупность предметов, которые покрывают те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(С.Ожегов «Толковый словарь»)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1" name="Содержимое 6" descr="P1000212.JPG"/>
          <p:cNvPicPr/>
          <p:nvPr/>
        </p:nvPicPr>
        <p:blipFill>
          <a:blip r:embed="rId1"/>
          <a:stretch/>
        </p:blipFill>
        <p:spPr>
          <a:xfrm>
            <a:off x="2916360" y="1700280"/>
            <a:ext cx="3425760" cy="4572000"/>
          </a:xfrm>
          <a:prstGeom prst="rect">
            <a:avLst/>
          </a:prstGeom>
          <a:ln w="22320">
            <a:solidFill>
              <a:srgbClr val="000066"/>
            </a:solidFill>
            <a:miter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Как и когда появилась первая одежда? Какой она был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1125000"/>
            <a:ext cx="896472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дежда – одно из древнейших изобретений человека. Появилась примерно 30-35 тысяч лет назад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4" name="Рисунок 3" descr="burian14.jpg"/>
          <p:cNvPicPr/>
          <p:nvPr/>
        </p:nvPicPr>
        <p:blipFill>
          <a:blip r:embed="rId1"/>
          <a:stretch/>
        </p:blipFill>
        <p:spPr>
          <a:xfrm>
            <a:off x="3059280" y="2276640"/>
            <a:ext cx="2952720" cy="4286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3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Как и чем люди шили первую одежду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5280" y="1844640"/>
            <a:ext cx="81374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онкие отточенные камн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ыбьи кост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глы из желез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глы из серебр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глы из ст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Швейные машин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46784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ы одежды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360" y="1268280"/>
            <a:ext cx="4248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Зимняя одежд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9" name="Содержимое 3" descr="1286807323_127848739_7--Deux-par-Deux-2010-2011--1286807323.jpg"/>
          <p:cNvPicPr/>
          <p:nvPr/>
        </p:nvPicPr>
        <p:blipFill>
          <a:blip r:embed="rId1"/>
          <a:stretch/>
        </p:blipFill>
        <p:spPr>
          <a:xfrm>
            <a:off x="6226200" y="1125360"/>
            <a:ext cx="2162160" cy="15829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3" descr="wirtualnaya_detskaya_odegda_letniy_sarafan_oblogka.jpg"/>
          <p:cNvPicPr/>
          <p:nvPr/>
        </p:nvPicPr>
        <p:blipFill>
          <a:blip r:embed="rId2"/>
          <a:stretch/>
        </p:blipFill>
        <p:spPr>
          <a:xfrm>
            <a:off x="6402240" y="2774880"/>
            <a:ext cx="1986120" cy="1733760"/>
          </a:xfrm>
          <a:prstGeom prst="rect">
            <a:avLst/>
          </a:prstGeom>
          <a:ln w="0">
            <a:noFill/>
          </a:ln>
        </p:spPr>
      </p:pic>
      <p:pic>
        <p:nvPicPr>
          <p:cNvPr id="251" name="Содержимое 3" descr="giraf_fleece_1.jpg"/>
          <p:cNvPicPr/>
          <p:nvPr/>
        </p:nvPicPr>
        <p:blipFill>
          <a:blip r:embed="rId3"/>
          <a:stretch/>
        </p:blipFill>
        <p:spPr>
          <a:xfrm>
            <a:off x="6300720" y="45813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52" name="Содержимое 2"/>
          <p:cNvSpPr/>
          <p:nvPr/>
        </p:nvSpPr>
        <p:spPr>
          <a:xfrm>
            <a:off x="684360" y="2565360"/>
            <a:ext cx="439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ru-RU" sz="2800" spc="-1" strike="noStrike">
                <a:solidFill>
                  <a:srgbClr val="003300"/>
                </a:solidFill>
                <a:latin typeface="Cambria"/>
              </a:rPr>
              <a:t>Летняя од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2"/>
          <p:cNvSpPr/>
          <p:nvPr/>
        </p:nvSpPr>
        <p:spPr>
          <a:xfrm>
            <a:off x="611280" y="3789360"/>
            <a:ext cx="5473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Cambria"/>
              </a:rPr>
              <a:t>           </a:t>
            </a:r>
            <a:r>
              <a:rPr b="1" lang="ru-RU" sz="2800" spc="-1" strike="noStrike">
                <a:solidFill>
                  <a:srgbClr val="cc00ff"/>
                </a:solidFill>
                <a:latin typeface="Cambria"/>
              </a:rPr>
              <a:t>Демисезонная од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Cambria"/>
              </a:rPr>
              <a:t>              </a:t>
            </a:r>
            <a:r>
              <a:rPr b="1" lang="ru-RU" sz="2800" spc="-1" strike="noStrike">
                <a:solidFill>
                  <a:srgbClr val="cc00ff"/>
                </a:solidFill>
                <a:latin typeface="Cambria"/>
              </a:rPr>
              <a:t>(между летом и зим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Виды одежды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907560"/>
            <a:ext cx="30956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циональна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лова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боча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портивна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я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азднична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0:34:32Z</dcterms:created>
  <dc:creator>Фракто</dc:creator>
  <dc:description/>
  <dc:language>en-US</dc:language>
  <cp:lastModifiedBy>Галина</cp:lastModifiedBy>
  <dcterms:modified xsi:type="dcterms:W3CDTF">2011-04-08T12:41:38Z</dcterms:modified>
  <cp:revision>42</cp:revision>
  <dc:subject/>
  <dc:title>Слайд 1</dc:title>
</cp:coreProperties>
</file>