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0D8-A35F-4523-B614-7162F6FD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E9C-C184-45FD-9B0B-6E717FF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F4C-0297-4741-8B3A-8155E6A4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9F4-4716-497C-987A-4F864E5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4CF-F133-43C3-A647-0BFDA87F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40C-4181-4591-BD87-4935F4E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D94-252E-4CCF-BEF4-72C9099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D15-C765-477D-9D23-96F83B2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7C9-144B-4E67-8EA3-76DC04B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287-E1CA-46A9-A1EE-32B42E7F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C5E-4088-49A1-A461-04E130C7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1D0-6010-407D-9A47-2E2CA89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5BE3-1623-472D-BD11-3BD315D1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к лекции 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и и творчеств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.А. Есенин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уроке литературы в 9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перанская Ири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-интернат №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ара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ЕЛКА\Фото,сканир.,видео\Есенин\18.jpg"/>
          <p:cNvPicPr/>
          <p:nvPr/>
        </p:nvPicPr>
        <p:blipFill>
          <a:blip r:embed="rId1"/>
          <a:stretch/>
        </p:blipFill>
        <p:spPr>
          <a:xfrm>
            <a:off x="2743200" y="152280"/>
            <a:ext cx="3733920" cy="642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ЕЛКА\Фото,сканир.,видео\Есенин\1.jpg"/>
          <p:cNvPicPr/>
          <p:nvPr/>
        </p:nvPicPr>
        <p:blipFill>
          <a:blip r:embed="rId1"/>
          <a:stretch/>
        </p:blipFill>
        <p:spPr>
          <a:xfrm>
            <a:off x="2567160" y="152280"/>
            <a:ext cx="455580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ЕЛКА\Фото,сканир.,видео\Есенин\0014-014-Anna-romanovna-izrjadno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ЕЛКА\Фото,сканир.,видео\Есенин\26.jpg"/>
          <p:cNvPicPr/>
          <p:nvPr/>
        </p:nvPicPr>
        <p:blipFill>
          <a:blip r:embed="rId1"/>
          <a:stretch/>
        </p:blipFill>
        <p:spPr>
          <a:xfrm>
            <a:off x="762120" y="433440"/>
            <a:ext cx="7619760" cy="599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ЕЛКА\Фото,сканир.,видео\Есенин\Белая береза.jpg"/>
          <p:cNvPicPr/>
          <p:nvPr/>
        </p:nvPicPr>
        <p:blipFill>
          <a:blip r:embed="rId1"/>
          <a:stretch/>
        </p:blipFill>
        <p:spPr>
          <a:xfrm>
            <a:off x="2666880" y="311040"/>
            <a:ext cx="3962520" cy="6235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ЕЛКА\Фото,сканир.,видео\Есенин\Зинаида Рай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ЕЛКА\Фото,сканир.,видео\Есенин\Дети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0020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инаида Райх и дети Костя и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ЕЛКА\Фото,сканир.,видео\Есенин\12.jpg"/>
          <p:cNvPicPr/>
          <p:nvPr/>
        </p:nvPicPr>
        <p:blipFill>
          <a:blip r:embed="rId1"/>
          <a:srcRect l="0" t="0" r="0" b="8689"/>
          <a:stretch/>
        </p:blipFill>
        <p:spPr>
          <a:xfrm>
            <a:off x="2448000" y="114480"/>
            <a:ext cx="4486320" cy="639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ЕЛКА\Фото,сканир.,видео\Есенин\Родина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ЕЛКА\Фото,сканир.,видео\Есенин\Константиново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1365120" y="3786120"/>
            <a:ext cx="6413760" cy="18590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-128520" y="1066680"/>
            <a:ext cx="8791560" cy="206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ЕЛКА\Фото,сканир.,видео\Есенин\с сестрой.jpg"/>
          <p:cNvPicPr/>
          <p:nvPr/>
        </p:nvPicPr>
        <p:blipFill>
          <a:blip r:embed="rId1"/>
          <a:stretch/>
        </p:blipFill>
        <p:spPr>
          <a:xfrm>
            <a:off x="231840" y="914400"/>
            <a:ext cx="8553240" cy="510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ЕЛКА\Фото,сканир.,видео\Есенин\3.jpg"/>
          <p:cNvPicPr/>
          <p:nvPr/>
        </p:nvPicPr>
        <p:blipFill>
          <a:blip r:embed="rId1"/>
          <a:stretch/>
        </p:blipFill>
        <p:spPr>
          <a:xfrm>
            <a:off x="2665440" y="304920"/>
            <a:ext cx="4040280" cy="595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ЕЛКА\Фото,сканир.,видео\Есенин\Есенин_и_Дункан..jpg"/>
          <p:cNvPicPr/>
          <p:nvPr/>
        </p:nvPicPr>
        <p:blipFill>
          <a:blip r:embed="rId1"/>
          <a:stretch/>
        </p:blipFill>
        <p:spPr>
          <a:xfrm>
            <a:off x="2286000" y="117360"/>
            <a:ext cx="4572000" cy="662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ЕЛКА\Фото,сканир.,видео\Есенин\6.jpg"/>
          <p:cNvPicPr/>
          <p:nvPr/>
        </p:nvPicPr>
        <p:blipFill>
          <a:blip r:embed="rId1"/>
          <a:stretch/>
        </p:blipFill>
        <p:spPr>
          <a:xfrm>
            <a:off x="609480" y="152280"/>
            <a:ext cx="8001000" cy="651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ЕЛКА\Фото,сканир.,видео\Есенин\9.gif"/>
          <p:cNvPicPr/>
          <p:nvPr/>
        </p:nvPicPr>
        <p:blipFill>
          <a:blip r:embed="rId1"/>
          <a:stretch/>
        </p:blipFill>
        <p:spPr>
          <a:xfrm>
            <a:off x="2371680" y="380880"/>
            <a:ext cx="440064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5105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Есенин и Айседора Дункан 19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ЕЛКА\Фото,сканир.,видео\Есенин\8.jpg"/>
          <p:cNvPicPr/>
          <p:nvPr/>
        </p:nvPicPr>
        <p:blipFill>
          <a:blip r:embed="rId1"/>
          <a:stretch/>
        </p:blipFill>
        <p:spPr>
          <a:xfrm>
            <a:off x="1809720" y="612720"/>
            <a:ext cx="5469120" cy="398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ЕЛКА\Фото,сканир.,видео\Есенин\24 апрель Ленинград.jpg"/>
          <p:cNvPicPr/>
          <p:nvPr/>
        </p:nvPicPr>
        <p:blipFill>
          <a:blip r:embed="rId1"/>
          <a:stretch/>
        </p:blipFill>
        <p:spPr>
          <a:xfrm>
            <a:off x="2590920" y="304920"/>
            <a:ext cx="4572000" cy="612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ЕЛКА\Фото,сканир.,видео\Есенин\24.jpg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6303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ЕЛКА\Фото,сканир.,видео\Есенин\11.jpg"/>
          <p:cNvPicPr/>
          <p:nvPr/>
        </p:nvPicPr>
        <p:blipFill>
          <a:blip r:embed="rId1"/>
          <a:stretch/>
        </p:blipFill>
        <p:spPr>
          <a:xfrm>
            <a:off x="2612880" y="190440"/>
            <a:ext cx="4491360" cy="636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ица «Англетер». Номер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ЕЛКА\Фото,сканир.,видео\Есенин\Где погиб поэт.jpg"/>
          <p:cNvPicPr/>
          <p:nvPr/>
        </p:nvPicPr>
        <p:blipFill>
          <a:blip r:embed="rId1"/>
          <a:stretch/>
        </p:blipFill>
        <p:spPr>
          <a:xfrm>
            <a:off x="1471680" y="209520"/>
            <a:ext cx="6551640" cy="4743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 декабря 1925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43400"/>
            <a:ext cx="3008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Фёдоровна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икит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D:\ЕЛКА\Фото,сканир.,видео\Есенин\родители 1.jpg"/>
          <p:cNvPicPr/>
          <p:nvPr/>
        </p:nvPicPr>
        <p:blipFill>
          <a:blip r:embed="rId1"/>
          <a:stretch/>
        </p:blipFill>
        <p:spPr>
          <a:xfrm>
            <a:off x="3962520" y="272880"/>
            <a:ext cx="4151160" cy="612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хороны Сергея 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D:\ЕЛКА\Фото,сканир.,видео\Есенин\Похороны.jpg"/>
          <p:cNvPicPr/>
          <p:nvPr/>
        </p:nvPicPr>
        <p:blipFill>
          <a:blip r:embed="rId1"/>
          <a:stretch/>
        </p:blipFill>
        <p:spPr>
          <a:xfrm>
            <a:off x="2019240" y="61272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ей Есенина в селе Константи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ЕЛКА\Фото,сканир.,видео\Есенин\музев конст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ЕЛКА\Фото,сканир.,видео\Есенин\музей.jpg"/>
          <p:cNvPicPr/>
          <p:nvPr/>
        </p:nvPicPr>
        <p:blipFill>
          <a:blip r:embed="rId1"/>
          <a:srcRect l="2778" t="0" r="2778" b="0"/>
          <a:stretch/>
        </p:blipFill>
        <p:spPr>
          <a:xfrm>
            <a:off x="304920" y="205740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ЕЛКА\Фото,сканир.,видео\Есенин\Есенин в Москве.jpg"/>
          <p:cNvPicPr/>
          <p:nvPr/>
        </p:nvPicPr>
        <p:blipFill>
          <a:blip r:embed="rId2"/>
          <a:stretch/>
        </p:blipFill>
        <p:spPr>
          <a:xfrm>
            <a:off x="3962520" y="3049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:\ЕЛКА\Фото,сканир.,видео\Есенин\дом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ЕЛКА\Фото,сканир.,видео\Есенин\Дом родителе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ЕЛКА\Фото,сканир.,видео\Есенин\2Констант..jpg"/>
          <p:cNvPicPr/>
          <p:nvPr/>
        </p:nvPicPr>
        <p:blipFill>
          <a:blip r:embed="rId2"/>
          <a:stretch/>
        </p:blipFill>
        <p:spPr>
          <a:xfrm>
            <a:off x="2209680" y="152280"/>
            <a:ext cx="4876920" cy="6502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:\ЕЛКА\Фото,сканир.,видео\Есенин\20.jpg"/>
          <p:cNvPicPr/>
          <p:nvPr/>
        </p:nvPicPr>
        <p:blipFill>
          <a:blip r:embed="rId1"/>
          <a:stretch/>
        </p:blipFill>
        <p:spPr>
          <a:xfrm>
            <a:off x="152280" y="152280"/>
            <a:ext cx="8890200" cy="6118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:\ЕЛКА\Фото,сканир.,видео\Есенин\С сестрами Катей и шурой.jpg"/>
          <p:cNvPicPr/>
          <p:nvPr/>
        </p:nvPicPr>
        <p:blipFill>
          <a:blip r:embed="rId1"/>
          <a:stretch/>
        </p:blipFill>
        <p:spPr>
          <a:xfrm>
            <a:off x="2438280" y="127080"/>
            <a:ext cx="4343400" cy="649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ЕЛКА\Фото,сканир.,видео\Есенин\13.jpg"/>
          <p:cNvPicPr/>
          <p:nvPr/>
        </p:nvPicPr>
        <p:blipFill>
          <a:blip r:embed="rId1"/>
          <a:stretch/>
        </p:blipFill>
        <p:spPr>
          <a:xfrm>
            <a:off x="457200" y="246240"/>
            <a:ext cx="8397720" cy="5825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s</cp:lastModifiedBy>
  <dcterms:modified xsi:type="dcterms:W3CDTF">2012-02-14T19:42:1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