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2E88-8CAB-4BD0-B351-B17D9DDD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E5CF-BB1D-4B75-B7B6-2E6DB2ED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523B-FA99-4C06-B3EB-0130676E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D17-FB6A-4934-9974-6E1738B3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6AC4-A08F-4AA7-A440-BE12EC24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8EDA-ABE8-4014-AEBA-22689E61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AE89-E8F0-4445-8E1C-DD5FF3E5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661A-554D-44C0-89EB-F460CC4E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AF80-8BFF-414B-8343-1541317B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3986-12CD-4B83-BB6B-05372204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8767-3112-4011-B0B9-ED0ABE11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640D-6FAE-41D2-AEA1-57710639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C728-09F9-40CB-82A7-341E01121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ЕНАДЁРЫ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ературный альман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ЛЮ ТЕБЯ, МОЙ КРАЙ РОДН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ЛЕКТИВ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щихся и учителя МБОУ СОШ №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Усть – Лабин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одарского кр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БОУ СОШ № 6 г.Усть- Лабин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нодар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ара Галина Викто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987280" y="1483920"/>
            <a:ext cx="6156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брое утро, станиц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ннее утро, проснулись птиц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забором корова мыч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такой у моей стан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- домашнему сонный ви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уже и зажглись огн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оме пахнет парным моло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инаются будние дн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машины урчат за окн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нимается солнце всё выш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 стайками в школу спеш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робьи подрались на кры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 весёлый смех малыш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люблю эти милые лиц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ждый дом здесь знаком для ме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добрым утром, моя станиц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счастливого тебе дн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Венгер Яна,ученица 6 «В» класса, МОУ СОШ №6 г.Усть- Лабинска Краснодарского кр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384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 здесь род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здесь родился, здесь живё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ивые места, чистейший возд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десней места в мире не найдешь,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ык, а всё ж захватывает д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лях пшеница, мак искри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будто петушиный гребеш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дали ковыль в степи ложи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нуется от дуновения пуш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жить вольготно и прекрас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зачьем солнечном кр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орогой моей Куб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лон я низкий отд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арташев Вадим, ученик 9 «В» клас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6 г.Усть- Лабин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одарского кр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32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140000" y="907920"/>
            <a:ext cx="50036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лю тебя, мой край родн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яла отличная погода. Ночь была тихая. Мы подъезжали к небольшому городку Усть- Лабинску, затерявшемуся среди бесконечных просторов Кубани. Под эту тишину я и задремала. Снилось всё, что мне так близко: дом, в котором всё так дорого, моя комната, цветущие яблони и абрикосы в саду, беседка, заплетённая виноградом. Это моя родина, мой родной кра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е было хорошо в гостях. Я ездила в горы, любовалась красотами Кавказа. Но в этой красоте я узнавала Кубанские поля пшеницы, вдыхала аромат полевых цве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от я дома. Здесь на заре сквозь розовые облака пробивается первый лучик солнца. Он, кажется, говорит мне, что утро будет добр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ороге в школу встречаю небольшие домики, утопающие в роскошной зелени садов. А у самой школы стоит огромный наш тополь, своей кроной закрывающий полфасада здания. Он даёт прохладу в жару и неповторимо красив осенью. Во дворе можно увидеть туи- двойники, вокруг них заботливыми руками учителей и детей посажены прекрасные ро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ы… Они везде, во дворах и на улицах. Весной наш город утопает в цветах, «в снегу» из абрикосового цвета, а белый дым яблонь прерывается красками сирени. Неподалёку течёт миловидная речка Лаба, которая совсем не похожа на могучие реки из стихотворений великих  русских поэтов и писателей. Её никто не воспел, но я люблю её, мой город, мой дом, потому что всё это мой родной край, моя Роди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илипенко Екатерина, ученица 9 «В» класса, МОУ СОШ №6 г.Усть- Лабинска Краснодарского кра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367344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720108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енняя гру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дняя осень, дожди за ок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 жизни моей всё такая же сляко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ьба, будто стол под зелёным сукн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летка моя - хохотать или плак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листья осенние, ветром гоним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 хлещет холодным снегом с дождё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вы, юности дни, озорные, любим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ком полустанке мы вас подождё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мучительно сладко в детство снова попас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еб домашний поесть, босиком пробежать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огорода соседа спелой дыни украс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постаревшей коре тополиной приж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едела родня, разбросало друзе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утиной осенней кто куда улетевш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 полями ночными крики диких гусе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ладони твои  на висках поседевш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лывает свеча, ты сидишь в тиш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ко- далеко от родимого д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звезда, что так тускло горит в вышин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морщинки твои, мне до боли знак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здалая осень стрижёт листья с ветве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шет строчки дождей неспокойною ноч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листает ноябрь дни из жизни мое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тетрадь на ветру, обронённую доч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Запара Галина Викторовна, уч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СОШ №6 г.Усть – Лабинска Краснодарского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140360" y="1916280"/>
            <a:ext cx="40636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ЮДУ ДОБРЫЕ ЛЮДИ ВОК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мя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бабушке моей, Евдошенко Полине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овне, урождённой казачке станиц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ен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убани, Кавказе, далёкой Смоленщ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днажды зажжённую небом свеч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чаливо горжусь тобой, дивная Женщи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воему припадая плеч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ты меня летом когда- то крест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етхой церкви за старым мост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хворай я – здоровья у Бога просил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ахе грудь осеняя крес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ой прялкой пряжу сучил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устив тихо косы сво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ебным мякишем чёрным леч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соногие раны мо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учила меня не боя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ноты, паутины,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мала, век с тобой не расстать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от нет тебя столько уж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осла, став молодой и красив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о от любимых мне р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х, какой я была счастлив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не зала, не знала разл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память горькая тревожи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и ей платим мы спол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боль мою всегда налож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сочек хлебный свой 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Запара Галина Викторовна, уч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СОШ №6 г.Усть – Лабинска Краснодарского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64000" y="836640"/>
            <a:ext cx="25387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16:45:53Z</dcterms:created>
  <dc:creator>ZEVa</dc:creator>
  <dc:description/>
  <dc:language>en-US</dc:language>
  <cp:lastModifiedBy>Валеха</cp:lastModifiedBy>
  <dcterms:modified xsi:type="dcterms:W3CDTF">2012-02-14T18:19:25Z</dcterms:modified>
  <cp:revision>8</cp:revision>
  <dc:subject/>
  <dc:title>Слайд 1</dc:title>
</cp:coreProperties>
</file>