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771640" y="6045120"/>
            <a:ext cx="6372360" cy="432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771640" y="5397480"/>
            <a:ext cx="6372360" cy="647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7960" y="511020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65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66ff"/>
                </a:solidFill>
                <a:latin typeface="Arial"/>
              </a:rPr>
              <a:t>Художественные краски с точки зрения химии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843280" y="6742080"/>
            <a:ext cx="630072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947880"/>
            <a:ext cx="8209080" cy="59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6530400"/>
            <a:ext cx="6480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6597720"/>
            <a:ext cx="69138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6996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Акриловые краски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6438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Пигменты, основанные на универсальном связующем — синтетическом материале, акриловой полимерной эмульсии — сгодятся для каких угодно целей! Они считаются очень экономичными и удобными в нанесении. Ассортимент акриловой краски достаточно широкий: универсальные (глянцевые, перламутровые и металлик), по ткани, стеклу и керамике. Преимущество этих красок в простоте использования, а краска по керамике высыхает при обычной температуре, поэтому, не нуждается в обжиге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Состав: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акриловая кислота (акриловой полимерной эмульсии  - состоит из полиакрилов и полиметакрилов)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акрилстироловое связующее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мраморные микрокальциты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тальк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силикоалюминат натрия (САН), аморфрый, осажденный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тексанол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гидроксилэтилцеллюлоза (ГЭЦ)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9900"/>
                </a:solidFill>
                <a:latin typeface="Arial"/>
              </a:rPr>
              <a:t>Хранение акриловой краски должно осуществляться в плотно закрытой таре при t° выше +5 °С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21240" cy="195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445000" y="0"/>
            <a:ext cx="3699000" cy="228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6269760"/>
            <a:ext cx="713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6597720"/>
            <a:ext cx="62658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440320" cy="693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302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астель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280" y="2852640"/>
            <a:ext cx="76438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Пастель, по существу, представляет собой мягкие цветные карандаши нежных цветов и оттенков. 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Характерной особенностью пастели является бархатистость и матовость цвета, получить которые в живописи невозможно никакими другими материалами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9900"/>
                </a:solidFill>
                <a:latin typeface="Arial"/>
              </a:rPr>
              <a:t>Ценят пастель за свежесть тона и быстроту, с какой она позволяет работать</a:t>
            </a: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Состав: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пигмент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глина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мел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клей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каолин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бланфикс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3706560" cy="2349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262200">
            <a:off x="5076360" y="4532400"/>
            <a:ext cx="2973600" cy="2325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6044400"/>
            <a:ext cx="16671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6597720"/>
            <a:ext cx="2737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74000" cy="6202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6603480"/>
            <a:ext cx="569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6858000"/>
            <a:ext cx="6408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55080" cy="6316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1628640"/>
            <a:ext cx="6264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Чернила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97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Состав: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растворитель (дистиллированная вода,глицерин, этанол)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красящее вещество (фуксин, индиго, метиловый фиолетовый, сульфат железа(II), индигокармин)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модификаторы - вязкости, смачиваемости, стойкости (многоатомные спирты, такие как изопропиловый спирт и глицерин, сахара, декстрины, силигальмин)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консерванты (сульфацилин,этанол, щавелевая кислота)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11280" y="4170240"/>
            <a:ext cx="368172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6494760"/>
            <a:ext cx="6923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6524280"/>
            <a:ext cx="5761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Arial"/>
              </a:rPr>
              <a:t>Чернографитовые карандаши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6438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66ff"/>
                </a:solidFill>
                <a:latin typeface="Arial"/>
              </a:rPr>
              <a:t>Обычные простые карандаши, которые есть в пенале любого школьника. Качество таких карандашей зависит от материала, из которого они произведены. Если мы говорим о деревянных карандашах, то речь идет о древесине, в которую заточен грифель карандаша. Именно от качества древесины зависит легкость затачивания карандаша и его внешний вид</a:t>
            </a: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Самые дешевые карандаши изготавливают из ольхи. В самой высокой ценовой категории находятся карандаши, изготовленные из калифорнийского кедра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9900"/>
                </a:solidFill>
                <a:latin typeface="Arial"/>
              </a:rPr>
              <a:t>Грифель. Состоит грифель из графита, глины и связующих веществ. В зависимости от пропорций этих веществ меняется степень твердости и интенсивность цвета (чернота)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21014400">
            <a:off x="6227640" y="4723920"/>
            <a:ext cx="2595600" cy="1946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 rot="20580000">
            <a:off x="3419280" y="4581000"/>
            <a:ext cx="2796840" cy="2098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 rot="21354000">
            <a:off x="610920" y="4320720"/>
            <a:ext cx="2903400" cy="253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5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6566040"/>
            <a:ext cx="7427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6597720"/>
            <a:ext cx="727416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52920" cy="6165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821120" y="0"/>
            <a:ext cx="4322880" cy="617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99760" y="-255600"/>
            <a:ext cx="764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2465280"/>
            <a:ext cx="7643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Основными составляющими любой краски являются три компонента: связующее, наполнитель, пигмент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99ff"/>
                </a:solidFill>
                <a:latin typeface="Arial"/>
              </a:rPr>
              <a:t>Связующее, как следует из названия, отвечает за склеивание твердых частиц краски между собой и приклеивание краски к окрашиваемой поверхности – адгезия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3399"/>
                </a:solidFill>
                <a:latin typeface="Arial"/>
              </a:rPr>
              <a:t>Наполнитель – тоже говорит сам за себя. Это вещество (или смесь разных веществ), составляет «тело» краски как пух внутри подушки. Вместе с пигментом наполнитель обеспечивает укрывистость состава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Пигмент обеспечивает окрашивание краски в заданный цвет и ее укрывистость (совместно с наполнителем)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Помимо основных компонентов в современных красках присутствует множество вспомогательных, улучшающих ее качество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3333cc"/>
                </a:solidFill>
                <a:latin typeface="Arial"/>
              </a:rPr>
              <a:t>Такими компонентами являются: коалисценты, загустители, пеногасители, диспергаторы, тарные биоциды, фунгициды, pH стабилизаторы, матирующие добавки, модифицирующие добавки, смачиватели, ингибиторы коррозии, антифризы, восковые добавки, светостабилизаторы, антиоксиданты, оптические отбеливатели, антипирены, антиобрастающие добавки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556000" cy="192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6639120"/>
            <a:ext cx="713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920" y="6821640"/>
            <a:ext cx="5400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820360" cy="6926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51280" y="4581360"/>
            <a:ext cx="1512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конец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6000" y="5776560"/>
            <a:ext cx="568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Работу выполнила ученица 10 А класса Тищенко Лилия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В работе использованы рисунки автора.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Руководитель: учитель химии Слизкая Валентина Федоровна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420640"/>
            <a:ext cx="4608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Акварельная краска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Акварельные краски бывают твердые, приготовляемые на гуммиарабике, в плитках, которые при употреблении натираются на тарелках или особых металлических палитрах, мягкие на меду и жидкие. Мягкие краски, в виде теста, так называемые медовые, накладываются в четырехугольные чашечки. Жидкие краски сохраняются, наподобие масляных, в оловянных трубочках, из которых краска выжимается по мере надобности на палитру.</a:t>
            </a:r>
            <a:endParaRPr b="0" lang="en-US" sz="14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Состав акварели: </a:t>
            </a:r>
            <a:endParaRPr b="0" lang="en-US" sz="1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"/>
              </a:rPr>
              <a:t>пигменты (тонкодисперсные порошки),</a:t>
            </a:r>
            <a:endParaRPr b="0" lang="en-US" sz="1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"/>
              </a:rPr>
              <a:t>связующее – гуммиарабик, декстрин, вишневая или терновая камедь,</a:t>
            </a:r>
            <a:endParaRPr b="0" lang="en-US" sz="1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"/>
              </a:rPr>
              <a:t>пластификатор (глицерин или инвертированный сахар),</a:t>
            </a:r>
            <a:endParaRPr b="0" lang="en-US" sz="1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"/>
              </a:rPr>
              <a:t>поверхностно активное вещество – бычья желчь – позволяет легко разносить краску по бумаге, препятствует скатыванию краски в капли, антисептик – фенол, предохраняет краску от плесени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Хранить в сухом, хорошо вентилируемом помещении. При температуре не ниже 0 градусов и не выше 30 градусов. Качество значительно ухудшается и не восстанавливается.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1200400">
            <a:off x="755280" y="188640"/>
            <a:ext cx="3754440" cy="2192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rot="742800">
            <a:off x="5219280" y="333360"/>
            <a:ext cx="3346560" cy="2209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527880"/>
            <a:ext cx="75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920" y="6668640"/>
            <a:ext cx="7632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375520" cy="72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4840" y="2419200"/>
            <a:ext cx="23148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Гуашь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Особенности: непрозрачная, плотная, высыхая, образует матовую бархатистость, белесоватость.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Состав: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тонкоперетертые пигменты,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связующее – гуммиарабик, фруктовая камедь, декстрин,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пластификатор – глицерин,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поверхностно активное вещество - животная желчь,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антисептик – фенол.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Хранить гуашь в хорошо закрытых банках при комнатной температуре не ниже 0 градусов. Если засохла, залить водой с однопроцентным раствором желатинового клея на 2 – 5 суток, затем размешать.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52800">
            <a:off x="179280" y="260280"/>
            <a:ext cx="277200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256800">
            <a:off x="3058920" y="333000"/>
            <a:ext cx="3025440" cy="2033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21101400">
            <a:off x="6084720" y="333000"/>
            <a:ext cx="2772000" cy="2041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6603480"/>
            <a:ext cx="764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6858000"/>
            <a:ext cx="76438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" y="19080"/>
            <a:ext cx="9118440" cy="683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Tahoma"/>
              </a:rPr>
              <a:t>Темпера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Свойства темперы позволяют применять ее в различных техниках и направлениях изобразительного искусства. В качестве основы можно использовать любой загрунтованный материал - дерево (грунт - левкас), холст, картон, бумагу без грунта, оргалит, штукатурку. 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Большую популярность воско-масляная темпера обрела в настенной живописи при восстановлении храмов. Как отмечают художники, работающие темперными красками при росписи стен и куполов, наибольшего колористического эффекта можно достичь, применяя слегка подогретые краски. Если краска уже нанесена, для более прочного соединения со стеной живописную поверхность можно слегка прогреть паяльной лампой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Состав: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льняное масло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дистиллированная вода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натуральный пчелиный воск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9933ff"/>
                </a:solidFill>
                <a:latin typeface="Arial"/>
              </a:rPr>
              <a:t>мягкая смола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21425400">
            <a:off x="468360" y="188640"/>
            <a:ext cx="3890880" cy="2062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21460200">
            <a:off x="6012000" y="5084640"/>
            <a:ext cx="28591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280" y="6603480"/>
            <a:ext cx="7129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6668640"/>
            <a:ext cx="77058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2671920"/>
            <a:ext cx="6850080" cy="4186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43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Масляные краски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3213000"/>
            <a:ext cx="764388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Густые пасты, приготовленные путем растирания пигмента со связующим веществом, в котором главной составной частью является масло. Сохранность и прочность произведений изобразительного искусства, исполненных масляными красками, в значительной степени зависит от качества связующих веществ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3333cc"/>
                </a:solidFill>
                <a:latin typeface="Arial"/>
              </a:rPr>
              <a:t>Художественные масляные краски не являются простыми механическими смесями связующего с пигментами, а представляют собой сложную коллоидную систему, в которой масло является дисперсионной средой, пигмент — дисперсной фазой, а воск и смолы—защитными коллоидами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33cc33"/>
                </a:solidFill>
                <a:latin typeface="Arial"/>
              </a:rPr>
              <a:t>Условия изменения отдельных составных частей этой системы и физико-химические процессы, происходящие при этом в художественной масляной краске и красочном слое, еще очень мало изучены.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Состав: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уплотненные масла (льняное, подсолнечное, ореховое и маковое)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мягкие смолы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пчелиный воск (не более 5% воска)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33ff"/>
                </a:solidFill>
                <a:latin typeface="Arial"/>
              </a:rPr>
              <a:t>эфирное масло</a:t>
            </a: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rot="21466200">
            <a:off x="468360" y="188640"/>
            <a:ext cx="3827520" cy="2449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rot="286800">
            <a:off x="4788000" y="260280"/>
            <a:ext cx="38257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7:26Z</dcterms:created>
  <dc:creator>SamLab.ws</dc:creator>
  <dc:description/>
  <dc:language>en-US</dc:language>
  <cp:lastModifiedBy>Катенька</cp:lastModifiedBy>
  <dcterms:modified xsi:type="dcterms:W3CDTF">2012-02-13T18:24:56Z</dcterms:modified>
  <cp:revision>11</cp:revision>
  <dc:subject/>
  <dc:title>Name of presentation</dc:title>
</cp:coreProperties>
</file>