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62F-C4F4-466E-904E-11C8A1DE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68D-CDC7-416F-8000-2AC293C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E76-3252-4B10-9CC5-32071C2F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937-9D02-4E10-BD35-BF610C59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845C-E1EB-4D9B-BA74-E3C7247F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FFE2-9B04-4A27-A3E7-058B499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9B5-A332-4644-8B41-820D989C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8ED-CBF1-4B30-85CF-1D0FD737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01C9-F61E-4D09-8D73-E5893595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159F-C19A-49AD-BBA5-B3563C10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89EF-D2A3-43F3-97E4-BDE3049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CF2-EB22-4739-9D9A-C96B82CB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9C4E-3B7D-407F-9853-808F70BB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0EC6-1849-4379-81BA-365258D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C94F-4421-4F34-9D4A-F9738963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759D-7904-4DB3-8487-F2A6AE17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C7C3-BBF5-4A8E-93BB-21C5A742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83D-F654-41BE-B9DC-A8FA011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E0C-E16B-4F7A-B1E0-16EE9EE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7CB-D62B-46B7-BBB2-F3A8F7D6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B22-B71A-4472-BB7F-1423A5F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331-7D0C-4456-813D-AB75FC3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BAC-0952-4AD5-ACA5-E687A145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647-2FC7-45EC-A2F7-54F064A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D28-C4C7-405D-8039-FE1479E492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CA2A-6CA4-48ED-A3D4-56DD3BA8BC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Курить – здоровью вредить!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(Курение с точки зрения химии и здравого смысла)</a:t>
            </a:r>
            <a:br>
              <a:rPr sz="44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Работу выполнили 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ученики 11 класса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Деревянкин Василий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Чеботарев Евгений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Руководитель: 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учитель химии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Слизкая В.Ф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27280" y="5428800"/>
            <a:ext cx="27734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Kunstler Script"/>
              </a:rPr>
              <a:t>Минздрав предупреждает</a:t>
            </a:r>
            <a:r>
              <a:rPr b="1" lang="en-US" sz="4200" spc="-1" strike="noStrike">
                <a:solidFill>
                  <a:srgbClr val="ff0000"/>
                </a:solidFill>
                <a:latin typeface="Kunstler Script"/>
              </a:rPr>
              <a:t> </a:t>
            </a:r>
            <a:r>
              <a:rPr b="1" lang="en-US" sz="4200" spc="-1" strike="noStrike">
                <a:solidFill>
                  <a:srgbClr val="ff0000"/>
                </a:solidFill>
                <a:latin typeface="Bernard MT Condensed"/>
              </a:rPr>
              <a:t>!</a:t>
            </a:r>
            <a:br>
              <a:rPr sz="4200"/>
            </a:br>
            <a:r>
              <a:rPr b="0" lang="ru-RU" sz="4200" spc="-1" strike="noStrike">
                <a:solidFill>
                  <a:srgbClr val="ff0000"/>
                </a:solidFill>
                <a:latin typeface="Bernard MT Condensed"/>
              </a:rPr>
              <a:t>Курение опасно для вашего здоровья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ли эт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решили проверить на практической работе, руководствуясь следующей логикой: если дым сигарет вреден, то вещества содержащиеся в нем губительны и для нежных проростков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ходя из наших возможностей, исследуем некоторые компоненты сигаретного ды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готовили 3% раствор хлорида железа для качественных реакц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Picture 4" descr="E:\экзамен\экзамен по химие\22042011226.jpg"/>
          <p:cNvPicPr/>
          <p:nvPr/>
        </p:nvPicPr>
        <p:blipFill>
          <a:blip r:embed="rId1"/>
          <a:stretch/>
        </p:blipFill>
        <p:spPr>
          <a:xfrm>
            <a:off x="714240" y="2857680"/>
            <a:ext cx="3786480" cy="3357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E:\экзамен\экзамен по химие\22042011230.jpg"/>
          <p:cNvPicPr/>
          <p:nvPr/>
        </p:nvPicPr>
        <p:blipFill>
          <a:blip r:embed="rId2"/>
          <a:stretch/>
        </p:blipFill>
        <p:spPr>
          <a:xfrm>
            <a:off x="2643120" y="250020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з чего состоит дым сигарет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исследовать состав табачного дыма мы сделали вытяжку из сигаретных фильтров. Взяли 20 выкуренных сигарет, оторвали фильтры и замочили в дистиллированной в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другого опыта пропустили сигаретный дым через дистиллированную воду и получили раствор веществ, содержащихся в сигарет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 табачного дыма-при горении получаются даже кислот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=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=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+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4H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4" descr="E:\экзамен\экзамен по химие\29042011265.jpg"/>
          <p:cNvPicPr/>
          <p:nvPr/>
        </p:nvPicPr>
        <p:blipFill>
          <a:blip r:embed="rId1"/>
          <a:stretch/>
        </p:blipFill>
        <p:spPr>
          <a:xfrm>
            <a:off x="357120" y="500040"/>
            <a:ext cx="8501040" cy="57340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1735200" y="45720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реда раствора кислая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519120" y="2643120"/>
            <a:ext cx="86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У некурящего человека среда слюны во рту щелочна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а у курильщика кислая. Из-за этого разрушаются зуб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голос становится груб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БНАРУЖЕНИЕ ФЕНОЛОВ И ВОССТАНОВИТЕЛЕЙ В ТАБАЧНОМ ДЫМЕ И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ытяжке из фильтров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СИГАРЕТ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 помощь хлорида железа(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9051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5" descr="E:\экзамен\экзамен по химие\27042011256.jpg"/>
          <p:cNvPicPr/>
          <p:nvPr/>
        </p:nvPicPr>
        <p:blipFill>
          <a:blip r:embed="rId1"/>
          <a:stretch/>
        </p:blipFill>
        <p:spPr>
          <a:xfrm>
            <a:off x="1500120" y="1857240"/>
            <a:ext cx="4908600" cy="3681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304280" y="557208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Раствор стал грязно-си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Есть фенол – ядовитейшее вещество 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-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реагируют живые организмы на вещества, содержащиеся в сигаретном дыме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2" descr="C:\Documents and Settings\Кум\Рабочий стол\экзамен\27042011258.jpg"/>
          <p:cNvPicPr/>
          <p:nvPr/>
        </p:nvPicPr>
        <p:blipFill>
          <a:blip r:embed="rId1"/>
          <a:stretch/>
        </p:blipFill>
        <p:spPr>
          <a:xfrm>
            <a:off x="0" y="1000080"/>
            <a:ext cx="5643720" cy="4071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Documents and Settings\Кум\Рабочий стол\экзамен\29042011262.jpg"/>
          <p:cNvPicPr/>
          <p:nvPr/>
        </p:nvPicPr>
        <p:blipFill>
          <a:blip r:embed="rId2"/>
          <a:stretch/>
        </p:blipFill>
        <p:spPr>
          <a:xfrm>
            <a:off x="4071960" y="1214280"/>
            <a:ext cx="4429080" cy="4138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7"/>
          <p:cNvSpPr/>
          <p:nvPr/>
        </p:nvSpPr>
        <p:spPr>
          <a:xfrm>
            <a:off x="3571920" y="4643280"/>
            <a:ext cx="50720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воде зерна пшеницы проросл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в растворе сигаретного дыма погиб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акция с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MnO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вор обесцвечивается и выпадает бурый осадо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восстановл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M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ществами, содержащимися в табачном дым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2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+3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 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nO2+4O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исутствует в растворе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предельные органические соеди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2" descr="C:\Documents and Settings\Кум\Рабочий стол\экзамен\27042011259.jpg"/>
          <p:cNvPicPr/>
          <p:nvPr/>
        </p:nvPicPr>
        <p:blipFill>
          <a:blip r:embed="rId1"/>
          <a:stretch/>
        </p:blipFill>
        <p:spPr>
          <a:xfrm>
            <a:off x="714240" y="2071800"/>
            <a:ext cx="4429440" cy="4316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Documents and Settings\Кум\Рабочий стол\экзамен\27042011260.jpg"/>
          <p:cNvPicPr/>
          <p:nvPr/>
        </p:nvPicPr>
        <p:blipFill>
          <a:blip r:embed="rId2"/>
          <a:stretch/>
        </p:blipFill>
        <p:spPr>
          <a:xfrm>
            <a:off x="1428840" y="2000160"/>
            <a:ext cx="4714920" cy="3722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Documents and Settings\Кум\Рабочий стол\экзамен\27042011261.jpg"/>
          <p:cNvPicPr/>
          <p:nvPr/>
        </p:nvPicPr>
        <p:blipFill>
          <a:blip r:embed="rId3"/>
          <a:stretch/>
        </p:blipFill>
        <p:spPr>
          <a:xfrm>
            <a:off x="3929040" y="1428840"/>
            <a:ext cx="385776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Об этом узнали из печатных источников и Интернет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В дыме сигарет есть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АММИАК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(N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H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аздражает слизистые оболочки вызывая боли </a:t>
            </a:r>
            <a:fld id="{CEC91B75-9CA8-4746-B21F-1746F43B2612}" type="slidenum"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в желудке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Происходит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слезотечение,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повышенное отделение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мокроты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Вызывает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удушье, головокруж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туберкулезу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(Из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100 случаев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заболеваний туберкулеза -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95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приходится на курильщи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 работ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Изучить историю использования таба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зучить состав табачного ды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вести эксперимент по подтверждению некоторых веществ в табачном ды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Расмотреть влияние этих веществ на организм челове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Сделать соответствующ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53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179280" y="1557000"/>
            <a:ext cx="124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455840" y="49680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755640" y="549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сть СИНИЛЬНАЯ КИСЛОТ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HC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-79200" y="1125360"/>
            <a:ext cx="9304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a3c14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гко проникает в кровь (снижает способность клеток воспринимать кислород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0" y="2421000"/>
            <a:ext cx="6854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a3c14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ервыми страдают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рвные клетк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0" y="3429000"/>
            <a:ext cx="133524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a3c14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 большой дозе проявляется отравл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а сильнейшим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збуждением ЦНС наступ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аралич, останавливается дыхание ,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тем и  серд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05960" cy="25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    </a:t>
            </a: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Есть </a:t>
            </a: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МЕТАНОЛ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(CH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OH)</a:t>
            </a:r>
            <a:br>
              <a:rPr sz="4400"/>
            </a:b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это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очень</a:t>
            </a: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 ядовитое вещество, вызывающее тяжелое отравление, слепоту, смерть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0" y="2852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И Формальдегид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(HCOOH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это ядовитое вещество, вызывающ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оль в груди,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ашель, бронхит, коньюктивит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, сильные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еки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кожи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</a:t>
            </a: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содержится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ЕРОВОДОРОД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(H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S)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струю кислородную недостаточность это токсическое вещество,      вызывающее, приводящую к поражению нервной системы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и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ЦЕТАЛЬДЕГИД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(CH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CO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это ядовитое вещество,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аздражающее глаза, дыхательные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пут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ызывающий удушье и головную бо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Есть даже РАДИОАКТИВНЫЕ ЭЛЕМЕНТЫ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(Po</a:t>
            </a: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ru-RU" sz="3100" spc="-1" strike="noStrike">
                <a:solidFill>
                  <a:srgbClr val="ffffff"/>
                </a:solidFill>
                <a:latin typeface="Arial Narrow"/>
              </a:rPr>
              <a:t>рака легких</a:t>
            </a:r>
            <a:r>
              <a:rPr b="1" i="1" lang="en-US" sz="31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ru-RU" sz="3100" spc="-1" strike="noStrike">
                <a:solidFill>
                  <a:srgbClr val="ffffff"/>
                </a:solidFill>
                <a:latin typeface="Arial Narrow"/>
              </a:rPr>
              <a:t>3,5 раза</a:t>
            </a: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 больше дозы, принятой международным соглашением по защите от радиации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Радиоактивный свинец</a:t>
            </a: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(Pb)</a:t>
            </a: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 и висмут</a:t>
            </a: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(Bi)</a:t>
            </a: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асстройство сна и аппети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плохая успеваем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отставание в физическом развитии</a:t>
            </a:r>
            <a:r>
              <a:rPr b="0" i="1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3"/>
          <p:cNvGraphicFramePr/>
          <p:nvPr/>
        </p:nvGraphicFramePr>
        <p:xfrm>
          <a:off x="285840" y="963720"/>
          <a:ext cx="8570880" cy="58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963720"/>
                    <a:ext cx="857088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Box 2"/>
          <p:cNvSpPr/>
          <p:nvPr/>
        </p:nvSpPr>
        <p:spPr>
          <a:xfrm>
            <a:off x="681480" y="0"/>
            <a:ext cx="76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еподкупная статис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Поймите,курение очень вредит вашему здоровью!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 Так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курить или не курить?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Сделайте выбор в пользу второго утверждения!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«Табак приносит вред телу, разрушает разум, отупляет целые наци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О. де Бальза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008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Из истории табака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Христофор Колумб (1451 – 1506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4" descr="Картинка 60 из 185"/>
          <p:cNvPicPr/>
          <p:nvPr/>
        </p:nvPicPr>
        <p:blipFill>
          <a:blip r:embed="rId1"/>
          <a:stretch/>
        </p:blipFill>
        <p:spPr>
          <a:xfrm>
            <a:off x="684360" y="1341360"/>
            <a:ext cx="7921440" cy="55166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45880" y="4653000"/>
            <a:ext cx="8127000" cy="2014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В Европу табак попал из Америки, где побывал мореплава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Христофор Колумб. Высадившись на незнакомый бере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Колумб и его спутники увидели, что туземцы - взрослые и дети – держ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в зубах дымящиеся пучки тлеющих листьев неизвест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европейцам растения. Выяснилось, что "дикари" традицио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спользуют его листья для частого вдыхания дым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Табак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(Nicotian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од однолетн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и многолетн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кустарников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травянистых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аст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емей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аслен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313080" cy="29588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476360" y="3573360"/>
            <a:ext cx="3960720" cy="2776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    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Возвращаясь в Европу, Колумб захватил с собой несколько кип сушёных листьев "тобакко" и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нескольких курильщиков. Он рассчитывал развлечь своих соотечественников невиданной экзотикой. Так и случилось: краснолицые "дикари", украшенные перьями и пускающие дым изо рта, поразили весь испанский двор.</a:t>
            </a:r>
            <a:br>
              <a:rPr sz="3200"/>
            </a:b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Вскоре табак попал во Францию: Жан Нико, бывший послом в Испании, привёз оттуда листья и семена табака в подарок своей королеве Екатерине Медичи. От фамилии Нико произошло слово "никотин" - так называют основной компонент табак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5" descr="Картинка 15 из 31"/>
          <p:cNvPicPr/>
          <p:nvPr/>
        </p:nvPicPr>
        <p:blipFill>
          <a:blip r:embed="rId1"/>
          <a:stretch/>
        </p:blipFill>
        <p:spPr>
          <a:xfrm>
            <a:off x="1476360" y="1844640"/>
            <a:ext cx="4175280" cy="3247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332000" y="4292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ан Нико – французский дипломат (1530 -16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урение табака, а также применение его в качестве лекарства (в виде настоев, экстрактов, пилюль и др.) часто вызывало тяжёлые отравления, нередко кончавшиеся смертью. Это заставляло правительства разных стран вести борьбу с курением. Применялись различные наказания, в ряде стран весьма жестокие.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 России в царствование царя Михаила Фёдоровича уличённых в курении в первый раз наказывали 60 ударами палок по стопам, во второй - отрезанием носа или ушей.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76 из 156"/>
          <p:cNvPicPr/>
          <p:nvPr/>
        </p:nvPicPr>
        <p:blipFill>
          <a:blip r:embed="rId1"/>
          <a:stretch/>
        </p:blipFill>
        <p:spPr>
          <a:xfrm>
            <a:off x="179280" y="260280"/>
            <a:ext cx="5238720" cy="6408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50920" y="573408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арь Михаил       Фёдорович Ром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годы правления 1613-16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сле опустошительного пожара в Москве в 1634 году, причиной которого оказалось курение, оно было запрещено под страхом смертной казни. При Алексее Михайловиче, сыне Михаила Федоровича, в специальном "Уложении" от 1649 года было велено всех, у кого будет найдено богомерзкое зелье, пытать и бить на козле кнутом, пока не признаются, откуда зелье получено". Частных торговцев табаком повелевалось "пороть, ссылать в дальние города"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о в этой борьбе табак всё же оказался победите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50160" cy="588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43:32Z</dcterms:created>
  <dc:creator>user</dc:creator>
  <dc:description/>
  <dc:language>en-US</dc:language>
  <cp:lastModifiedBy>Катенька</cp:lastModifiedBy>
  <dcterms:modified xsi:type="dcterms:W3CDTF">2012-02-13T16:10:22Z</dcterms:modified>
  <cp:revision>40</cp:revision>
  <dc:subject/>
  <dc:title>Прежде чем закурить – подумай!</dc:title>
</cp:coreProperties>
</file>