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48E-6B6F-453D-942E-13145E3F1A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геометрической прогресс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ge_11.pas a=256 b=511 k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ses cr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,b,k:integ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:=1; b:=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hile a&lt;=256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:=a*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:=b+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:=k+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riteln('a=',a,'   b=',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riteln('b=',b,'  k=',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 b=1023, a=512, k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614-FC56-4B34-A3F5-F3DE2669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C07-E397-4E5F-A535-A85256D9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2CA-7411-44E8-A48F-A82934AD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E75-1980-4951-8448-DFCF8231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F58-8CA1-4C12-93B4-C575D16F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ED93-73E2-42D4-84AF-7595198B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64B1-11E0-47A6-8488-3983CBCB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753B-70B6-4194-ABBE-82BF2810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62C0-A5AC-4D88-B0CA-9AE261BB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5801-0A3A-4EED-AF4A-849DE581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2FEF-C3C9-47A4-BB5F-D45FEA9A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805-60F7-42BF-9D0C-5C3B20E9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C460-80F3-4EE1-9417-3E1F3E52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4BFA-9C49-4A53-89DA-779A8207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530E-69AD-4F1D-8949-F7BCE89E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4244-9F40-4472-9A54-2C2606D2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2B3A-E837-45BD-B89B-A9083404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D30-05B4-4179-B9D8-FA0BD13A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BB9-B0A6-4853-9F12-256223F1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3B7-7AD0-4D21-B3C0-592524C0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6FA-EBBB-4C87-B0B8-74C6BB7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A4D-53C4-4114-BFF4-953D495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5B3-040D-452E-9C47-4ADCCA38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F49-D6E5-4CE9-9F33-F8E3ACD6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7346-12F3-49B2-AFBF-AB75DC8F4FCF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680B-5379-4626-AA2E-EBA133BED765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EGE_kyrs/B2.doc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8;&#1072;&#1073;&#1083;&#1080;&#1094;&#1072;%20&#1089;&#1086;&#1086;&#1090;&#1074;&#1077;&#1090;&#1089;&#1090;&#1074;&#1080;&#1103;%20&#1087;&#1077;&#1088;&#1074;&#1080;&#1095;&#1085;&#1086;&#1075;&#1086;%20&#1080;%20&#1090;&#1077;&#1089;&#1090;&#1086;&#1074;&#1086;&#1075;&#1086;%20&#1073;&#1072;&#1083;&#1083;&#1072;%20&#1045;&#1043;&#1069;2010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38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5229"/>
                </a:solidFill>
                <a:latin typeface="Monotype Corsiva"/>
              </a:rPr>
              <a:t>Адаптивная система обучения на уроках  математики средствами ИКТ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743200" y="5805000"/>
            <a:ext cx="64008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2b2c4f"/>
                </a:solidFill>
                <a:latin typeface="Times New Roman"/>
              </a:rPr>
              <a:t>Лялина Елена Викторовна</a:t>
            </a:r>
            <a:r>
              <a:rPr b="0" lang="en-US" sz="1600" spc="-1" strike="noStrike">
                <a:solidFill>
                  <a:srgbClr val="2b2c4f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2b2c4f"/>
                </a:solidFill>
                <a:latin typeface="Times New Roman"/>
              </a:rPr>
              <a:t>учитель математики МОУ ВСОШ №3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0DFF-CC0C-4374-A7FF-74D51D313DE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2A983A4-5C66-4BF7-B68A-0FBB9616D3C0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imes New Roman"/>
              </a:rPr>
              <a:t>Теоретическая баз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Наша школа собирает контингент учащихся весьма разнородный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о уровню и структуре подготовленности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развитию познавательных способностей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мотивацией учебно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ознавательной деятельности и т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-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разновидность предопределяет и специфику парадигмы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дидактическая система должна обеспечивать нестандартно социализирующейся личности возможность получения образования адекватно нестандартными и максимально индивидуализированными способами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Новизна разработки</a:t>
            </a:r>
            <a:r>
              <a:rPr b="0" lang="en-US" sz="2800" spc="-1" strike="noStrike">
                <a:solidFill>
                  <a:srgbClr val="404176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если организовать работу в соответствии с адаптивной моделью образования</a:t>
            </a:r>
            <a:r>
              <a:rPr b="0" lang="en-US" sz="2800" spc="-1" strike="noStrike">
                <a:solidFill>
                  <a:srgbClr val="404176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то это позволит каждому ученику адаптироваться к новым социальным условиям жизни</a:t>
            </a:r>
            <a:r>
              <a:rPr b="0" lang="en-US" sz="2800" spc="-1" strike="noStrike">
                <a:solidFill>
                  <a:srgbClr val="404176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даст возможность каждому участнику образовательного процесса самореализоваться и саморазвиться</a:t>
            </a:r>
            <a:r>
              <a:rPr b="0" lang="en-US" sz="2800" spc="-1" strike="noStrike">
                <a:solidFill>
                  <a:srgbClr val="404176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53737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imes New Roman"/>
              </a:rPr>
              <a:t>Основные этапы реализации план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В адаптивной системе обучения возможны разные педагогические технологии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уровневой дифференциации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коллективных способов обучения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модульная технология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технология личностно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ориентированного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обучения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роектная деятельност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Во всех этих технологиях деятельность учащихся организует с упором</a:t>
            </a:r>
            <a:br>
              <a:rPr sz="2400"/>
            </a:b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на самостоятельную работу</a:t>
            </a: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на саморазвитие личности</a:t>
            </a: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её активности и творческого начала</a:t>
            </a: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В адаптивной системе обучения применение различных методов ставится на прочную рефлексивную основу</a:t>
            </a: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методы выбираются не случайно</a:t>
            </a: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а в тесной связи как разноуровневым содержанием</a:t>
            </a: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так и с</a:t>
            </a: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избранной педагогической технологией</a:t>
            </a: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Практические задания</a:t>
            </a: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Приложение</a:t>
            </a:r>
            <a:br>
              <a:rPr sz="4400"/>
            </a:b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3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4824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4000" y="333360"/>
            <a:ext cx="8570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3100"/>
                </a:solidFill>
                <a:latin typeface="Arial"/>
              </a:rPr>
              <a:t>Запишите значение переменной </a:t>
            </a:r>
            <a:r>
              <a:rPr b="1" lang="ru-RU" sz="2400" spc="-1" strike="noStrike">
                <a:solidFill>
                  <a:srgbClr val="4a3100"/>
                </a:solidFill>
                <a:latin typeface="Arial"/>
              </a:rPr>
              <a:t>b </a:t>
            </a:r>
            <a:r>
              <a:rPr b="0" lang="ru-RU" sz="2400" spc="-1" strike="noStrike">
                <a:solidFill>
                  <a:srgbClr val="4a3100"/>
                </a:solidFill>
                <a:latin typeface="Arial"/>
              </a:rPr>
              <a:t>после выполнения фрагмента алгоритма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72360" y="6381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Решени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%    качества знаний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85800" y="1981080"/>
          <a:ext cx="7772400" cy="4630680"/>
        </p:xfrm>
        <a:graphic>
          <a:graphicData uri="http://schemas.openxmlformats.org/drawingml/2006/table">
            <a:tbl>
              <a:tblPr/>
              <a:tblGrid>
                <a:gridCol w="1149480"/>
                <a:gridCol w="1441440"/>
                <a:gridCol w="1224000"/>
                <a:gridCol w="1366560"/>
                <a:gridCol w="1297080"/>
                <a:gridCol w="1293840"/>
              </a:tblGrid>
              <a:tr h="155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2008-2009 уч</a:t>
                      </a:r>
                      <a:r>
                        <a:rPr b="0" lang="en-US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2009-20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уч</a:t>
                      </a:r>
                      <a:r>
                        <a:rPr b="0" lang="en-US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2010-201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уч</a:t>
                      </a:r>
                      <a:r>
                        <a:rPr b="0" lang="en-US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404176"/>
                          </a:solidFill>
                          <a:latin typeface="Times New Roman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% кач</a:t>
                      </a:r>
                      <a:r>
                        <a:rPr b="0" lang="en-US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знаний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% кач</a:t>
                      </a:r>
                      <a:r>
                        <a:rPr b="0" lang="en-US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знаний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% кач</a:t>
                      </a:r>
                      <a:r>
                        <a:rPr b="0" lang="en-US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b2c4f"/>
                          </a:solidFill>
                          <a:latin typeface="Times New Roman"/>
                        </a:rPr>
                        <a:t>знаний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2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62b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562b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62b00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2800" spc="-1" strike="noStrike" baseline="30000">
                          <a:solidFill>
                            <a:srgbClr val="562b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62b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800" spc="-1" strike="noStrike" baseline="30000">
                          <a:solidFill>
                            <a:srgbClr val="562b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62b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562b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,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62b00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2800" spc="-1" strike="noStrike" baseline="30000">
                          <a:solidFill>
                            <a:srgbClr val="562b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62b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2800" spc="-1" strike="noStrike" baseline="30000">
                          <a:solidFill>
                            <a:srgbClr val="562b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Наблюдается положительная динамика 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 качества знаний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Повысилась мотивация учащихся к обучению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олат Е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БухаркинаМ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Ю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Современные педагогические и информационные технологии в системе образования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Академия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,200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Ямбург Е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Адаптивная школа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200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Хуторский А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рактикум по дидактике и методикам обучения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: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итер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200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Северова Т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Формирование информационного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ространства адаптивной школы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Москва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.200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imes New Roman"/>
              </a:rPr>
              <a:t>Содержание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798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Анализ ситуаци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роблем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объект исследова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редмет исследова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Концепция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деятельности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задач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гипотез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теоретическое обоснование проблемы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новизн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Теоретическая баз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Вывод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Times New Roman"/>
              </a:rPr>
              <a:t>Анализ ситуации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7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2b00"/>
                </a:solidFill>
                <a:latin typeface="Times New Roman"/>
              </a:rPr>
              <a:t>Контингент учащихся школы разнородный</a:t>
            </a:r>
            <a:r>
              <a:rPr b="0" lang="en-US" sz="1800" spc="-1" strike="noStrike">
                <a:solidFill>
                  <a:srgbClr val="562b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Ежегодно в школу производится новый набор в 10 классы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ыпускников 9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-x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классов нашей школы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из разных школ Пролетарского района г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Твери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из Тверской области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из других областей России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из стран СНГ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Количество человек из 20 человек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6 чел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.-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вечерняя школа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6 чел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.-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редние школы города Твери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4 чел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.-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школы Тверской области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2 чел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.-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школы другие области России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2 чел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.-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школы из стран СНГ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176"/>
                </a:solidFill>
                <a:latin typeface="Times New Roman"/>
              </a:rPr>
              <a:t>В  процентах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547640" y="1989000"/>
          <a:ext cx="60915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6091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609480"/>
            <a:ext cx="79898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68"/>
                </a:solidFill>
                <a:latin typeface="Times New Roman"/>
              </a:rPr>
              <a:t>Учащиеся разного возраст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3100"/>
                </a:solidFill>
                <a:latin typeface="Times New Roman"/>
              </a:rPr>
              <a:t>До 18 лет</a:t>
            </a:r>
            <a:r>
              <a:rPr b="1" lang="en-US" sz="3200" spc="-1" strike="noStrike">
                <a:solidFill>
                  <a:srgbClr val="4a31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4a3100"/>
                </a:solidFill>
                <a:latin typeface="Times New Roman"/>
              </a:rPr>
              <a:t>40</a:t>
            </a:r>
            <a:r>
              <a:rPr b="1" lang="en-US" sz="3200" spc="-1" strike="noStrike">
                <a:solidFill>
                  <a:srgbClr val="4a3100"/>
                </a:solidFill>
                <a:latin typeface="Times New Roman"/>
              </a:rPr>
              <a:t> %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3100"/>
                </a:solidFill>
                <a:latin typeface="Times New Roman"/>
              </a:rPr>
              <a:t>До 32 лет</a:t>
            </a:r>
            <a:r>
              <a:rPr b="1" lang="en-US" sz="3200" spc="-1" strike="noStrike">
                <a:solidFill>
                  <a:srgbClr val="4a31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4a3100"/>
                </a:solidFill>
                <a:latin typeface="Times New Roman"/>
              </a:rPr>
              <a:t>60 </a:t>
            </a:r>
            <a:r>
              <a:rPr b="1" lang="en-US" sz="3200" spc="-1" strike="noStrike">
                <a:solidFill>
                  <a:srgbClr val="4a31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84360" y="551664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00"/>
                </a:solidFill>
                <a:uFillTx/>
                <a:latin typeface="Arial"/>
                <a:hlinkClick r:id="rId1"/>
              </a:rPr>
              <a:t> 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57640" y="351936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176"/>
                </a:solidFill>
                <a:latin typeface="Arial"/>
              </a:rPr>
              <a:t>Разное социальное положени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4446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44468"/>
                </a:solidFill>
                <a:latin typeface="Times New Roman"/>
              </a:rPr>
              <a:t>Объектом </a:t>
            </a:r>
            <a:r>
              <a:rPr b="0" lang="en-US" sz="2400" spc="-1" strike="noStrike">
                <a:solidFill>
                  <a:srgbClr val="562b00"/>
                </a:solidFill>
                <a:latin typeface="Times New Roman"/>
              </a:rPr>
              <a:t>исследования является процесс обучения учащихся базовому курсу математики в адаптивной системе обучения</a:t>
            </a: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Times New Roman"/>
              </a:rPr>
              <a:t>Предметом</a:t>
            </a:r>
            <a:r>
              <a:rPr b="1" lang="en-US" sz="2400" spc="-1" strike="noStrike">
                <a:solidFill>
                  <a:srgbClr val="4a3100"/>
                </a:solidFill>
                <a:latin typeface="Times New Roman"/>
              </a:rPr>
              <a:t> исследования является методическое и программное обеспечение образовательного процесса на уроках математики в адаптивной системе обуче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948360" y="5515920"/>
            <a:ext cx="1079640" cy="73080"/>
          </a:xfrm>
          <a:custGeom>
            <a:avLst/>
            <a:gdLst>
              <a:gd name="textAreaLeft" fmla="*/ 4680 w 1079640"/>
              <a:gd name="textAreaRight" fmla="*/ 1074960 w 107964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317647" h="21600">
                <a:moveTo>
                  <a:pt x="0" y="0"/>
                </a:moveTo>
                <a:lnTo>
                  <a:pt x="317647" y="0"/>
                </a:lnTo>
                <a:lnTo>
                  <a:pt x="317647" y="21600"/>
                </a:lnTo>
                <a:lnTo>
                  <a:pt x="0" y="21600"/>
                </a:lnTo>
                <a:close/>
              </a:path>
              <a:path fill="lightenLess" w="317647" h="21600">
                <a:moveTo>
                  <a:pt x="0" y="0"/>
                </a:moveTo>
                <a:lnTo>
                  <a:pt x="317647" y="0"/>
                </a:lnTo>
                <a:lnTo>
                  <a:pt x="316247" y="1400"/>
                </a:lnTo>
                <a:lnTo>
                  <a:pt x="1400" y="1400"/>
                </a:lnTo>
                <a:close/>
              </a:path>
              <a:path fill="darken" w="317647" h="21600">
                <a:moveTo>
                  <a:pt x="317647" y="0"/>
                </a:moveTo>
                <a:lnTo>
                  <a:pt x="317647" y="21600"/>
                </a:lnTo>
                <a:lnTo>
                  <a:pt x="316247" y="20200"/>
                </a:lnTo>
                <a:lnTo>
                  <a:pt x="316247" y="1400"/>
                </a:lnTo>
                <a:close/>
              </a:path>
              <a:path fill="darkenLess" w="317647" h="21600">
                <a:moveTo>
                  <a:pt x="31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247" y="20200"/>
                </a:lnTo>
                <a:close/>
              </a:path>
              <a:path fill="lighten" w="31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647" h="21600">
                <a:moveTo>
                  <a:pt x="151817" y="7493"/>
                </a:moveTo>
                <a:lnTo>
                  <a:pt x="155325" y="7493"/>
                </a:lnTo>
                <a:lnTo>
                  <a:pt x="155325" y="12828"/>
                </a:lnTo>
                <a:cubicBezTo>
                  <a:pt x="155325" y="13751"/>
                  <a:pt x="156125" y="14482"/>
                  <a:pt x="157161" y="14482"/>
                </a:cubicBezTo>
                <a:lnTo>
                  <a:pt x="158824" y="14482"/>
                </a:lnTo>
                <a:cubicBezTo>
                  <a:pt x="159859" y="14482"/>
                  <a:pt x="160660" y="13751"/>
                  <a:pt x="160660" y="12828"/>
                </a:cubicBezTo>
                <a:lnTo>
                  <a:pt x="160660" y="7493"/>
                </a:lnTo>
                <a:lnTo>
                  <a:pt x="158824" y="7493"/>
                </a:lnTo>
                <a:lnTo>
                  <a:pt x="162331" y="3985"/>
                </a:lnTo>
                <a:lnTo>
                  <a:pt x="166004" y="7493"/>
                </a:lnTo>
                <a:lnTo>
                  <a:pt x="164168" y="7493"/>
                </a:lnTo>
                <a:lnTo>
                  <a:pt x="164168" y="12828"/>
                </a:lnTo>
                <a:cubicBezTo>
                  <a:pt x="164168" y="15596"/>
                  <a:pt x="161591" y="18155"/>
                  <a:pt x="158824" y="18155"/>
                </a:cubicBezTo>
                <a:lnTo>
                  <a:pt x="157161" y="18155"/>
                </a:lnTo>
                <a:cubicBezTo>
                  <a:pt x="154393" y="18155"/>
                  <a:pt x="151817" y="15596"/>
                  <a:pt x="151817" y="12828"/>
                </a:cubicBez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04176"/>
                </a:solidFill>
                <a:latin typeface="Times New Roman"/>
              </a:rPr>
              <a:t>Концепция деятельности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Цель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повысить качество усвоения учебного материала учениками на уроках математики за счет использования в образовательном процессе адаптивной обучающей системы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Задачи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Создание оптимальных психолого 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 педагогических условий для развития и самореализации способностей каждого ученика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Информатизация образовательного процесса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проведение уроков по различным предметам с использованием мобильного класса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использование уроков математики для закрепления знаний по другим предметам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Открытость информационного пространства адаптивной системы обучения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публикация на сайте теоретических материалов и практических результатов деятельности учащихся и учителей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5640" y="333360"/>
            <a:ext cx="75614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Гипотеза</a:t>
            </a:r>
            <a:r>
              <a:rPr b="1" lang="en-US" sz="2400" spc="-1" strike="noStrike">
                <a:solidFill>
                  <a:srgbClr val="40417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эффективность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образования в адаптивной системе обучения оценивается формированием у учащихся ключевых компетентностей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меющих универсальное значение для различных видов деятельности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дготовке учащихся к профессиональному выбору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Николай Петрович Капустин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доцент Московского педагогического университета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определил адаптивную образовательную систему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как систему способную помочь каждому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ученику достичь оптимального уровня интеллектуального развития в соответствии со своими задатками и способностями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Обладая такими свойствами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как гибкость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полиструктурность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открытость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адаптивная образовательная система выводит ребёнка на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более высокий потенциально возможный уровень развития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приспосабливая 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адаптируя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его к своим требованиям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В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З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Юсупов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научный руководитель школы №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9 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г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Кирова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профессор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кандидат педагогических наук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Школа №9 г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Кирова работает над решением проблемы проектирования адаптивной образовательной среды школы микрорайона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которая призвана действительно стать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школой для всех 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Е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Ф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Ямбург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)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Проблема формирования такой среды принадлежит к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числу наиболее актуальных для нашего общества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отечественной педагогической науки и школьной практики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Она затрагивает основополагающие представления о современном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образовании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образовательной среде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4a3100"/>
                </a:solidFill>
                <a:latin typeface="Times New Roman"/>
              </a:rPr>
              <a:t>её специфике в адаптивной школе</a:t>
            </a:r>
            <a:r>
              <a:rPr b="0" lang="en-US" sz="1800" spc="-1" strike="noStrike">
                <a:solidFill>
                  <a:srgbClr val="4a31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67560" y="549360"/>
            <a:ext cx="72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6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44468"/>
                </a:solidFill>
                <a:latin typeface="Arial"/>
              </a:rPr>
              <a:t>Теоретическое обоснование проблем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9:12:52Z</dcterms:created>
  <dc:creator>eddie</dc:creator>
  <dc:description/>
  <dc:language>en-US</dc:language>
  <cp:lastModifiedBy>Елена</cp:lastModifiedBy>
  <dcterms:modified xsi:type="dcterms:W3CDTF">2012-02-13T11:51:25Z</dcterms:modified>
  <cp:revision>41</cp:revision>
  <dc:subject/>
  <dc:title>ЕДИНЫЙ ГОСУДАРСТВЕННЫЙ ЭКЗАМЕН  ИНФОРМАТИКА</dc:title>
</cp:coreProperties>
</file>