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3BC-ACE2-4CA2-BC7D-C1900476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FC3-BC4E-4FBF-8790-F1EF2DC5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BD6-D94F-49BD-9487-027283A3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C8B-FAF8-4AC7-862F-6BB9AC34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59A4-3A2F-41BA-8CE4-4C1BAA5D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8838-C2E9-4590-BD08-47A9669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06F-ABC0-456F-B0CF-9659904E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F892-BC9D-4E76-87CB-F3CFE8F9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5F3F-11D9-4BAF-8B7A-534D46AA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4865-0033-48FA-B552-6E63D3F1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2A76-A127-4A48-890E-7F2371C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F9E-B5C1-4FF1-98A1-1421E94A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8E63-E709-4A60-8FD7-541B4CB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24E-4505-45FE-A559-7F55D131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CFD2-9DDC-4AA3-87E6-45C2517E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6B9B-119D-4442-843D-DA147E9E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AD7C-90A9-44F8-8F28-A9F82D94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109-4F10-448B-AB0A-0A6D3553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644-2227-4BC2-9013-65B5F076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348-837B-4076-BBEA-FCD6173B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8C8-001A-422E-90C0-B2EEEDD7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9B7-A177-44D1-B6B2-62C44582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999-7BF5-499B-B938-43D6A1A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ECD-7037-45B8-AC13-4ADB7133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CDBB-4209-44DE-A3BC-4EDF002CEF25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82A-238D-4119-910A-D8A4E53D5E48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ЛГЕБРА ЛОГИК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ю соста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Домодедовскго лицея №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астелин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СЫЛ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УТВЕРЖДЕНИЕ, ИЗ КОТОРОГО МЫ ИСХОДИМ В СВОИХ РАССУЖД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МЫСЛИТЕЛЬНЫЙ ПРОЦЕСС, В КОТОРОМ ИЗ ОДНОГО ИЛИ НЕСКОЛЬКИХ СУЖДЕНИЙ, ДЕЛАЕТСЯ ЗАКЛЮ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ИПОТЕЗ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ЭТО УТВЕРЖДЕНИЕ, ИСТИННОСТЬ КОТОРОГО ТРЕБУЕТСЯ ДОКАЗ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ТИВОРЕЧ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СИТУАЦИЯ, КОГДА В ПРОЦЕССЕ НАШИХ РАССУЖДЕНИЙ ПОЛУЧИЛИСЬ ДВА ВЗАИМОИСКЛЮЧАЕМЫХ  УТВЕР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ЕДИНИЦА МЫШ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сновные закон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 противореч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 исключения треть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 достаточного осн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етоды мышлен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ду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 приведения к противореч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ГЕБРЫ ЛОГ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РИСТОТЕЛЬ(38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.ДО Н.Э.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32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.ДО Н.Э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к Платона. С 343 до н. э. — воспитатель Александра Македонского. В 335/4 г. до н. э. основал Ликей (др.-греч. Λύκειο Лицей) Наиболее влиятельный из диалектиков древности; основоположник формальной логики. Создал понятийный аппарат, который до сих пор пронизывает философский лексикон и сам стиль научного мыш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истотель был первым мыслителем, создавшим всестороннюю систему философии, охватившую все сферы человеческого развития — социологию, философию, политику, логику, физику. Его взгляды на онтологию имели серьёзное влияние на последующее развитие человеческой мысли. Метафизическое учение Аристотеля было принято Фомой Аквинским и развито схоластическим мето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756320" y="2362320"/>
            <a:ext cx="3774960" cy="3724200"/>
            <a:chOff x="4756320" y="2362320"/>
            <a:chExt cx="3774960" cy="37242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4756320" y="2362320"/>
              <a:ext cx="377496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 txBox="1"/>
            <p:nvPr/>
          </p:nvSpPr>
          <p:spPr>
            <a:xfrm>
              <a:off x="4756320" y="2362320"/>
              <a:ext cx="377496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ffffff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ТФРИД ВИЛЬГЕЛЬМ ЛЕЙБНИЦ (1646-1716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ЛЕЙБНИЦ Готфрид Вильгельм немецкий философ, математик, физик, языковед. Основатель и президент (с 1700) Бранденбургского научного общества (позднее - Берлинская АН). По просьбе Петра I разработал проекты развития образования и государственного управления в России. Реальный мир, по Лейбницу, состоит из бесчисленных психических деятельных субстанций - монад, находящихся между собой в отношении предустановленной гармонии ("Монадология", 1714); существующий мир создан богом как "наилучший из всех возможных миров" ("Теодицея", 1710). В духе рационализма развил учение о прирожденной способности ума к познанию высших категорий бытия и всеобщих и необходимых истин логики и математики ("Новые опыты о человеческом разуме", 1704). Предвосхитил принципы современной математической логики ("Об искусстве комбинаторики", 1666). Один из создателей дифференциального и интегрального исчислени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756320" y="2362320"/>
            <a:ext cx="3774960" cy="3724200"/>
            <a:chOff x="4756320" y="2362320"/>
            <a:chExt cx="3774960" cy="37242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4756320" y="2362320"/>
              <a:ext cx="377496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4756320" y="2362320"/>
              <a:ext cx="377496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ЖОРЖ БУЛЬ (1815-186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рдж Буль— английский математик и логик. Профессор математики Королевского колледжа Корка (ныне Университетский колледж Корк) с 1849. Один из предтеч математической логики. Создатель математической логики (булева алгебра или логика высказывани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56320" y="2362320"/>
            <a:ext cx="3774960" cy="3724200"/>
            <a:chOff x="4756320" y="2362320"/>
            <a:chExt cx="3774960" cy="37242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756320" y="2362320"/>
              <a:ext cx="377496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4756320" y="2362320"/>
              <a:ext cx="377496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много отдых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92468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УЛЕВАЯ АЛГЕБ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ГИКА ВЫСКАЗЫ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СКАЗЫ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МИНИМАЛЬНАЯ МЫСЛЬ, УТВЕРЖДЕНИЕ, КОТОРОЕ МОЖЕТ БЫТЬ ЛИБО ИСТИННЫМ, ЛИБО ЛОЖ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Петровна</cp:lastModifiedBy>
  <dcterms:modified xsi:type="dcterms:W3CDTF">2012-02-13T21:54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