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05CC-9CD0-4D3B-8435-B7865D2A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E100-F792-4548-8952-586F8AD5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F265-82D1-48FC-BF80-F39D5A12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8271-AB54-46DA-A8AC-B5D2B189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CA15-4573-4D8A-A318-DEE559F9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A476-9855-4B2D-826A-8AD71054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A784-C8DB-4C15-95E7-2289F411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6CB3-19D6-4683-9144-F87D82D8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15C3-BAB2-4E90-8DCF-F0A570DC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49AC-4E0A-47F2-8D4A-4AA853A4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C8B8-A441-4A11-9AD1-24962A3F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5FDD-E30A-48AF-9DAA-159CF4AA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0A92-D8A9-4ED6-BD2D-CC913CEB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C0E5-A05D-4E49-8B9F-01893E5F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FDEC-B8FD-4F61-BFBB-9D7D2764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BA42-3F70-4891-BDFD-94E9BA0D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B798-8E7B-40EC-B44C-0EB0E92C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C15A6-E642-4F92-B33B-5EB752FC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10CAC-3CA3-4017-8EFD-C65A4566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77EAA-5F2A-4B42-B563-3C1B000B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DE1F7-93B0-4A56-891E-40C1701C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EA873-5018-4B5F-978D-1C3F44E7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630E-534F-47B4-8852-A9472E1F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BB9D3-93C1-46B2-BF80-DF70535A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F4A14-3748-4012-BF25-25B99C00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D22C8-473C-4EA4-A95E-FE4BDBA1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857F7-9345-4860-9448-A8989658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C5FCA-6F9C-4B25-AF68-D09A9A4B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15D2E-F758-489E-9C40-6B426347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C9DF1-238B-46B0-8E45-2F292DAE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E7E98-9AA6-4ECB-96D1-FEA79446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DDA37-9B27-4A23-84BA-31497CAB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AB169-3E13-4206-950C-F8B171F3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8EB-4145-435D-B0F7-128E427C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AB5D4-25E6-4D99-A959-28721A4F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06960-8995-4A44-8A4A-3A6A942F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D70FB-1C3F-4860-A142-16B5E47B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2E924-5F43-4CF7-A9D8-9BC19628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5BB74-D99A-4AB3-9A53-4BE2A237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20F12-EDEA-4C71-8040-0921D928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C1347-0A7E-4636-9CEF-115BF28A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E3543-182D-44AE-8D23-96095216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99ECD-1D5F-401C-BD7D-78AF58C6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7FB5C-0089-4287-8630-03E542DD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DA0B-F089-4AB1-B387-440B4F24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13E57-A49A-44E2-B3B4-A96B70A3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B93DB-9F8C-4DDA-8DE3-A8F4C760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1D4B4-9225-4B93-BD8B-1428A02E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20376-E2E2-4C20-8534-8C897B6B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335B3-019B-4510-8A87-682486EE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7CD96-32FE-4FED-BD49-992D7394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DC530-8590-464A-A5D2-C75DD19D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2D935-4370-43F1-BA3D-960C3BAB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AAD53-8DDD-4085-A602-5CA3C72F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DDCBA-2D7E-4876-9057-69CBFFBF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CFAF-E5A2-40FD-9F73-8D777BA6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C78D0-D9FF-4BD0-B717-EA925D64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DBA9D-15F0-4AD5-B78F-15BE75E3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1C840-D2C2-4219-A5FC-EDB13041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CBA6E-4E72-41E2-B2F4-D8DD674B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7ABF5-9F96-46F2-AE90-EB94441F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5AEB9-8201-498C-8440-83BE89B6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3707D-22CB-4E6D-AAFD-AB963F7E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ACCCA-B2F8-476B-876F-DB8822DF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43751-F675-40CB-86CE-C932E7E4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3B87E-6963-4B05-AC55-1A30521A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C0E-8532-42CD-83A2-6201CD68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245C8-1FAE-4495-8728-FB451DEC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70455-EEB8-4EAF-BDC8-EA12ECDE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F46B6-92FC-4F8D-9769-9D4147D2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41876-3705-4B20-AE7C-65373893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CB701-30F7-42D2-9B41-2FCD5794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FF184-463D-4B63-94F5-E313C1FD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E6D0F-8054-446F-9B1F-D5408829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35370-2FB4-4631-8CA0-A203636A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192D8-EEA0-4A9C-A969-122C75DA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C8C07-5B3D-4893-866D-DE7B5C9C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F0A-3372-49CD-8239-A4D54031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59A5C-EDEE-43DD-9291-741AE2F2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297E3-940A-44D5-850C-9C82FE2B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D6189-5DC9-4C2D-BE4A-DD87220E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06D32-9691-4911-AF2E-3B3C6DAD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1C14F-7974-4EB7-978E-EC485FC7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C256-7E44-4D70-AF62-8ECB8A9B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CF11-FD84-49BC-AAC1-4FFF4D18AB4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4DCE-217C-48D9-AAD1-1BBEBF49B3BB}" type="slidenum">
              <a:rPr b="0" lang="en-US" sz="13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C1F6-5850-47EE-8AB0-B275FE883B0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15DF-0A29-4AE1-80DF-23C2D3A1A07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2445-F9E0-4158-8355-234392EE218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546C-2333-49B6-AD0F-C1CACF30561C}" type="slidenum">
              <a:rPr b="0" lang="en-US" sz="9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FEF4-7381-4EBE-A0EC-407B96A6D861}" type="slidenum">
              <a:rPr b="0" lang="en-US" sz="9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3/75/596/75596431_6280840_aadb6fd8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182520" y="-347760"/>
            <a:ext cx="8412120" cy="21099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C:\Users\жанна\Desktop\мыло\b9c18c9c6ff3.jpg"/>
          <p:cNvPicPr/>
          <p:nvPr/>
        </p:nvPicPr>
        <p:blipFill>
          <a:blip r:embed="rId2"/>
          <a:stretch/>
        </p:blipFill>
        <p:spPr>
          <a:xfrm>
            <a:off x="357120" y="2357280"/>
            <a:ext cx="4262400" cy="281016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5214960" y="2357280"/>
            <a:ext cx="356220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Garamond"/>
              </a:rPr>
              <a:t>Подготовил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ru-RU" sz="4000" spc="-1" strike="noStrike">
                <a:solidFill>
                  <a:srgbClr val="ffff00"/>
                </a:solidFill>
                <a:latin typeface="Garamond"/>
              </a:rPr>
              <a:t>ученица 11класс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Garamond"/>
              </a:rPr>
              <a:t>Пимонова Снежан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aramond"/>
              </a:rPr>
              <a:t>Руководитель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aramond"/>
              </a:rPr>
              <a:t>учитель хим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aramond"/>
              </a:rPr>
              <a:t>Слизкая В.Ф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30" name="Picture 3" descr="C:\Users\жанна\Desktop\мыло\25042011242.jpg"/>
          <p:cNvPicPr/>
          <p:nvPr/>
        </p:nvPicPr>
        <p:blipFill>
          <a:blip r:embed="rId1"/>
          <a:stretch/>
        </p:blipFill>
        <p:spPr>
          <a:xfrm>
            <a:off x="0" y="0"/>
            <a:ext cx="5438880" cy="4079880"/>
          </a:xfrm>
          <a:prstGeom prst="rect">
            <a:avLst/>
          </a:prstGeom>
          <a:ln w="0">
            <a:noFill/>
          </a:ln>
        </p:spPr>
      </p:pic>
      <p:sp>
        <p:nvSpPr>
          <p:cNvPr id="331" name="Содержимое 7"/>
          <p:cNvSpPr/>
          <p:nvPr/>
        </p:nvSpPr>
        <p:spPr>
          <a:xfrm>
            <a:off x="4672080" y="1341360"/>
            <a:ext cx="447192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1.Поместь несколько граммов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жира (подсолнечного масла) в фарфоровую чашк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2. Содержимое кипятить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с 35 % раствором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едкого натра </a:t>
            </a: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NaOH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. Наблюдаетс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остепенное растворение жи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3. Когда масса загустеет, нагревание прекратить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4. К полученному раствору добавить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оваренной соли </a:t>
            </a: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NaCl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до насыщени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(высаливания). Наблюдается всплытие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слоя мыл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5. Этот слой отделить и отжать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6. Добавить ароматизатор ( масло чабреца). Мыло готово!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47840" indent="-382680">
              <a:lnSpc>
                <a:spcPct val="10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2" name="Picture 4" descr="C:\Users\жанна\Desktop\мыло\25042011245.jpg"/>
          <p:cNvPicPr/>
          <p:nvPr/>
        </p:nvPicPr>
        <p:blipFill>
          <a:blip r:embed="rId2"/>
          <a:stretch/>
        </p:blipFill>
        <p:spPr>
          <a:xfrm>
            <a:off x="1547640" y="2205000"/>
            <a:ext cx="5759640" cy="43196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941760" y="5373720"/>
            <a:ext cx="702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59"/>
                </a:solidFill>
                <a:latin typeface="Garamond"/>
              </a:rPr>
              <a:t>Вот такое получилось мыл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597708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Жидкое мыло- это соли калия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Хозяйственное-содержит много щелочи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Туалетное–самое качественное,содержит мало щелочи, с добавлением глицерина, ароматизаторов и других веществ полезных для кожи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6" name="Picture 7" descr="-250_0"/>
          <p:cNvPicPr/>
          <p:nvPr/>
        </p:nvPicPr>
        <p:blipFill>
          <a:blip r:embed="rId2"/>
          <a:stretch/>
        </p:blipFill>
        <p:spPr>
          <a:xfrm>
            <a:off x="6588000" y="189000"/>
            <a:ext cx="1455840" cy="25923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556u"/>
          <p:cNvPicPr/>
          <p:nvPr/>
        </p:nvPicPr>
        <p:blipFill>
          <a:blip r:embed="rId3"/>
          <a:stretch/>
        </p:blipFill>
        <p:spPr>
          <a:xfrm>
            <a:off x="6012000" y="2276640"/>
            <a:ext cx="2519280" cy="23000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0" descr="him026"/>
          <p:cNvPicPr/>
          <p:nvPr/>
        </p:nvPicPr>
        <p:blipFill>
          <a:blip r:embed="rId4"/>
          <a:stretch/>
        </p:blipFill>
        <p:spPr>
          <a:xfrm>
            <a:off x="5724360" y="4508640"/>
            <a:ext cx="2880000" cy="216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5c9c"/>
                </a:solidFill>
                <a:latin typeface="Century Gothic"/>
              </a:rPr>
              <a:t>Это мыло ручной работы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40" name="Текст 12" descr="Картинка 6 из 1679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268280"/>
            <a:ext cx="4391280" cy="20066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69680" y="5013360"/>
            <a:ext cx="6208200" cy="1312920"/>
          </a:xfrm>
          <a:prstGeom prst="rect">
            <a:avLst/>
          </a:prstGeom>
          <a:noFill/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9c2"/>
                </a:solidFill>
                <a:latin typeface="Garamond"/>
              </a:rPr>
              <a:t>Попробуйте сделать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9c2"/>
                </a:solidFill>
                <a:latin typeface="Garamond"/>
              </a:rPr>
              <a:t>У вас тоже получится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3924360" y="2997360"/>
            <a:ext cx="2519280" cy="1879560"/>
          </a:xfrm>
          <a:prstGeom prst="rect">
            <a:avLst/>
          </a:prstGeom>
          <a:ln w="0">
            <a:noFill/>
          </a:ln>
        </p:spPr>
      </p:pic>
      <p:pic>
        <p:nvPicPr>
          <p:cNvPr id="343" name="Текст 12" descr=""/>
          <p:cNvPicPr/>
          <p:nvPr/>
        </p:nvPicPr>
        <p:blipFill>
          <a:blip r:embed="rId4"/>
          <a:stretch/>
        </p:blipFill>
        <p:spPr>
          <a:xfrm>
            <a:off x="5940360" y="1413000"/>
            <a:ext cx="2433600" cy="20779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5"/>
          <a:stretch/>
        </p:blipFill>
        <p:spPr>
          <a:xfrm>
            <a:off x="7667280" y="3933360"/>
            <a:ext cx="509400" cy="120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5c9c"/>
                </a:solidFill>
                <a:latin typeface="Century Gothic"/>
              </a:rPr>
              <a:t>Все нужно мыться!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285840" y="2000160"/>
            <a:ext cx="556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f2f2"/>
                </a:solidFill>
                <a:latin typeface="Garamond"/>
              </a:rPr>
              <a:t>«Ах ты, гадкий, ах ты, грязный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f2f2"/>
                </a:solidFill>
                <a:latin typeface="Garamond"/>
              </a:rPr>
              <a:t>Неумытый поросёнок!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f2f2"/>
                </a:solidFill>
                <a:latin typeface="Garamond"/>
              </a:rPr>
              <a:t>Ты чернее трубочиста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f2f2"/>
                </a:solidFill>
                <a:latin typeface="Garamond"/>
              </a:rPr>
              <a:t>Полюбуйся на себя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f2f2"/>
                </a:solidFill>
                <a:latin typeface="Garamond"/>
              </a:rPr>
              <a:t>У тебя на шее вакса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f2f2"/>
                </a:solidFill>
                <a:latin typeface="Garamond"/>
              </a:rPr>
              <a:t>У тебя под носом клякс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f2f2"/>
                </a:solidFill>
                <a:latin typeface="Garamond"/>
              </a:rPr>
              <a:t>У тебя такие руки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f2f2"/>
                </a:solidFill>
                <a:latin typeface="Garamond"/>
              </a:rPr>
              <a:t>Что сбежали даже брюк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f2f2"/>
                </a:solidFill>
                <a:latin typeface="Garamond"/>
              </a:rPr>
              <a:t>Даже брюки, даже брюк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f2f2"/>
                </a:solidFill>
                <a:latin typeface="Garamond"/>
              </a:rPr>
              <a:t>Убежали от тебя…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6" name="Picture 6" descr="12"/>
          <p:cNvPicPr/>
          <p:nvPr/>
        </p:nvPicPr>
        <p:blipFill>
          <a:blip r:embed="rId1"/>
          <a:stretch/>
        </p:blipFill>
        <p:spPr>
          <a:xfrm>
            <a:off x="4952880" y="1523880"/>
            <a:ext cx="3800520" cy="506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-360" y="928800"/>
            <a:ext cx="63723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Археологи установили, что мыло начали изготавливать уже 6000 лет назад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Легенда гласит, что латинское слово  </a:t>
            </a:r>
            <a:r>
              <a:rPr b="1" i="1" lang="ru-RU" sz="1400" spc="-1" strike="noStrike">
                <a:solidFill>
                  <a:srgbClr val="ffffff"/>
                </a:solidFill>
                <a:latin typeface="Century Gothic"/>
              </a:rPr>
              <a:t>sapo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(мыло) произошло от названия горы Сапо в древнем Риме, где совершались жертвоприношения богам. Животный жир, выделяющийся при сжигании жертвы, скапливался и смешивался с древесной золой костра. Полученная масса смывалась дождем в глинистый грунт берега реки , где жители стирали белье и, естественно, наблюдательность человека не упустила того факта, что благодаря этой смеси одежда отстирывалась гораздо легче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Моду на чистоту привили средневековой Европе рыцари, побывавшие во время своих крестовых походов в арабских странах. Именно рыцари-крестоносцы в XII веке привозили в подарок знаменитые мыльные шарики из Дамаска и приносили их в дар своим возлюбленным. В XII-XIII века начинается расцвет мыловарения в Западной Европе. Первый патент на производство мыла в Европе был выдан в 1662 году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Свидетельства о русских мастерах-мыловарах появляются в XV веке. Первые мыловаренные фабрики стали появляться в XVIII веке. В Москве на тот момент было известно две: в Новинской и Пресненской частях. К 1853 году в Московской губернии их число возросло до восьми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8" name="Picture 3" descr="C:\Users\жанна\Desktop\мыло\www4freshru.jpg"/>
          <p:cNvPicPr/>
          <p:nvPr/>
        </p:nvPicPr>
        <p:blipFill>
          <a:blip r:embed="rId1"/>
          <a:stretch/>
        </p:blipFill>
        <p:spPr>
          <a:xfrm>
            <a:off x="6372360" y="620640"/>
            <a:ext cx="2631960" cy="3313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816200" y="365040"/>
            <a:ext cx="57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59"/>
                </a:solidFill>
                <a:latin typeface="Garamond"/>
              </a:rPr>
              <a:t>Немного истори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853920" y="-23760"/>
            <a:ext cx="7740720" cy="10303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0" y="999720"/>
            <a:ext cx="52149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 (Основной текст)"/>
              </a:rPr>
              <a:t>Соли высших жирных кислот называются мылами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entury Gothic (Основной текст)"/>
              </a:rPr>
              <a:t>Основным компонентом твёрдого мыла являются смесь растворимых солей высших жирных кислот. Обычно это натриевые, реже — калиевые и аммониевые соли таких кислот, как стеариновая, пальмитиновая, и олеиновая</a:t>
            </a:r>
            <a:r>
              <a:rPr b="1" lang="ru-RU" sz="1700" spc="-1" strike="noStrike" baseline="30000">
                <a:solidFill>
                  <a:srgbClr val="ffffff"/>
                </a:solidFill>
                <a:latin typeface="Century Gothic (Основной текст)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entury Gothic (Основной текст)"/>
              </a:rPr>
              <a:t>Один из вариантов химического состава твёрдого мыла — C</a:t>
            </a:r>
            <a:r>
              <a:rPr b="1" lang="ru-RU" sz="1700" spc="-1" strike="noStrike" baseline="-25000">
                <a:solidFill>
                  <a:srgbClr val="ffffff"/>
                </a:solidFill>
                <a:latin typeface="Century Gothic (Основной текст)"/>
              </a:rPr>
              <a:t>17</a:t>
            </a:r>
            <a:r>
              <a:rPr b="1" lang="ru-RU" sz="1700" spc="-1" strike="noStrike">
                <a:solidFill>
                  <a:srgbClr val="ffffff"/>
                </a:solidFill>
                <a:latin typeface="Century Gothic (Основной текст)"/>
              </a:rPr>
              <a:t>H</a:t>
            </a:r>
            <a:r>
              <a:rPr b="1" lang="ru-RU" sz="1700" spc="-1" strike="noStrike" baseline="-25000">
                <a:solidFill>
                  <a:srgbClr val="ffffff"/>
                </a:solidFill>
                <a:latin typeface="Century Gothic (Основной текст)"/>
              </a:rPr>
              <a:t>35</a:t>
            </a:r>
            <a:r>
              <a:rPr b="1" lang="ru-RU" sz="1700" spc="-1" strike="noStrike">
                <a:solidFill>
                  <a:srgbClr val="ffffff"/>
                </a:solidFill>
                <a:latin typeface="Century Gothic (Основной текст)"/>
              </a:rPr>
              <a:t>COONa , жидкого — C</a:t>
            </a:r>
            <a:r>
              <a:rPr b="1" lang="ru-RU" sz="1700" spc="-1" strike="noStrike" baseline="-25000">
                <a:solidFill>
                  <a:srgbClr val="ffffff"/>
                </a:solidFill>
                <a:latin typeface="Century Gothic (Основной текст)"/>
              </a:rPr>
              <a:t>17</a:t>
            </a:r>
            <a:r>
              <a:rPr b="1" lang="ru-RU" sz="1700" spc="-1" strike="noStrike">
                <a:solidFill>
                  <a:srgbClr val="ffffff"/>
                </a:solidFill>
                <a:latin typeface="Century Gothic (Основной текст)"/>
              </a:rPr>
              <a:t>H</a:t>
            </a:r>
            <a:r>
              <a:rPr b="1" lang="ru-RU" sz="1700" spc="-1" strike="noStrike" baseline="-25000">
                <a:solidFill>
                  <a:srgbClr val="ffffff"/>
                </a:solidFill>
                <a:latin typeface="Century Gothic (Основной текст)"/>
              </a:rPr>
              <a:t>35</a:t>
            </a:r>
            <a:r>
              <a:rPr b="1" lang="ru-RU" sz="1700" spc="-1" strike="noStrike">
                <a:solidFill>
                  <a:srgbClr val="ffffff"/>
                </a:solidFill>
                <a:latin typeface="Century Gothic (Основной текст)"/>
              </a:rPr>
              <a:t>COOK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entury Gothic (Основной текст)"/>
              </a:rPr>
              <a:t>Дополнительно в составе мыла могут быть и другие вещества, обладающие моющим действием, а также ароматизаторы и красители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entury Gothic (Основной текст)"/>
              </a:rPr>
              <a:t>Современные жидкие мыла представляют собой водные растворы синтетических ионных или неионогенных поверхностно-активных веществ с добавлением консервантов, отдушек, красителей, солей для контроля вязкости, добавок для связывания ионов кальция и магния и т. д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2" name="Picture 3" descr="C:\Users\жанна\Desktop\мыло\вапвап.jpg"/>
          <p:cNvPicPr/>
          <p:nvPr/>
        </p:nvPicPr>
        <p:blipFill>
          <a:blip r:embed="rId2"/>
          <a:stretch/>
        </p:blipFill>
        <p:spPr>
          <a:xfrm>
            <a:off x="5403960" y="2357280"/>
            <a:ext cx="3740040" cy="214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566640" y="-64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6840" y="1428480"/>
            <a:ext cx="461484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7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По виду исходного материала различают мыла на основе жиров, жирных кислот и смешанной жировой основы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Жировое мыло широко применяют как моющее  и очищающее средство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Однако его нельзя считать универсальным, так как моющий эффект жирового мыла проявляется не всегда одинаково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Picture 4" descr="C:\Users\жанна\Desktop\мыло\1237287278_025.jpg"/>
          <p:cNvPicPr/>
          <p:nvPr/>
        </p:nvPicPr>
        <p:blipFill>
          <a:blip r:embed="rId2"/>
          <a:stretch/>
        </p:blipFill>
        <p:spPr>
          <a:xfrm>
            <a:off x="5195880" y="2714760"/>
            <a:ext cx="3635280" cy="3071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28800" y="118440"/>
            <a:ext cx="7758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68360" y="836280"/>
            <a:ext cx="822960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Процесс мыловарения представляет собой гидролиз жиров в щелочной среде. В результате этого процесса получаются жирные кислоты, вступающие в реакцию с ионами щелочных металлов и образующие соли ( это и есть мыло) и глицерин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entury Gothic"/>
              </a:rPr>
              <a:t>17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entury Gothic"/>
              </a:rPr>
              <a:t>35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COOC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entury Gothic"/>
              </a:rPr>
              <a:t>2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C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O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  <a:ea typeface="Tahoma"/>
              </a:rPr>
              <a:t>|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  <a:ea typeface="Tahom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  <a:ea typeface="Tahoma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entury Gothic"/>
              </a:rPr>
              <a:t>17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entury Gothic"/>
              </a:rPr>
              <a:t>35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COOCH  + 3NaOH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HOH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+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3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entury Gothic"/>
                <a:ea typeface="Times New Roman"/>
              </a:rPr>
              <a:t>17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entury Gothic"/>
                <a:ea typeface="Times New Roman"/>
              </a:rPr>
              <a:t>35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ON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  <a:ea typeface="Tahoma"/>
              </a:rPr>
              <a:t>|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  <a:ea typeface="Tahom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  <a:ea typeface="Tahoma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entury Gothic"/>
              </a:rPr>
              <a:t>17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entury Gothic"/>
              </a:rPr>
              <a:t>35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COOC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entury Gothic"/>
              </a:rPr>
              <a:t>2            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           C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O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2d2d2"/>
                </a:solidFill>
                <a:latin typeface="Century Gothic"/>
              </a:rPr>
              <a:t>тристеарат глицерина</a:t>
            </a:r>
            <a:r>
              <a:rPr b="1" lang="ru-RU" sz="2000" spc="-1" strike="noStrike">
                <a:solidFill>
                  <a:srgbClr val="ff6600"/>
                </a:solidFill>
                <a:latin typeface="Century Gothic"/>
              </a:rPr>
              <a:t>      </a:t>
            </a:r>
            <a:r>
              <a:rPr b="1" lang="ru-RU" sz="2000" spc="-1" strike="noStrike">
                <a:solidFill>
                  <a:srgbClr val="d2d2d2"/>
                </a:solidFill>
                <a:latin typeface="Century Gothic"/>
              </a:rPr>
              <a:t>глицерин        стеарат натрия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8240760" cy="12258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3357720" y="1213920"/>
            <a:ext cx="600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9d9d9"/>
                </a:solidFill>
                <a:latin typeface="Century Gothic"/>
              </a:rPr>
              <a:t>Гидрофобный «хвостик» связывается с частицами грязи. Гидрофильная «головка» цепляется за воду, уменьшая ее поверхностное натяжение, тем самым, помогая воде лучше смачивать отмываемую поверхность и отрывать частицы загрязнений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3672000" cy="439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В жесткой воде моющая способность мыла резко снижается, поскольку растворимые натриевые или калиевые соли высших жирных кислот вступают в обменную реакцию с имеющимися в жесткой воде растворимыми кислыми карбонатами щелочно-земельных металлов, главным образом кальция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2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entury Gothic"/>
              </a:rPr>
              <a:t>15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entury Gothic"/>
              </a:rPr>
              <a:t>31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COONa + Ca(H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entury Gothic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)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(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entury Gothic"/>
              </a:rPr>
              <a:t>15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entury Gothic"/>
              </a:rPr>
              <a:t>31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COO)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Ca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+ 2NaH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entury Gothic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Получающиеся при этом нерастворимые кальциевые соли высших жирных кислот образуют липкие осадки, снижающие моющие свойства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"/>
          <p:cNvSpPr/>
          <p:nvPr/>
        </p:nvSpPr>
        <p:spPr>
          <a:xfrm>
            <a:off x="758880" y="836640"/>
            <a:ext cx="856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59"/>
                </a:solidFill>
                <a:latin typeface="Garamond"/>
              </a:rPr>
              <a:t>Некоторые недостатки у Мыл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C:\Users\жанна\Desktop\мыло\25042011239.jpg"/>
          <p:cNvPicPr/>
          <p:nvPr/>
        </p:nvPicPr>
        <p:blipFill>
          <a:blip r:embed="rId1"/>
          <a:stretch/>
        </p:blipFill>
        <p:spPr>
          <a:xfrm>
            <a:off x="3348000" y="2349360"/>
            <a:ext cx="5435640" cy="4077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C:\Users\жанна\Desktop\экзамены (1)\мыло\22042011228.jpg"/>
          <p:cNvPicPr/>
          <p:nvPr/>
        </p:nvPicPr>
        <p:blipFill>
          <a:blip r:embed="rId2"/>
          <a:stretch/>
        </p:blipFill>
        <p:spPr>
          <a:xfrm>
            <a:off x="285840" y="285840"/>
            <a:ext cx="4646520" cy="34844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4211280" y="1341000"/>
            <a:ext cx="144360" cy="716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-40680" y="3141720"/>
            <a:ext cx="34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50070"/>
                </a:solidFill>
                <a:latin typeface="Garamond"/>
              </a:rPr>
              <a:t>Приготовить  35% раствор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50070"/>
                </a:solidFill>
                <a:latin typeface="Garamond"/>
              </a:rPr>
              <a:t>гидроксида натр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"/>
          <p:cNvSpPr/>
          <p:nvPr/>
        </p:nvSpPr>
        <p:spPr>
          <a:xfrm>
            <a:off x="5336280" y="2637000"/>
            <a:ext cx="340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0070"/>
                </a:solidFill>
                <a:latin typeface="Garamond"/>
              </a:rPr>
              <a:t>Нужно еще подсолнечно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0070"/>
                </a:solidFill>
                <a:latin typeface="Garamond"/>
              </a:rPr>
              <a:t>масло, поваренная сол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0070"/>
                </a:solidFill>
                <a:latin typeface="Garamond"/>
              </a:rPr>
              <a:t>и ароматизато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"/>
          <p:cNvSpPr/>
          <p:nvPr/>
        </p:nvSpPr>
        <p:spPr>
          <a:xfrm>
            <a:off x="4167360" y="404640"/>
            <a:ext cx="51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59"/>
                </a:solidFill>
                <a:latin typeface="Garamond"/>
              </a:rPr>
              <a:t>Как сделать мыло самим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59"/>
                </a:solidFill>
                <a:latin typeface="Garamond"/>
              </a:rPr>
              <a:t>Вот так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08:48:24Z</dcterms:created>
  <dc:creator>тимофей</dc:creator>
  <dc:description/>
  <dc:language>en-US</dc:language>
  <cp:lastModifiedBy>Катенька</cp:lastModifiedBy>
  <dcterms:modified xsi:type="dcterms:W3CDTF">2012-02-10T14:49:29Z</dcterms:modified>
  <cp:revision>48</cp:revision>
  <dc:subject/>
  <dc:title>Мыло и синтетические моющие средства</dc:title>
</cp:coreProperties>
</file>