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70D9-2158-4450-889E-B650A6455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B476-B187-4DF4-8C14-2966FEB2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6CE8-B101-4935-9912-D299409D3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5125-EB24-4739-AA7A-57C486BAF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17B9-8508-4AD1-A59E-A2C0AC670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6490-A829-428A-89AD-E973B666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B46D-2D1F-4533-8241-13E9DB95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FDD5-2CC4-41F7-822F-B2C9B607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8C9E-756D-4EC7-AEFC-CCBEA8A6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953A-4FDD-456D-80F3-6A01003F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22B2-D0F1-4ED1-AA34-432AB061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FFC7-F5EF-4A11-914C-001B8119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D5E6-B2F6-4B24-9640-5069E3D4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314A-63B0-4A0B-8FD1-A7341FCF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C792-E468-4976-8E07-122E112A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D524-D783-499C-8567-11F8132F0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7C7E-AA36-442B-A964-9338C642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C05C-DB4F-4516-B561-D6D0B032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117B-84E4-4572-8E7B-346E77BE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B36B-3A81-4862-915A-A6900734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91C9-F0B6-40BB-9B24-EDCDBB45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AC44-36F0-41CA-B8F7-7F66948C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63A4-C55F-4CE1-A801-639C95B6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0C6A-EDB9-4930-8CCA-A14F7093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340D-B66A-4C0E-AD3F-428958043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A821-01E1-4522-A3DF-7AD52B7140C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692360" y="1700280"/>
            <a:ext cx="6335640" cy="42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рок русского языка в 5 классе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 тему "Обращение.Знаки препинания 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и обращении."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L 0.188 0.14523 L 0.125 0.28913 L 0 0.28913 L -0.063 0.14523 L 0 0 Z">
                                      <p:cBhvr>
                                        <p:cTn id="6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00720" y="337500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3267000"/>
            <a:ext cx="4788000" cy="3591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1187280" y="981000"/>
            <a:ext cx="655344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итесь, девчонки!</a:t>
            </a:r>
            <a:endParaRPr b="0" lang="en-US" sz="1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итесь, мальчишки!</a:t>
            </a:r>
            <a:endParaRPr b="0" lang="en-US" sz="16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учёбе- истоки побед.</a:t>
            </a:r>
            <a:endParaRPr b="0" lang="en-US" sz="16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 площадки спортивной,</a:t>
            </a:r>
            <a:endParaRPr b="0" lang="en-US" sz="16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 прочитанной книжки</a:t>
            </a:r>
            <a:endParaRPr b="0" lang="en-US" sz="16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арт освоенья планет!</a:t>
            </a:r>
            <a:endParaRPr b="0" lang="en-US" sz="16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2158920"/>
            <a:ext cx="6264360" cy="4699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2124000" y="0"/>
            <a:ext cx="554364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рок подготовила и</a:t>
            </a:r>
            <a:endParaRPr b="1" i="1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вела учитель</a:t>
            </a:r>
            <a:endParaRPr b="1" i="1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усского языка и</a:t>
            </a:r>
            <a:endParaRPr b="1" i="1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ературы </a:t>
            </a:r>
            <a:endParaRPr b="1" i="1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У СОШ №6 </a:t>
            </a:r>
            <a:endParaRPr b="1" i="1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.Усть-Лабинска</a:t>
            </a:r>
            <a:endParaRPr b="1" i="1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пара Галина Викторовна.</a:t>
            </a:r>
            <a:endParaRPr b="1" i="1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heel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4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4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4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4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4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4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4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33360" y="189000"/>
            <a:ext cx="8810640" cy="638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Цель урока: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1. Закрепить понятие обращения.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2. Сформировать умение находить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    </a:t>
            </a: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обращение в тексте, правильно ставить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    </a:t>
            </a: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знаки препинания при обращении.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"/>
              </a:rPr>
              <a:t>3. Повторить нормы речевого этикета.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slow">
    <p:wipe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12000" cy="4508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332000" y="4724280"/>
            <a:ext cx="6912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дравствуй,любимый учитель!</a:t>
            </a:r>
            <a:endParaRPr b="0" lang="en-US" sz="1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тских сердец ты хранитель.</a:t>
            </a:r>
            <a:endParaRPr b="0" lang="en-US" sz="16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димся мы ежечасно,</a:t>
            </a:r>
            <a:endParaRPr b="0" lang="en-US" sz="16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руд твой, поверь, не напрасен!</a:t>
            </a:r>
            <a:endParaRPr b="0" lang="en-US" sz="16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hecker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059280" y="2293920"/>
            <a:ext cx="6084720" cy="4564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187280" y="0"/>
            <a:ext cx="6409080" cy="22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ам от души желаю я, друзья,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сего хорошего! А всё хорошее,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рузья, даётся нам недёшево!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                        </a:t>
            </a: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.Я. Маршак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over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6588000" cy="4941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2411280" y="260280"/>
            <a:ext cx="5400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ма, ты настоящее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удо всегдашнее,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е заходящее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лнце домашнее.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       </a:t>
            </a: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.Львов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ircl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84720" cy="4564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835280" y="3068640"/>
            <a:ext cx="6141960" cy="334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юблю тебя я, бабушка,</a:t>
            </a:r>
            <a:endParaRPr b="0" lang="en-US" sz="1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Хорошая моя!</a:t>
            </a:r>
            <a:endParaRPr b="0" lang="en-US" sz="1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сегда трудолюбивая,</a:t>
            </a:r>
            <a:endParaRPr b="0" lang="en-US" sz="1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етишками ценимая,</a:t>
            </a:r>
            <a:endParaRPr b="0" lang="en-US" sz="1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сть иногда ворчливая,</a:t>
            </a:r>
            <a:endParaRPr b="0" lang="en-US" sz="1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о самая любимая!</a:t>
            </a:r>
            <a:endParaRPr b="0" lang="en-US" sz="1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strips dir="l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6227640" cy="4672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979640" y="4653000"/>
            <a:ext cx="540072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ш директор очень строг,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пробуй, прогуляй урок.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Эй, детишки, с нею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 играйте в кошки-мышки!</a:t>
            </a:r>
            <a:endParaRPr b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wheel spokes="3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26920" y="549360"/>
            <a:ext cx="777744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стречаясь с людьми разных профессий,</a:t>
            </a:r>
            <a:endParaRPr b="1" lang="en-US" sz="1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ы вольно или невольно общаемся</a:t>
            </a:r>
            <a:endParaRPr b="1" lang="en-US" sz="1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 ними, используя в нашей речи </a:t>
            </a:r>
            <a:endParaRPr b="1" lang="en-US" sz="1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                </a:t>
            </a:r>
            <a:r>
              <a:rPr b="1" lang="en-US" sz="1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бращения.</a:t>
            </a:r>
            <a:endParaRPr b="1" lang="en-US" sz="1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heel spokes="8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16360" y="0"/>
            <a:ext cx="5327640" cy="3995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3213000"/>
            <a:ext cx="4859280" cy="3645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17:10:01Z</dcterms:created>
  <dc:creator>Dom PK</dc:creator>
  <dc:description/>
  <dc:language>en-US</dc:language>
  <cp:lastModifiedBy>Валеха</cp:lastModifiedBy>
  <dcterms:modified xsi:type="dcterms:W3CDTF">2012-02-14T18:01:16Z</dcterms:modified>
  <cp:revision>5</cp:revision>
  <dc:subject/>
  <dc:title>Слайд 1</dc:title>
</cp:coreProperties>
</file>