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CFE-8A82-43CB-B9E9-0DB517FF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BCC-7135-461D-8D55-B7A2F3B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1DE-98BC-4E15-923C-A8623EE3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C04-A302-4A02-9B06-209C45DA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4B3-2AA7-495F-96E1-09155D30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684-324D-4A33-9390-B0073B41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041-495F-4EF3-B82B-3D07C4D8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D88-0AF6-43BA-AB77-8A460AD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4E1-3638-451A-B72E-AE93FABC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64E6-AB24-4E77-BD84-993DEE1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6E18-67A2-448F-BDDC-9BCF4395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C10-7CA1-4D04-818E-DD6DB3BF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AB86-E010-4F42-95BB-38CC62F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254-A2A6-4EB2-85EA-0C5BB91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AB8A-4027-4BBD-BC64-AD2FBC71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1664-54B6-42CE-9911-BED1DD77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3B22-2062-40D1-A45E-5F262EC7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5EA-D30D-46DA-901B-16B59CC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BB4-6649-4B4E-889F-A8165A2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C5B-7D0C-4F70-9CD1-129FEAC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19B-B659-4CCB-AB96-7E2006D8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4C0-1DD9-47C8-8B0D-C8DB4C1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4AA-0A1E-4D17-9F26-F786007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B4E-4633-4E11-860D-BF6EF00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DC7-39B0-485C-BF52-E693E3D694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E0A3-40C0-41E8-9B3E-3970D7933F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foto.rg.ru/gall/0c340e43%27%29;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Исследовательская работа по теме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«Орден Мужеств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ила: ученица 1 В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тапенко А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уководитель: Бычкова Фаина Борис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Орден Мужества"/>
          <p:cNvPicPr/>
          <p:nvPr/>
        </p:nvPicPr>
        <p:blipFill>
          <a:blip r:embed="rId1"/>
          <a:stretch/>
        </p:blipFill>
        <p:spPr>
          <a:xfrm>
            <a:off x="468360" y="3573360"/>
            <a:ext cx="142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Мой папа – Кавалер Ордена Муже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тапенко Вадим Николаевич награждён Орденом Мужества как участник боевых действий в Чечне в 1999 – 2000 го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84720" y="1916280"/>
            <a:ext cx="1816200" cy="316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1" name="" descr="Орден Мужества"/>
          <p:cNvPicPr/>
          <p:nvPr/>
        </p:nvPicPr>
        <p:blipFill>
          <a:blip r:embed="rId2"/>
          <a:stretch/>
        </p:blipFill>
        <p:spPr>
          <a:xfrm>
            <a:off x="7524720" y="4437000"/>
            <a:ext cx="243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очень интересно узнавать историю орденов и медалей, ведь за каждым из них стоят человеческие дела, достойные восхищения и уважения. Я бы хотела дальше изучать эту тему, у моей прабабушки и прадедушки много государственных наград, я хочу изучить их истор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стория Ордена Муж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ово «орден» произошло от названия рыцарей крестонос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ест – символ рыцарских орденов на одежде, на щи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Рыцари - кавалеры орден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йчас награждённых называют кавалеры ордена Муже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920880" cy="16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08720" y="1413000"/>
            <a:ext cx="150516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4865" t="0" r="18476" b="0"/>
          <a:stretch/>
        </p:blipFill>
        <p:spPr>
          <a:xfrm>
            <a:off x="7596360" y="3573360"/>
            <a:ext cx="1295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стория Ордена Мужеств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2797200" cy="5283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2199240"/>
            <a:ext cx="359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образом ордена Мужества послужил советский орден "За личное мужество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исание Ордена Муж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5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нак ордена Мужества из серебра. Он представляет собой крест с закруглёнными концами. В центре —изображение Государственного герба Российской Федерации. На оборотной стороне— рельефная надпись: «Мужество». Орден носиться на шелковой ленте красного цвета с белыми полосками вдоль краев, на левой стороне гру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32360" y="2205000"/>
            <a:ext cx="3995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рден Муж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202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ают за мужество и отвагу при спасении людей, в борьбе с преступниками, во время стихийных бедствий, пожаров, катастроф и других опасных ситуациях, когда человек рискует своей жизнью, спасая друг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валеры Ордена Муж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личество награждений на сегодняшний день - около 100 тыся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реди награждённых люди разных профессий: военные, моряки, спасатели, медики, милиционеры, спортсмены, писатели, журналисты, автогонщики, машинисты, депутаты и друг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 Фото: Владимир Аносов"/>
          <p:cNvPicPr/>
          <p:nvPr/>
        </p:nvPicPr>
        <p:blipFill>
          <a:blip r:embed="rId1"/>
          <a:stretch/>
        </p:blipFill>
        <p:spPr>
          <a:xfrm>
            <a:off x="4716360" y="1700280"/>
            <a:ext cx="38210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обенности награждени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рденом Муже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граждение орденом Мужества может производиться неоднократно, так подполковник, Андрей Валентинович Воловиков удостоен четырёх орде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шение Ордена Муж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ковник Юрий Буданов был лишён Ордена Мужества за тяжкое преступление - убийство 18-летней чеченской девушки Эльзы Кунгаев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т возрастных огранич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Александр Бастрыкин вручает орден матери Жени Табакова. Фото: Злаказова Лилия"/>
          <p:cNvPicPr/>
          <p:nvPr/>
        </p:nvPicPr>
        <p:blipFill>
          <a:blip r:embed="rId1"/>
          <a:stretch/>
        </p:blipFill>
        <p:spPr>
          <a:xfrm>
            <a:off x="1116000" y="386064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емилетний мальчик Женя Табаков из г. Ногинска был награждён Орденом Мужества посмертно за то, что защитил свою старшую сестру от бандита, рискую собственной жизнью. Мальчик погиб. Награду вручили маме Жен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413000"/>
            <a:ext cx="27417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52:30Z</dcterms:created>
  <dc:creator>Admin</dc:creator>
  <dc:description/>
  <dc:language>en-US</dc:language>
  <cp:lastModifiedBy>Admin</cp:lastModifiedBy>
  <dcterms:modified xsi:type="dcterms:W3CDTF">2011-04-14T16:17:57Z</dcterms:modified>
  <cp:revision>6</cp:revision>
  <dc:subject/>
  <dc:title>Исследовательская работа по теме «Орден Мужества»</dc:title>
</cp:coreProperties>
</file>