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457-8DF9-4821-982B-067691FF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273-7DFF-4C65-B250-D05BAFC1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3E1-25CD-4DAE-AFBD-E92F0F97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727-FCDF-43F4-919B-2707A527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185A-98DD-4406-BCBE-7BB4055D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62BD-B763-4D39-818A-F345F02D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B6CB-A8D3-4F72-BAD0-48ECBD0D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BFAF-6D6B-4B1D-8790-1E873F70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1D3F-9463-46BF-8710-FC84490F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52B0-62CF-4D64-B510-519E7E32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B093-C3C1-48B6-A8D3-509F4F72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654-D2A4-434A-9297-3C6412FC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846B-9C07-4F83-BB07-8C6F262A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66C8-7808-4CB9-AF63-E39ADFAA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5F62-1CC7-4C38-95DB-523971A8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5A0-E529-4AEA-B664-8FCFC6BF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E5E5-68F4-422B-A599-8D33AC3C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CFBA-8D38-4987-8D93-70F75352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76BE-AED3-4D67-9BF7-AAD0E1E6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5AEC-3378-4B81-B838-B093075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10DA-B378-4E2E-ADDF-BA8D513E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F284-DFDB-4900-B982-1A3345CB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419-A4DC-4AC7-A19C-FB8DD081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BA24-A97D-4149-A112-DA2200C3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B95F-6400-4EF3-A1C7-CB41B992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66CC-0EA3-4E8D-B420-3570D151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BB22-EA6D-4787-9427-35572B9B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CE72-3C06-486F-AC19-FAAA388B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E355-CB53-4633-8B42-03C1A89C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F268-851C-4E4F-BC34-6AFBBC14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7F93-3D76-45E1-BF24-B71E5676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EE24-D1F4-4474-B3DE-85437793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4F50-FD42-4185-8EAB-821C1D82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020-E4C6-4357-BC59-BA0C8028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F7051-6CB5-4A85-8D69-CD5B5548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6B5C6-FC07-4F9D-8E2B-009EFF5A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D1B7-E578-41AE-9D68-B0071084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0327-E073-4FCA-BE11-5E5B7054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CD49-DFE7-4315-9F6C-A06BBC65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29DF-D8C7-4B94-9990-BD20B596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0E74-8165-4CBC-82F9-50B78C02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8B7D-37F4-4055-866B-23441248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DF0E-016C-497A-86AC-07277756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EA2-B843-43C6-A8A6-23B53998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730-DFE2-42C2-9ED6-0B1C5B15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09A-B881-4EFD-8CE6-977B30D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C50-C442-450B-AADC-CFAE4BEE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434-6BDA-49DB-8DD3-5612D36C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B6C1-0A06-47D6-ABB0-E68BF2526429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58BB-CD1C-4BA7-B0AD-1F891538EA44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3363-7155-4407-9889-7314B85008E8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357B-53C5-4A62-A956-3114A58299C9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uxa.info/images/stories/01news/04apr/2d.jp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tki.yandex.ru/users/more7007/view/64618/?page=1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otki.yandex.ru/users/more7007/view/64632/?page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fotki.yandex.ru/users/more7007/view/64527/?page=0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ru/imgres?imgurl=http://www.astrogalaxy.ru/foto002/kosmonavt03.jpg&amp;imgrefurl=http://www.astrogalaxy.ru/322.html&amp;usg=__VrRJi6XhLtfMhnX9rdgEOi3LHik=&amp;h=302&amp;w=230&amp;sz=18&amp;hl=ru&amp;start=31&amp;tbnid=lzQNjuJsyLWxYM:&amp;tbnh=116&amp;tbnw=88&amp;prev=/images%3Fq%3D%25D0%2594%25D0%25B5%25D0%25BD%25D1%258C%2B%25D0%25BA%25D0%25BE%25D1%2581%25D0%25BC%25D0%25BE%25D0%25BD%25D0%25B0%25D0%25B2%25D1%2582%25D0%25B8%25D0%25BA%25D0%25B8%26ndsp%3D18%26hl%3Dru%26sa%3DN%26start%3D18%26newwindow%3D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Картинка 8 из 43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0840" y="407880"/>
            <a:ext cx="3120840" cy="32432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00040" y="907560"/>
            <a:ext cx="82152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8386"/>
                </a:solidFill>
                <a:latin typeface="Verdana"/>
              </a:rPr>
              <a:t>                               </a:t>
            </a:r>
            <a:r>
              <a:rPr b="0" lang="ru-RU" sz="4000" spc="-1" strike="noStrike">
                <a:solidFill>
                  <a:srgbClr val="0070c0"/>
                </a:solidFill>
                <a:latin typeface="Verdana"/>
              </a:rPr>
              <a:t>Первый космонав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Verdana"/>
              </a:rPr>
              <a:t>              </a:t>
            </a:r>
            <a:r>
              <a:rPr b="0" lang="ru-RU" sz="4000" spc="-1" strike="noStrike">
                <a:solidFill>
                  <a:srgbClr val="0070c0"/>
                </a:solidFill>
                <a:latin typeface="Verdana"/>
              </a:rPr>
              <a:t>Земл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8386"/>
                </a:solidFill>
                <a:latin typeface="Verdana"/>
              </a:rPr>
              <a:t>выполнил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8386"/>
                </a:solidFill>
                <a:latin typeface="Arial"/>
              </a:rPr>
              <a:t>ученик  8 «А»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8386"/>
                </a:solidFill>
                <a:latin typeface="Arial"/>
              </a:rPr>
              <a:t>МОУ «СОШ № 48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8386"/>
                </a:solidFill>
                <a:latin typeface="Verdana"/>
              </a:rPr>
              <a:t>Сергеев Артем.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385740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 остался в памяти товарищей по первому набору отряда космонавтов и всех, с кем работал, простым, доступным, замечательным человеком. А его солнечная улыбка уже полвека, со дня первого космического полета, совершенного 12 апреля 1961 года, освещает человечеству дорогу к звезд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6143760" y="28576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гарин улыбался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Satview - cпутниковый интернет и спутниковое телевидение"/>
          <p:cNvPicPr/>
          <p:nvPr/>
        </p:nvPicPr>
        <p:blipFill>
          <a:blip r:embed="rId1"/>
          <a:stretch/>
        </p:blipFill>
        <p:spPr>
          <a:xfrm>
            <a:off x="2428920" y="785880"/>
            <a:ext cx="34210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28760" y="3499920"/>
            <a:ext cx="8215200" cy="252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агарин Юрий Алексеевич — пилот космического корабля  «Восток», лётчик-космонавт СССР № 1; первый космонавт планеты Земля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одился 9 марта 1934 года в селе Клушино Гжатского района Смоленской области в семье колхозника. В 1941 году начал учиться в средней школе, но учёбу прервала война. После окончания войны семья Гагариных переехала в город Гжатск, где Гагарин продолжал учиться в средней школ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2" descr="картинка"/>
          <p:cNvPicPr/>
          <p:nvPr/>
        </p:nvPicPr>
        <p:blipFill>
          <a:blip r:embed="rId1"/>
          <a:stretch/>
        </p:blipFill>
        <p:spPr>
          <a:xfrm>
            <a:off x="1139760" y="480960"/>
            <a:ext cx="2183040" cy="3133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gagarin_roditeli"/>
          <p:cNvPicPr/>
          <p:nvPr/>
        </p:nvPicPr>
        <p:blipFill>
          <a:blip r:embed="rId2"/>
          <a:stretch/>
        </p:blipFill>
        <p:spPr>
          <a:xfrm>
            <a:off x="3651120" y="268200"/>
            <a:ext cx="4810320" cy="3376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7120" y="3068280"/>
            <a:ext cx="8429760" cy="309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1951 году он с отличием окончил ремесленное училище в подмосковном городе Люберцы по специальности "формовщик-литейщик" и одновременно школу рабочей молодёж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1955 году также с отличием окончил индустри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икум и аэроклуб в городе Саратов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ериод учебы в Саратовском индустриальном техникуме , Юрий  много занимался спортом , был капитаном  баскетбольной команды.  В городских соревнованиях  1952г команда Саратовского Индустриального техникума заняла 1мест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5" descr="http://img-fotki.yandex.ru/get/23/more7007.0/0_fc61_6468bf25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13360" y="542880"/>
            <a:ext cx="1646280" cy="4937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16536_49e034cc514f2"/>
          <p:cNvPicPr/>
          <p:nvPr/>
        </p:nvPicPr>
        <p:blipFill>
          <a:blip r:embed="rId3"/>
          <a:stretch/>
        </p:blipFill>
        <p:spPr>
          <a:xfrm>
            <a:off x="1639800" y="480960"/>
            <a:ext cx="197496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78920" y="3141720"/>
            <a:ext cx="8572680" cy="2951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оветской Армии с 1955 года, поступил в 1-е военное авиационное училище лётчиков имени К.Е. Ворошилова в городе Чкалове (с 1957 года и ныне Оренбург), которое окончил в 1957 году по первому разряду. Служил лётчиком в 769-м истребительном авиационном полку Военно-воздушных сил Северного флота (аэродром Луостари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960 году старший лейтенант Юрий Гагарин зачислен в отряд космонавтов. С 1961 года был его командир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7" descr="http://img-fotki.yandex.ru/get/22/more7007.0/0_fc75_2f96e6ff_L">
            <a:hlinkClick r:id="rId1"/>
          </p:cNvPr>
          <p:cNvPicPr/>
          <p:nvPr/>
        </p:nvPicPr>
        <p:blipFill>
          <a:blip r:embed="rId2"/>
          <a:stretch/>
        </p:blipFill>
        <p:spPr>
          <a:xfrm rot="21163800">
            <a:off x="1187280" y="764640"/>
            <a:ext cx="327348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8" name="Picture 5" descr="http://img-fotki.yandex.ru/get/24/more7007.0/0_f8dc_f068fc3d_L">
            <a:hlinkClick r:id="rId3"/>
          </p:cNvPr>
          <p:cNvPicPr/>
          <p:nvPr/>
        </p:nvPicPr>
        <p:blipFill>
          <a:blip r:embed="rId4"/>
          <a:stretch/>
        </p:blipFill>
        <p:spPr>
          <a:xfrm rot="247800">
            <a:off x="5435640" y="549360"/>
            <a:ext cx="2711520" cy="280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414324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2 апреля 1961 года в 9.07 по московскому времени Юрий Алексеевич Гагарин стартовал с космодрома Байконур, совершив первый в истории человечества космический полёт на корабле-спутнике «Восток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помнят крылатую теперь фразу Гагарина: «Поехали!», которую он произнес, когда входил на борт кораб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5" descr="12 апреля - день космонавтики"/>
          <p:cNvPicPr/>
          <p:nvPr/>
        </p:nvPicPr>
        <p:blipFill>
          <a:blip r:embed="rId1"/>
          <a:stretch/>
        </p:blipFill>
        <p:spPr>
          <a:xfrm>
            <a:off x="5072040" y="500040"/>
            <a:ext cx="2508120" cy="3591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tbn1.google.com/images?q=tbn:lzQNjuJsyLWxYM:http://www.astrogalaxy.ru/foto002/kosmonavt0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0040"/>
            <a:ext cx="2714400" cy="357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7120" y="3429000"/>
            <a:ext cx="8429760" cy="300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ёт проходил на околоземной орбите на высотах 181-327 километров. За 108 минут корабль-спутник с первым в мире космонавтом облетел земной шар и благополучно вернулся на Землю вблизи деревни Смеловка Терновского района Саратовской области. Когда Юрий Гагарин приземлился, его встретили местные жители. Он шагнул к ним навстречу: «Здравствуйте, я - лётчик-космонавт Юрий Гагарин». И улыбнулс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2" descr="http://tbn1.google.com/images?q=tbn:Jt61zRmcmCkTpM:http://images.astronet.ru/pubd/2008/04/14/0001227278/ISS007-E-10807_800.jpg"/>
          <p:cNvPicPr/>
          <p:nvPr/>
        </p:nvPicPr>
        <p:blipFill>
          <a:blip r:embed="rId1"/>
          <a:stretch/>
        </p:blipFill>
        <p:spPr>
          <a:xfrm rot="21154800">
            <a:off x="617400" y="765000"/>
            <a:ext cx="3513240" cy="23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94" name="Picture 4" descr="Картинка 14 из 5886"/>
          <p:cNvPicPr/>
          <p:nvPr/>
        </p:nvPicPr>
        <p:blipFill>
          <a:blip r:embed="rId2"/>
          <a:stretch/>
        </p:blipFill>
        <p:spPr>
          <a:xfrm>
            <a:off x="4643280" y="549360"/>
            <a:ext cx="3591000" cy="28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r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28680" y="1143000"/>
            <a:ext cx="471492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вание Героя Советского Союза с вручением ордена Ленина и медали "Золотая Звезда" (№ 11175) майору Гагарину Юрию Алексеевичу присвоено Указом Президиума Верховного Совета СССР от   14 апреля 1961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казом министра обороны СССР старшему лейтенанту Гагарину Ю.А. присвоено внеочередное воинское звание «майор»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2" descr="http://www.cosmoworld.ru/spaceencyclopedia/gagarin/gagarin100.jpg"/>
          <p:cNvPicPr/>
          <p:nvPr/>
        </p:nvPicPr>
        <p:blipFill>
          <a:blip r:embed="rId1"/>
          <a:stretch/>
        </p:blipFill>
        <p:spPr>
          <a:xfrm>
            <a:off x="857160" y="1233360"/>
            <a:ext cx="3000600" cy="412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840" y="571320"/>
            <a:ext cx="528660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 полёта Ю.А. Гагарин непрерывно совершенствовал своё мастерство как лётчик-космонавт, а также принимал непосредственное участие в обучении и тренировке экипажей космонавтов, в руководстве полётами космических кораблей «Восток», «Восход», «Союз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4" descr="http://domputnika.ru/files/458762.jpg"/>
          <p:cNvPicPr/>
          <p:nvPr/>
        </p:nvPicPr>
        <p:blipFill>
          <a:blip r:embed="rId1"/>
          <a:stretch/>
        </p:blipFill>
        <p:spPr>
          <a:xfrm>
            <a:off x="5580000" y="981000"/>
            <a:ext cx="285264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0920" y="3285720"/>
            <a:ext cx="8464320" cy="28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7 марта 1968 года при выполнении тренировочного полёта в сложных метеоусловиях самолёт учебно-тренировочный истребитель (УТИ) "МиГ-15" вошёл в штопор, а для вывода не хватило высоты. Самолёт упал в лес вблизи деревни Новосёлово Киржачского района Владимирской области. Экипаж в составе полковника Ю.А. Гагарина и командира учебного полка Центра подготовки космонавтов Героя Советского Союза полковника-инженера В.С. Серёгина погиб... Урны с прахом Гагарина Ю.А. и Серёгина В.С. захоронены в Кремлёвской стене на Красной площади в городе-герое Москв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5" descr="http://img-fotki.yandex.ru/get/24/more7007.0/0_fc11_20e86c17_L"/>
          <p:cNvPicPr/>
          <p:nvPr/>
        </p:nvPicPr>
        <p:blipFill>
          <a:blip r:embed="rId1"/>
          <a:stretch/>
        </p:blipFill>
        <p:spPr>
          <a:xfrm>
            <a:off x="1403280" y="476280"/>
            <a:ext cx="2154240" cy="2827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0" descr="Gagarin_3"/>
          <p:cNvPicPr/>
          <p:nvPr/>
        </p:nvPicPr>
        <p:blipFill>
          <a:blip r:embed="rId2"/>
          <a:stretch/>
        </p:blipFill>
        <p:spPr>
          <a:xfrm>
            <a:off x="4067280" y="549360"/>
            <a:ext cx="4149720" cy="275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8:21:44Z</dcterms:created>
  <dc:creator>Артем </dc:creator>
  <dc:description/>
  <dc:language>en-US</dc:language>
  <cp:lastModifiedBy>ЖЕКА</cp:lastModifiedBy>
  <dcterms:modified xsi:type="dcterms:W3CDTF">2011-04-28T15:42:25Z</dcterms:modified>
  <cp:revision>44</cp:revision>
  <dc:subject/>
  <dc:title>Слайд 1</dc:title>
</cp:coreProperties>
</file>