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3.jpeg" ContentType="image/jpeg"/>
  <Override PartName="/ppt/media/image4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2E6-E60C-4059-BF23-81AAF738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3F3-E05C-4220-9CC1-4161750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11-42FB-4C1C-B8BF-053F45A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61A-F80C-4B67-8A95-DFED7CAD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80FD-4DCA-4406-952E-5B526AE9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387-46DB-4853-932C-D2E9F4B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CDB-2112-4CCA-8AB1-8558B3E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8212-3FCC-475E-8090-34FB06A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7AE9-02F0-42B1-BEE1-4F7AE5FB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A5B-83AB-4C6C-A1C0-51DD5DF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300A-ECDB-4B36-968F-1CCA647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7ED-A8EC-46F0-BC95-AC24955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1E9A-3F4F-4FDB-BC98-6643C9F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B769-4F90-4CC0-A7EA-661A14D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71D4-0467-4469-AD61-7785F76B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3F39-CD4E-4972-955A-3E83F00E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957-0C10-43E1-9EF1-728C03D9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064-54F0-4AF1-9D5F-7238058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FE8-2B3F-4640-9848-A855BA0E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36F-301F-464E-BA5D-688EF730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DB3-7896-465A-88C9-3DD7A64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7E9-1EBC-4810-AB18-D756D3D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947-5557-4BDC-A2AA-39252A2A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B35-9439-48A4-9BF2-CF3A87C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C9D-8343-419B-9868-92E65A70D74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145-FD5C-4EF9-88AD-8122C52C79C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1557360"/>
            <a:ext cx="62550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униципальное дошкольное образовательное учреждени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етский сад № 18 комбинированного вида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городской округ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Орехово-Зуев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Московской обла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78E9-32B2-4BF9-B78F-9F66969876AF}" type="slidenum">
              <a:t>1</a:t>
            </a:fld>
          </a:p>
        </p:txBody>
      </p:sp>
    </p:spTree>
  </p:cSld>
  <p:transition spd="med" advTm="10000"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звлечение для детей и родителей «Праздник молок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05636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A34-20E6-4EEB-9767-F5262E15B7E0}" type="slidenum">
              <a:t>10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ыступление детей МДОУ № 18 на общем родительском собрании в МОУ СОШ № 6 – сценка «Котята – поварята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98472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948-A98B-4C81-98C8-FB3C896C58B0}" type="slidenum">
              <a:t>11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89000"/>
            <a:ext cx="7476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одительское собрание «Семейные традиции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6913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1BA-6C3C-47FE-B80F-7B595D2FF3AA}" type="slidenum">
              <a:t>12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нсультаци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Роль игры в жизни ребёнк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76764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7CC-A57A-4EA0-93E2-42CAF63D5C74}" type="slidenum">
              <a:t>13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еседа с родителям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Досуг  ребёнк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691344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170-79E7-40B5-8FB0-367C80AACD95}" type="slidenum">
              <a:t>14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372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онсультации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едагога-психолога с родителями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 вопросам подготовки детей к школе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FAF-CCEC-4E54-BFA9-007363CD7C83}" type="slidenum">
              <a:t>15</a:t>
            </a:fld>
          </a:p>
        </p:txBody>
      </p:sp>
    </p:spTree>
  </p:cSld>
  <p:transition spd="med" advTm="10000">
    <p:wipe dir="d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Bookman Old Style"/>
              </a:rPr>
              <a:t>       </a:t>
            </a:r>
            <a:r>
              <a:rPr b="1" lang="en-US" sz="3600" spc="-1" strike="noStrike">
                <a:solidFill>
                  <a:srgbClr val="060684"/>
                </a:solidFill>
                <a:latin typeface="Arial"/>
              </a:rPr>
              <a:t>риобщение к истокам русской народной  культуры  является  эффективным  средством  для  реализации  важной задачи – формирование патриотических чувств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1280" y="981000"/>
            <a:ext cx="720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9FE-ECE4-42D4-A7B2-E2073B3D694F}" type="slidenum">
              <a:t>16</a:t>
            </a:fld>
          </a:p>
        </p:txBody>
      </p:sp>
    </p:spTree>
  </p:cSld>
  <p:transition advTm="7000">
    <p:wipe dir="d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вместная экскурсия с родителями в в/ч № 52877 – Праздник 9 мая!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98508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BCA-0C03-421C-A91F-32F658357196}" type="slidenum">
              <a:t>17</a:t>
            </a:fld>
          </a:p>
        </p:txBody>
      </p:sp>
    </p:spTree>
  </p:cSld>
  <p:transition spd="med" advTm="6000">
    <p:wipe dir="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Почтим память павших в боях за Родину в ВОв!»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в/ч № 52877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05636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452-084E-4594-B6AA-2A801A8F1AD5}" type="slidenum">
              <a:t>18</a:t>
            </a:fld>
          </a:p>
        </p:txBody>
      </p:sp>
    </p:spTree>
  </p:cSld>
  <p:transition spd="med" advTm="6000">
    <p:wipe dir="d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сероссийская  акци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Георгиевская ленточк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698508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C52-2CC8-462B-8228-7DD98EF8CAEA}" type="slidenum">
              <a:t>19</a:t>
            </a:fld>
          </a:p>
        </p:txBody>
      </p:sp>
    </p:spTree>
  </p:cSld>
  <p:transition spd="med" advTm="6000">
    <p:wipe dir="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7164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7386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риоритетное направление   работы   МДОУ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84"/>
                </a:solidFill>
                <a:latin typeface="Arial"/>
              </a:rPr>
              <a:t>формирование личности ребёнка в  процессе  приобщения к  традициям  отечественной народной  культу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684"/>
                </a:solidFill>
                <a:latin typeface="Arial"/>
              </a:rPr>
              <a:t>патриотическое воспитание дошколь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D4A-DC06-4181-A3EE-3C8F0BD1CAA7}" type="slidenum">
              <a:t>2</a:t>
            </a:fld>
          </a:p>
        </p:txBody>
      </p:sp>
    </p:spTree>
  </p:cSld>
  <p:transition spd="med" advTm="8000">
    <p:wipe dir="d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Растим будущих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ащитников Отечеств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98508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7B6-3429-4448-AB8D-6C7D3F5F4FA4}" type="slidenum">
              <a:t>20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У  стенда строевой подготовки» (в/ч № 52877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698508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341-2D0F-4A26-A7F0-B63543EBA644}" type="slidenum">
              <a:t>21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 празднике 2 августа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День ВДВ» - в/ч № 52877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698508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FE6-F31E-4248-929C-19CA75613E64}" type="slidenum">
              <a:t>22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60684"/>
                </a:solidFill>
                <a:latin typeface="Arial"/>
              </a:rPr>
              <a:t>оллектив детского сада надеется, что наша работа поможет ребёнку почувствовать себя частью своего народа, своей страны, научиться уважать их, ценить прошлое и настоящее</a:t>
            </a:r>
            <a:r>
              <a:rPr b="0" lang="en-US" sz="3200" spc="-1" strike="noStrike">
                <a:solidFill>
                  <a:srgbClr val="060684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4797360"/>
            <a:ext cx="5905440" cy="792360"/>
          </a:xfrm>
          <a:custGeom>
            <a:avLst/>
            <a:gdLst>
              <a:gd name="textAreaLeft" fmla="*/ 1476360 w 5905440"/>
              <a:gd name="textAreaRight" fmla="*/ 4429080 w 590544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920" y="333360"/>
            <a:ext cx="75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03D-D85F-46DA-854A-12468EF87425}" type="slidenum">
              <a:t>23</a:t>
            </a:fld>
          </a:p>
        </p:txBody>
      </p:sp>
    </p:spTree>
  </p:cSld>
  <p:transition advTm="11000"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ЗАДАЧИ 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125360"/>
            <a:ext cx="7386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84"/>
                </a:solidFill>
                <a:latin typeface="Arial"/>
              </a:rPr>
              <a:t>Дать детям начальные представления о фольклоре как источнике народной мудрости, красоты и жизненной си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84"/>
                </a:solidFill>
                <a:latin typeface="Arial"/>
              </a:rPr>
              <a:t>Развивать  эмоционально-нравственную сферу ребёнка средствами народного искус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84"/>
                </a:solidFill>
                <a:latin typeface="Arial"/>
              </a:rPr>
              <a:t>Способствовать развитию творческой деятельности по освоению элементов народной культур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84"/>
                </a:solidFill>
                <a:latin typeface="Arial"/>
              </a:rPr>
              <a:t>Осуществлять нравственно-эстетическое воспитание и развитие каждого ребён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20F-2634-4697-8135-8C96C3570B59}" type="slidenum">
              <a:t>3</a:t>
            </a:fld>
          </a:p>
        </p:txBody>
      </p:sp>
    </p:spTree>
  </p:cSld>
  <p:transition spd="med" advTm="9000">
    <p:wipe dir="d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854280" y="165960"/>
            <a:ext cx="6069240" cy="6334200"/>
            <a:chOff x="854280" y="165960"/>
            <a:chExt cx="6069240" cy="6334200"/>
          </a:xfrm>
        </p:grpSpPr>
        <p:sp>
          <p:nvSpPr>
            <p:cNvPr id="198" name="_s135192"/>
            <p:cNvSpPr/>
            <p:nvPr/>
          </p:nvSpPr>
          <p:spPr>
            <a:xfrm flipH="1" flipV="1">
              <a:off x="2810520" y="2210040"/>
              <a:ext cx="538200" cy="5644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_s135191"/>
            <p:cNvSpPr/>
            <p:nvPr/>
          </p:nvSpPr>
          <p:spPr>
            <a:xfrm>
              <a:off x="1519920" y="862920"/>
              <a:ext cx="151596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СМОТРЫ-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КОНКУРСЫ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135190"/>
            <p:cNvSpPr/>
            <p:nvPr/>
          </p:nvSpPr>
          <p:spPr>
            <a:xfrm flipH="1">
              <a:off x="2365200" y="3332160"/>
              <a:ext cx="763560" cy="1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135189"/>
            <p:cNvSpPr/>
            <p:nvPr/>
          </p:nvSpPr>
          <p:spPr>
            <a:xfrm>
              <a:off x="854280" y="2541960"/>
              <a:ext cx="151596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ТРУДОВАЯ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ДЕЯТЕЛЬНОСТЬ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135182"/>
            <p:cNvSpPr/>
            <p:nvPr/>
          </p:nvSpPr>
          <p:spPr>
            <a:xfrm flipH="1">
              <a:off x="2810880" y="3891960"/>
              <a:ext cx="540720" cy="5619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35181"/>
            <p:cNvSpPr/>
            <p:nvPr/>
          </p:nvSpPr>
          <p:spPr>
            <a:xfrm>
              <a:off x="1519920" y="4221720"/>
              <a:ext cx="151596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ЭКСКУРСИИ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135188"/>
            <p:cNvSpPr/>
            <p:nvPr/>
          </p:nvSpPr>
          <p:spPr>
            <a:xfrm>
              <a:off x="3885480" y="4121640"/>
              <a:ext cx="1800" cy="7966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35187"/>
            <p:cNvSpPr/>
            <p:nvPr/>
          </p:nvSpPr>
          <p:spPr>
            <a:xfrm>
              <a:off x="3129120" y="491868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САМОСТОЯТЕЛЬН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ДЕЯТЕЛЬНОСТЬ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35186"/>
            <p:cNvSpPr/>
            <p:nvPr/>
          </p:nvSpPr>
          <p:spPr>
            <a:xfrm>
              <a:off x="4421880" y="3889080"/>
              <a:ext cx="538200" cy="5644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35185"/>
            <p:cNvSpPr/>
            <p:nvPr/>
          </p:nvSpPr>
          <p:spPr>
            <a:xfrm>
              <a:off x="4740120" y="422388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ПРАЗДНИКИ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35184"/>
            <p:cNvSpPr/>
            <p:nvPr/>
          </p:nvSpPr>
          <p:spPr>
            <a:xfrm>
              <a:off x="4642200" y="3332160"/>
              <a:ext cx="76356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35183"/>
            <p:cNvSpPr/>
            <p:nvPr/>
          </p:nvSpPr>
          <p:spPr>
            <a:xfrm>
              <a:off x="5408280" y="2541960"/>
              <a:ext cx="151524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КРУЖКОВАЯ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_s135180"/>
            <p:cNvSpPr/>
            <p:nvPr/>
          </p:nvSpPr>
          <p:spPr>
            <a:xfrm flipV="1">
              <a:off x="4419360" y="2210040"/>
              <a:ext cx="540720" cy="5644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135179"/>
            <p:cNvSpPr/>
            <p:nvPr/>
          </p:nvSpPr>
          <p:spPr>
            <a:xfrm>
              <a:off x="4740120" y="86076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ИГРЫ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35178"/>
            <p:cNvSpPr/>
            <p:nvPr/>
          </p:nvSpPr>
          <p:spPr>
            <a:xfrm flipV="1">
              <a:off x="3885480" y="1745280"/>
              <a:ext cx="0" cy="798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35177"/>
            <p:cNvSpPr/>
            <p:nvPr/>
          </p:nvSpPr>
          <p:spPr>
            <a:xfrm>
              <a:off x="3129120" y="16596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ЗАНЯТИЯ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35176"/>
            <p:cNvSpPr/>
            <p:nvPr/>
          </p:nvSpPr>
          <p:spPr>
            <a:xfrm>
              <a:off x="3129120" y="2544840"/>
              <a:ext cx="1515240" cy="1581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2f1311"/>
                  </a:solidFill>
                  <a:uFillTx/>
                  <a:latin typeface="Arial"/>
                </a:rPr>
                <a:t>ФОРМЫ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2f1311"/>
                  </a:solidFill>
                  <a:uFillTx/>
                  <a:latin typeface="Arial"/>
                </a:rPr>
                <a:t> </a:t>
              </a:r>
              <a:r>
                <a:rPr b="1" lang="en-US" sz="2000" spc="-1" strike="noStrike" u="sng">
                  <a:solidFill>
                    <a:srgbClr val="2f1311"/>
                  </a:solidFill>
                  <a:uFillTx/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2f1311"/>
                  </a:solidFill>
                  <a:uFillTx/>
                  <a:latin typeface="Arial"/>
                </a:rPr>
                <a:t>С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2f1311"/>
                  </a:solidFill>
                  <a:uFillTx/>
                  <a:latin typeface="Arial"/>
                </a:rPr>
                <a:t>детьм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AEE-145D-435E-9757-A61EF8E5B319}" type="slidenum">
              <a:t>4</a:t>
            </a:fld>
          </a:p>
        </p:txBody>
      </p:sp>
    </p:spTree>
  </p:cSld>
  <p:transition spd="med" advTm="5000"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бота кружка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Цветик-семицветик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6913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B06-A774-4E65-865A-F75368395D79}" type="slidenum">
              <a:t>5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7192240"/>
            <a:ext cx="5041800" cy="4338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27640" cy="5400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5733720"/>
            <a:ext cx="6721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ужок детского творчества «Сударушк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A73-F756-4AE9-B3CC-602AA8A85445}" type="slidenum">
              <a:t>6</a:t>
            </a:fld>
          </a:p>
        </p:txBody>
      </p:sp>
    </p:spTree>
  </p:cSld>
  <p:transition spd="med" advTm="6000">
    <p:wipe dir="d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156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нсценирование песн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Пошла млада за водой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8C9-A878-4EF3-A1A2-B9E490261004}" type="slidenum">
              <a:t>7</a:t>
            </a:fld>
          </a:p>
        </p:txBody>
      </p:sp>
    </p:spTree>
  </p:cSld>
  <p:transition spd="med" advTm="6000">
    <p:wipe dir="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«Музыкальный оркестр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91200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2CD-C9AA-4A9D-BEEB-974EC3387C69}" type="slidenum">
              <a:t>8</a:t>
            </a:fld>
          </a:p>
        </p:txBody>
      </p:sp>
    </p:spTree>
  </p:cSld>
  <p:transition spd="med" advTm="5000">
    <p:wipe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74600" y="333360"/>
            <a:ext cx="7418880" cy="5700240"/>
            <a:chOff x="174600" y="333360"/>
            <a:chExt cx="7418880" cy="5700240"/>
          </a:xfrm>
        </p:grpSpPr>
        <p:cxnSp>
          <p:nvCxnSpPr>
            <p:cNvPr id="225" name="_s150552"/>
            <p:cNvCxnSpPr>
              <a:stCxn id="226" idx="1"/>
              <a:endCxn id="227" idx="2"/>
            </p:cNvCxnSpPr>
            <p:nvPr/>
          </p:nvCxnSpPr>
          <p:spPr>
            <a:xfrm rot="10800000">
              <a:off x="3883320" y="1194840"/>
              <a:ext cx="493920" cy="44312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8" name="_s150550"/>
            <p:cNvCxnSpPr>
              <a:stCxn id="229" idx="3"/>
              <a:endCxn id="227" idx="2"/>
            </p:cNvCxnSpPr>
            <p:nvPr/>
          </p:nvCxnSpPr>
          <p:spPr>
            <a:xfrm flipV="1">
              <a:off x="3391560" y="1194840"/>
              <a:ext cx="492840" cy="44312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0" name="_s150548"/>
            <p:cNvCxnSpPr>
              <a:stCxn id="231" idx="1"/>
              <a:endCxn id="227" idx="2"/>
            </p:cNvCxnSpPr>
            <p:nvPr/>
          </p:nvCxnSpPr>
          <p:spPr>
            <a:xfrm rot="10800000">
              <a:off x="3883320" y="1194840"/>
              <a:ext cx="493920" cy="32097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2" name="_s150546"/>
            <p:cNvCxnSpPr>
              <a:stCxn id="233" idx="3"/>
              <a:endCxn id="227" idx="2"/>
            </p:cNvCxnSpPr>
            <p:nvPr/>
          </p:nvCxnSpPr>
          <p:spPr>
            <a:xfrm flipV="1">
              <a:off x="3391560" y="1195200"/>
              <a:ext cx="492840" cy="32097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4" name="_s150544"/>
            <p:cNvCxnSpPr>
              <a:stCxn id="235" idx="1"/>
              <a:endCxn id="227" idx="2"/>
            </p:cNvCxnSpPr>
            <p:nvPr/>
          </p:nvCxnSpPr>
          <p:spPr>
            <a:xfrm rot="10800000">
              <a:off x="3883320" y="1194840"/>
              <a:ext cx="493920" cy="19879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6" name="_s150542"/>
            <p:cNvCxnSpPr>
              <a:stCxn id="237" idx="3"/>
              <a:endCxn id="227" idx="2"/>
            </p:cNvCxnSpPr>
            <p:nvPr/>
          </p:nvCxnSpPr>
          <p:spPr>
            <a:xfrm flipV="1">
              <a:off x="3391560" y="1195200"/>
              <a:ext cx="492840" cy="19879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8" name="_s150541"/>
            <p:cNvCxnSpPr>
              <a:stCxn id="239" idx="1"/>
              <a:endCxn id="227" idx="2"/>
            </p:cNvCxnSpPr>
            <p:nvPr/>
          </p:nvCxnSpPr>
          <p:spPr>
            <a:xfrm rot="10800000">
              <a:off x="3883320" y="1194840"/>
              <a:ext cx="493920" cy="7668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40" name="_s150540"/>
            <p:cNvCxnSpPr>
              <a:stCxn id="241" idx="3"/>
              <a:endCxn id="227" idx="2"/>
            </p:cNvCxnSpPr>
            <p:nvPr/>
          </p:nvCxnSpPr>
          <p:spPr>
            <a:xfrm flipV="1">
              <a:off x="3391560" y="1195200"/>
              <a:ext cx="492840" cy="7668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27" name="_s150536"/>
            <p:cNvSpPr/>
            <p:nvPr/>
          </p:nvSpPr>
          <p:spPr>
            <a:xfrm>
              <a:off x="2294280" y="33336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ФОРМЫ РАБОТЫ 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С   РОДИТЕЛЯМИ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_s150537"/>
            <p:cNvSpPr/>
            <p:nvPr/>
          </p:nvSpPr>
          <p:spPr>
            <a:xfrm>
              <a:off x="174600" y="155484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АНКЕТИРОВАНИЕ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_s150538"/>
            <p:cNvSpPr/>
            <p:nvPr/>
          </p:nvSpPr>
          <p:spPr>
            <a:xfrm>
              <a:off x="4413960" y="155484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КОНСУЛЬТАЦИ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_s150539"/>
            <p:cNvSpPr/>
            <p:nvPr/>
          </p:nvSpPr>
          <p:spPr>
            <a:xfrm>
              <a:off x="174600" y="277632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ВЫСТАВК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_s150543"/>
            <p:cNvSpPr/>
            <p:nvPr/>
          </p:nvSpPr>
          <p:spPr>
            <a:xfrm>
              <a:off x="4413960" y="277632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БЕСЕДЫ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_s150545"/>
            <p:cNvSpPr/>
            <p:nvPr/>
          </p:nvSpPr>
          <p:spPr>
            <a:xfrm>
              <a:off x="174600" y="399780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КОНКУРСЫ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" name="_s150547"/>
            <p:cNvSpPr/>
            <p:nvPr/>
          </p:nvSpPr>
          <p:spPr>
            <a:xfrm>
              <a:off x="4413960" y="3997800"/>
              <a:ext cx="317628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РОДИТЕЛЬСКИЕ 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СОБРАНИЯ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50549"/>
            <p:cNvSpPr/>
            <p:nvPr/>
          </p:nvSpPr>
          <p:spPr>
            <a:xfrm>
              <a:off x="174600" y="5219280"/>
              <a:ext cx="317952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ЭКСКУРСИ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150551"/>
            <p:cNvSpPr/>
            <p:nvPr/>
          </p:nvSpPr>
          <p:spPr>
            <a:xfrm>
              <a:off x="4413960" y="5219280"/>
              <a:ext cx="3176280" cy="814320"/>
            </a:xfrm>
            <a:prstGeom prst="rect">
              <a:avLst/>
            </a:prstGeom>
            <a:solidFill>
              <a:srgbClr val="c16059"/>
            </a:solidFill>
            <a:ln w="7632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СОВМЕСТНЫЕ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ПРАЗДНИК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03B-39BE-4BC1-A7AE-513EB74E3D14}" type="slidenum">
              <a:t>9</a:t>
            </a:fld>
          </a:p>
        </p:txBody>
      </p:sp>
    </p:spTree>
  </p:cSld>
  <p:transition spd="med" advTm="5000"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1:21:07Z</dcterms:created>
  <dc:creator>User</dc:creator>
  <dc:description/>
  <dc:language>en-US</dc:language>
  <cp:lastModifiedBy>user</cp:lastModifiedBy>
  <dcterms:modified xsi:type="dcterms:W3CDTF">2012-02-13T18:53:56Z</dcterms:modified>
  <cp:revision>11</cp:revision>
  <dc:subject/>
  <dc:title>Муниципальное дошкольное образовательное учреждение детский сад № 44</dc:title>
</cp:coreProperties>
</file>