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1CD0A-D0C8-438C-99BB-06D24CE1F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778A8-F3E3-4873-91B4-4FF773417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A625E-2669-4C48-829E-F892181F0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DD872-E790-4920-807B-F8DD791A2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BBD2A-70F1-4797-81F1-ED28F44A5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008B8-0A7F-4386-977E-2B227F737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BE086-BD4A-4DF3-BDA6-0AF8901F4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F7B84-E9FC-49D6-9654-0A5085B0C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CB000-9C0A-4DF8-8F9B-7B891E8F3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9523A-BBCF-4B28-A61F-C930FD316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39D15-AF46-4199-9E18-50DFF139E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B1809-32D0-4D83-91A6-6A9697E2B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B72B8-0D70-439D-ABCB-620F66181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78E7E-579B-4F28-8D90-F0897B438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C24B6-7086-45CE-8F28-36398CD4E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2F938-6E79-4AA6-9D60-B127D21D6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07EBE-61EE-43C2-9DB7-A11B99500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A53949-223B-4248-A521-2181B4691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D00385-ECCC-4ED3-83FE-52E72238E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652B86-1CE6-4E73-A430-DC606D4B0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9527F7-68F7-400E-9EAD-135371065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B96958-F3F8-4119-8325-8E1CC1772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2631C-19CA-4507-B0E9-5070C6238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904071-07F5-4A76-9FCC-8C6EF39ED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47CE56-8BB2-4809-BF46-91466E768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B5DF31-0512-4B19-9F11-1A5300938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AB6797-99A9-4210-9626-B26F2786C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809170-7C82-442C-A5F9-9A4D8B686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4A570D-D619-4672-B3CB-87F8BF40C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93A67E-E2C7-4FE0-B6AE-D0E6F94D8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7E5236-AB6D-485F-8A72-45811C2C3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D88968-8225-4090-A6BC-23049C2BD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5C44D1-265A-4296-A651-85068A471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5EE83-CA29-4B96-BC96-A9C18465E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0EBDCA-8CF9-460B-9A9E-DC03C594E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F78757-7B26-45F9-95E8-A47CB92FC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C5A11B-1C4F-4146-90B6-1F9812742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2215ED-1596-4AC2-8E3D-6F2297D3B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D21DD8-A930-4EE5-86AF-84830DB33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869FA1-922F-4FA1-91E4-9317833FC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3F744D-DCE9-438B-82C5-DF18B4A50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19D3E6-897C-4519-B539-757B1CCB0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F055A5-3832-419C-9829-371FBAFD9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8094E-EBED-4D2A-B1B9-4470D76FA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0AC90-687F-4FB8-9236-D9D40D6FC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D3BED-15A5-46D0-B80D-7CB7752E0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AC44C-3A43-49C0-9A30-F9687D215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693F5-B1BA-44B6-992C-F3243F77B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405B0-CC41-461D-B2C4-EC731F9D230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0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51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AF3DE-9542-4D66-8D2E-D222F877E8C2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96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8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99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100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02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3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4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dt" idx="7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ftr" idx="8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sldNum" idx="9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ECCB0-6D5E-46C3-9B14-02BAC355395E}" type="slidenum">
              <a:rPr b="0" lang="ru-RU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147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48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149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0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1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52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153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4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 type="dt" idx="10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 type="ftr" idx="11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 type="sldNum" idx="12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E1C4F-23D9-4F22-975E-2D13D4152A1B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3;&#1091;&#1082;&#1083;&#1077;&#1072;&#1088;&#1085;&#1072;&#1103;_&#1089;&#1077;&#1084;&#1100;&#1103;" TargetMode="External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1;&#1088;&#1072;&#1082;" TargetMode="External"/><Relationship Id="rId2" Type="http://schemas.openxmlformats.org/officeDocument/2006/relationships/hyperlink" Target="http://ru.wikipedia.org/wiki/2003" TargetMode="External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Семья как социальный институт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1285920" y="6072120"/>
            <a:ext cx="640080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Мареева Алла Михайловна, учитель обществознани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МОУ «СОШ № 13» г.Нефтеюганск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8" name="Picture 5" descr="24"/>
          <p:cNvPicPr/>
          <p:nvPr/>
        </p:nvPicPr>
        <p:blipFill>
          <a:blip r:embed="rId1"/>
          <a:stretch/>
        </p:blipFill>
        <p:spPr>
          <a:xfrm>
            <a:off x="3000240" y="3214800"/>
            <a:ext cx="3205440" cy="2519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Демографическое развитие семьи в РФ: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еобладание </a:t>
            </a:r>
            <a:r>
              <a:rPr b="0" lang="ru-RU" sz="2800" spc="-1" strike="noStrike" u="sng">
                <a:solidFill>
                  <a:srgbClr val="990033"/>
                </a:solidFill>
                <a:uFillTx/>
                <a:latin typeface="Arial"/>
                <a:hlinkClick r:id="rId1"/>
              </a:rPr>
              <a:t>нуклеарных семей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стёт число семей с одним родителем, получила распространение т. н. «материнская семья»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стёт количество гражданских брако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4" descr="19"/>
          <p:cNvPicPr/>
          <p:nvPr/>
        </p:nvPicPr>
        <p:blipFill>
          <a:blip r:embed="rId2"/>
          <a:stretch/>
        </p:blipFill>
        <p:spPr>
          <a:xfrm>
            <a:off x="3132000" y="4076640"/>
            <a:ext cx="3095640" cy="259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14400" y="-22680"/>
            <a:ext cx="77724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кращается среднее число детей в семье (1,63). Снижается число многодетных семе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стоянно растёт доля детей, родившихся вне зарегистрированного </a:t>
            </a:r>
            <a:r>
              <a:rPr b="0" lang="ru-RU" sz="2800" spc="-1" strike="noStrike" u="sng">
                <a:solidFill>
                  <a:srgbClr val="990033"/>
                </a:solidFill>
                <a:uFillTx/>
                <a:latin typeface="Arial"/>
                <a:hlinkClick r:id="rId1"/>
              </a:rPr>
              <a:t>брак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В </a:t>
            </a:r>
            <a:r>
              <a:rPr b="0" lang="ru-RU" sz="2800" spc="-1" strike="noStrike" u="sng">
                <a:solidFill>
                  <a:srgbClr val="990033"/>
                </a:solidFill>
                <a:uFillTx/>
                <a:latin typeface="Arial"/>
                <a:hlinkClick r:id="rId2"/>
              </a:rPr>
              <a:t>2003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году она составляла 29,7 % от общего числа новорождённы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уществуют различия между городскими и сельскими семья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Политика государства по поддержке семьи: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здание законов, регулирующих семейно-брачные отношен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ощрительные выплаты и льготы с целью стимулирования рождаем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величение расходов на образование и здравоохране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5" descr="16"/>
          <p:cNvPicPr/>
          <p:nvPr/>
        </p:nvPicPr>
        <p:blipFill>
          <a:blip r:embed="rId1"/>
          <a:stretch/>
        </p:blipFill>
        <p:spPr>
          <a:xfrm>
            <a:off x="2124000" y="2421000"/>
            <a:ext cx="2448000" cy="180000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6" descr="1"/>
          <p:cNvPicPr/>
          <p:nvPr/>
        </p:nvPicPr>
        <p:blipFill>
          <a:blip r:embed="rId2"/>
          <a:stretch/>
        </p:blipFill>
        <p:spPr>
          <a:xfrm>
            <a:off x="7308720" y="1700280"/>
            <a:ext cx="1619280" cy="25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ормирование определённых ценностных ориентиров и установок: уважение к материнству и отцовству, ценность семьи, сознательное планирование семьи и т.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4" descr="3"/>
          <p:cNvPicPr/>
          <p:nvPr/>
        </p:nvPicPr>
        <p:blipFill>
          <a:blip r:embed="rId1"/>
          <a:stretch/>
        </p:blipFill>
        <p:spPr>
          <a:xfrm>
            <a:off x="4716360" y="3500280"/>
            <a:ext cx="3745080" cy="259272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5" descr="10"/>
          <p:cNvPicPr/>
          <p:nvPr/>
        </p:nvPicPr>
        <p:blipFill>
          <a:blip r:embed="rId2"/>
          <a:stretch/>
        </p:blipFill>
        <p:spPr>
          <a:xfrm>
            <a:off x="1116000" y="3500280"/>
            <a:ext cx="3384720" cy="25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99"/>
                </a:solidFill>
                <a:latin typeface="Times New Roman"/>
              </a:rPr>
              <a:t>Некоторые исследователи утверждают, что история развития семьи и её нынешнее состояние позволяют сделать два основных вывода:</a:t>
            </a:r>
            <a:endParaRPr b="0" lang="en-US" sz="25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6600cc"/>
                </a:solidFill>
                <a:latin typeface="Arial"/>
              </a:rPr>
              <a:t>Семья – непреходящая ценность, основа любого общест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6600cc"/>
                </a:solidFill>
                <a:latin typeface="Arial"/>
              </a:rPr>
              <a:t>Семья – пережиток прошлого, её необходимо заменить более современной организаци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d60093"/>
                </a:solidFill>
                <a:latin typeface="Arial"/>
              </a:rPr>
              <a:t>   </a:t>
            </a:r>
            <a:r>
              <a:rPr b="0" i="1" lang="ru-RU" sz="2800" spc="-1" strike="noStrike">
                <a:solidFill>
                  <a:srgbClr val="d60093"/>
                </a:solidFill>
                <a:latin typeface="Arial"/>
              </a:rPr>
              <a:t>Какой из названных выводов, на ваш взгляд, больше соответствует истине. Свою позицию аргументируйте.</a:t>
            </a:r>
            <a:r>
              <a:rPr b="0" lang="ru-RU" sz="2800" spc="-1" strike="noStrike">
                <a:solidFill>
                  <a:srgbClr val="d60093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99"/>
                </a:solidFill>
                <a:latin typeface="Times New Roman"/>
              </a:rPr>
              <a:t>Некоторые исследователи утверждают, что история развития семьи и её нынешнее состояние позволяют сделать два основных вывода:</a:t>
            </a:r>
            <a:endParaRPr b="0" lang="en-US" sz="25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6600cc"/>
                </a:solidFill>
                <a:latin typeface="Arial"/>
              </a:rPr>
              <a:t>Семья – непреходящая ценность, основа любого общест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6600cc"/>
                </a:solidFill>
                <a:latin typeface="Arial"/>
              </a:rPr>
              <a:t>Семья – пережиток прошлого, её необходимо заменить более современной организаци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ru-RU" sz="2800" spc="-1" strike="noStrike">
                <a:solidFill>
                  <a:srgbClr val="d60093"/>
                </a:solidFill>
                <a:latin typeface="Arial"/>
              </a:rPr>
              <a:t>К концу урока определите, какой из названных выводов, на ваш взгляд, больше соответствует истине. Свою позицию аргументируйте.</a:t>
            </a:r>
            <a:r>
              <a:rPr b="0" lang="ru-RU" sz="2800" spc="-1" strike="noStrike">
                <a:solidFill>
                  <a:srgbClr val="d60093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330033"/>
                </a:solidFill>
                <a:latin typeface="Times New Roman"/>
              </a:rPr>
              <a:t>Семья как социальный институт</a:t>
            </a: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то объединение, которое характеризуется совокупностью социальных норм, санкций и образцов поведения, регламентирующих взаимоотношения между супругами, родителями, детьми и другими родственник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4" descr="6"/>
          <p:cNvPicPr/>
          <p:nvPr/>
        </p:nvPicPr>
        <p:blipFill>
          <a:blip r:embed="rId1"/>
          <a:stretch/>
        </p:blipFill>
        <p:spPr>
          <a:xfrm>
            <a:off x="3564000" y="4292640"/>
            <a:ext cx="2736720" cy="223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Этапы становления брачно-семейных отношений: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 этап - первобытное состоян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4" descr="25"/>
          <p:cNvPicPr/>
          <p:nvPr/>
        </p:nvPicPr>
        <p:blipFill>
          <a:blip r:embed="rId1"/>
          <a:stretch/>
        </p:blipFill>
        <p:spPr>
          <a:xfrm>
            <a:off x="2411280" y="2637000"/>
            <a:ext cx="4897440" cy="316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914400" y="-23760"/>
            <a:ext cx="77724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914400" y="764640"/>
            <a:ext cx="7772400" cy="53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 этап - кровно-родственная семь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4" descr="8"/>
          <p:cNvPicPr/>
          <p:nvPr/>
        </p:nvPicPr>
        <p:blipFill>
          <a:blip r:embed="rId1"/>
          <a:stretch/>
        </p:blipFill>
        <p:spPr>
          <a:xfrm>
            <a:off x="2484360" y="2205000"/>
            <a:ext cx="4319640" cy="35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0033"/>
                </a:solidFill>
                <a:latin typeface="Times New Roman"/>
              </a:rPr>
              <a:t>3 этап - парная (моногамная) семья</a:t>
            </a: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914400" y="1699920"/>
            <a:ext cx="777240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атриархальная традицион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арная демократическа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5" descr="15"/>
          <p:cNvPicPr/>
          <p:nvPr/>
        </p:nvPicPr>
        <p:blipFill>
          <a:blip r:embed="rId1"/>
          <a:stretch/>
        </p:blipFill>
        <p:spPr>
          <a:xfrm>
            <a:off x="6804000" y="1844640"/>
            <a:ext cx="2016000" cy="252108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7" descr="13"/>
          <p:cNvPicPr/>
          <p:nvPr/>
        </p:nvPicPr>
        <p:blipFill>
          <a:blip r:embed="rId2"/>
          <a:stretch/>
        </p:blipFill>
        <p:spPr>
          <a:xfrm>
            <a:off x="1547640" y="4292640"/>
            <a:ext cx="324036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Патриархальная традиционная семья: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днокарьерная семь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ногопоколенная семь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лавенство мужчины в дом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висимость жены от мужа, младших от старших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оль женщины – рождение и воспитание детей, работа по дому без ведения денежных де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5" descr="22"/>
          <p:cNvPicPr/>
          <p:nvPr/>
        </p:nvPicPr>
        <p:blipFill>
          <a:blip r:embed="rId1"/>
          <a:stretch/>
        </p:blipFill>
        <p:spPr>
          <a:xfrm>
            <a:off x="5435640" y="5084640"/>
            <a:ext cx="2158920" cy="158436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6" descr="5"/>
          <p:cNvPicPr/>
          <p:nvPr/>
        </p:nvPicPr>
        <p:blipFill>
          <a:blip r:embed="rId2"/>
          <a:stretch/>
        </p:blipFill>
        <p:spPr>
          <a:xfrm>
            <a:off x="395280" y="5445000"/>
            <a:ext cx="1944720" cy="141300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7" descr="30"/>
          <p:cNvPicPr/>
          <p:nvPr/>
        </p:nvPicPr>
        <p:blipFill>
          <a:blip r:embed="rId3"/>
          <a:stretch/>
        </p:blipFill>
        <p:spPr>
          <a:xfrm>
            <a:off x="6516720" y="1341360"/>
            <a:ext cx="241128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Демократическая (партнёрская) семья: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вухкарьерная семь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уклеарная семья (родители и дети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вноправие всех членов семь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вное распределение домашних обязанносте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вместное принятие решени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заимная поддержка и кооперация взрослых и дет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4" descr="20"/>
          <p:cNvPicPr/>
          <p:nvPr/>
        </p:nvPicPr>
        <p:blipFill>
          <a:blip r:embed="rId1"/>
          <a:stretch/>
        </p:blipFill>
        <p:spPr>
          <a:xfrm>
            <a:off x="7128000" y="2781360"/>
            <a:ext cx="2016000" cy="184464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5" descr="31"/>
          <p:cNvPicPr/>
          <p:nvPr/>
        </p:nvPicPr>
        <p:blipFill>
          <a:blip r:embed="rId2"/>
          <a:stretch/>
        </p:blipFill>
        <p:spPr>
          <a:xfrm>
            <a:off x="6156360" y="5229360"/>
            <a:ext cx="244800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Функции семьи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продуктив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спитатель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Хозяйствен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кономическ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рвичного социального контрол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циально-статус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уховного общения и досуг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моциональ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23" descr="4"/>
          <p:cNvPicPr/>
          <p:nvPr/>
        </p:nvPicPr>
        <p:blipFill>
          <a:blip r:embed="rId1"/>
          <a:stretch/>
        </p:blipFill>
        <p:spPr>
          <a:xfrm>
            <a:off x="4284720" y="1628640"/>
            <a:ext cx="1984320" cy="180036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25" descr="7"/>
          <p:cNvPicPr/>
          <p:nvPr/>
        </p:nvPicPr>
        <p:blipFill>
          <a:blip r:embed="rId2"/>
          <a:stretch/>
        </p:blipFill>
        <p:spPr>
          <a:xfrm>
            <a:off x="6732720" y="1916280"/>
            <a:ext cx="2195280" cy="187308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26" descr="21"/>
          <p:cNvPicPr/>
          <p:nvPr/>
        </p:nvPicPr>
        <p:blipFill>
          <a:blip r:embed="rId3"/>
          <a:stretch/>
        </p:blipFill>
        <p:spPr>
          <a:xfrm>
            <a:off x="4211640" y="5373720"/>
            <a:ext cx="2448000" cy="148428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27" descr="27"/>
          <p:cNvPicPr/>
          <p:nvPr/>
        </p:nvPicPr>
        <p:blipFill>
          <a:blip r:embed="rId4"/>
          <a:stretch/>
        </p:blipFill>
        <p:spPr>
          <a:xfrm>
            <a:off x="7020000" y="4149720"/>
            <a:ext cx="194472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5T15:42:46Z</dcterms:created>
  <dc:creator>User</dc:creator>
  <dc:description/>
  <dc:language>en-US</dc:language>
  <cp:lastModifiedBy>UMR</cp:lastModifiedBy>
  <dcterms:modified xsi:type="dcterms:W3CDTF">2011-06-02T05:45:24Z</dcterms:modified>
  <cp:revision>8</cp:revision>
  <dc:subject/>
  <dc:title>Семья как социальный институт</dc:title>
</cp:coreProperties>
</file>