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346-DAA0-429D-9236-8FCE39EA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0EB-8FFC-4C86-9840-F53F6FD4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841-F523-4519-98B0-85B7F348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BD0-C19C-4819-9540-7421C1D9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BE54-4A20-41C4-BB9F-340B9ADF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D9F2-1626-4AD8-8077-419F00ED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5CBC-F071-4588-8F8F-73FCB0D5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0685-1335-4059-A441-CED30242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B784-407B-4258-AC67-3B6FF46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02E2-68B8-4257-8F06-41D1622D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C50E-43B6-4E57-95E9-90B2191A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8D9-05B0-4934-931C-632E7234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CFD1-0F90-475D-BD39-CC90A3C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F2C5-6297-4064-9D05-10E67412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7DF3-3CB0-441F-8322-1F67C005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705F-644B-4ED8-8A29-AE480135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4689-67E7-4B8F-83A8-C12BDA45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AB5-FB0D-48D8-A161-9018CA4C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596-6FDE-4C89-99C1-A6E805B2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93F-0CF4-460F-8B16-FE80E43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099-9081-4021-B615-E12E34F2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99D-C687-49C5-BD79-D527252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3E5-1445-49D5-9656-F4758D7B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984-622D-4B00-A183-614A58E2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E457-9387-45B4-A042-2F30D6E2D2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859E-62B8-40F3-9254-96EF80D2F8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orld-war.ru/foto/displayimage.php?album=9&amp;pos=6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Промысел Божий и Великая Отечественная война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9760" y="1719360"/>
            <a:ext cx="4037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ранюк Серг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БОУ «Средняя общеобразовательная Знаменская школа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 класс, с.Знам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оосколь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лгород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марен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талья Павлов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учитель ис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цер зимой"/>
          <p:cNvPicPr/>
          <p:nvPr/>
        </p:nvPicPr>
        <p:blipFill>
          <a:blip r:embed="rId1"/>
          <a:stretch/>
        </p:blipFill>
        <p:spPr>
          <a:xfrm>
            <a:off x="609480" y="1523880"/>
            <a:ext cx="32562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оложение Русской Православной Церкви перед      войной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Церковь признает бытие духовного начала, коммунизм его отрицает. Церковь верит в живого Бога, Творца мира…, коммунизм не допускает его существования… Церковь проповедует любовь и милосердие, коммунизм - товарищество и беспощадность борьбы ... При таком глубоком расхождении в самих основах миросозерцания между Церковью и государством не может быть никакого внутреннего сближения или примирения… 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послания 17 заточенных на Соловках архиерее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solovki_2"/>
          <p:cNvPicPr/>
          <p:nvPr/>
        </p:nvPicPr>
        <p:blipFill>
          <a:blip r:embed="rId1"/>
          <a:stretch/>
        </p:blipFill>
        <p:spPr>
          <a:xfrm>
            <a:off x="4648320" y="2057400"/>
            <a:ext cx="430524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Результаты «широкомасштабного наступления»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на Церковь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1939 году вся церковная структура подверглась жесточайшему разгр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37000 храмов действующих в 1930, к 1938 осталось, 8302 формально действующих. Однако, в большинстве из них богослужение не совершалось, по причине отсутствия духове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территории РСФСР реально функционировало около 100 приходов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цер и комс"/>
          <p:cNvPicPr/>
          <p:nvPr/>
        </p:nvPicPr>
        <p:blipFill>
          <a:blip r:embed="rId1"/>
          <a:stretch/>
        </p:blipFill>
        <p:spPr>
          <a:xfrm>
            <a:off x="457200" y="1447920"/>
            <a:ext cx="347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Церковь и государство  в первый период войн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Фашиствующие разбойники напали на нашу Родину… Но не первый раз приходится русскому народу выдерживать такие испытания. С Божией помощью и на сей раз он развеет в прах фашистскую силу. Наши предки не падали духом и при худшем положении, потому что помнили не о личных опасностях и выгодах, а о священном своем долге перед Родиной и верой, и выходили победителями… Православная наша Церковь всегда разделяла судьбу народа. Не оставит она народа своего и тепер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трополит Серг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Митр Сергий"/>
          <p:cNvPicPr/>
          <p:nvPr/>
        </p:nvPicPr>
        <p:blipFill>
          <a:blip r:embed="rId1"/>
          <a:stretch/>
        </p:blipFill>
        <p:spPr>
          <a:xfrm>
            <a:off x="5048280" y="1600200"/>
            <a:ext cx="339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719360"/>
            <a:ext cx="4343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 священнослужителей лично принимавших участие в боевых действиях были и  представители Курско-Белгородской епархии:  протоиерей Кирилл Романович Волошенко, протоиерей Александр Васильевич Перекрёстов,  Иван Дмитриевич Жуков,  Владимир Николаевич Ключарев, Леонид Поляков, Григорий Карпов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же государственные органы отмечали то мужество, которое проявляли клирики на полях сражений. Например, священник Ранцев награжден орденом Красной Звезды, протодьякон Зверев и диакон Хитков - каждый четырьмя медал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237_big"/>
          <p:cNvPicPr/>
          <p:nvPr/>
        </p:nvPicPr>
        <p:blipFill>
          <a:blip r:embed="rId1"/>
          <a:stretch/>
        </p:blipFill>
        <p:spPr>
          <a:xfrm>
            <a:off x="152280" y="2209680"/>
            <a:ext cx="4419720" cy="3733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Церковь фронта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Церковь тыла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рдинальные изменения в государственной политике по отношению к Московской Патриархии произошли после встречи Сталина с митрополитом Сергием в сентябре 1943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Сталин"/>
          <p:cNvPicPr/>
          <p:nvPr/>
        </p:nvPicPr>
        <p:blipFill>
          <a:blip r:embed="rId1"/>
          <a:stretch/>
        </p:blipFill>
        <p:spPr>
          <a:xfrm>
            <a:off x="4762440" y="1600200"/>
            <a:ext cx="3748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урско-Белгородская епархия в годы войны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одина требует от тружеников наших необъятных полей дать стране, дать Красной Армии возможно больше хлеба. Хлеб – это тоже снаряды, которые разят врага. У кого больше хлеба, тот и будет победителем. Это и надо разъяснять верующим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пископ Питир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ig00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362320"/>
            <a:ext cx="43434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В день праздника в честь Почаевской иконы Божией Матери, 5 августа 1943 года,  город Белгород был освобожден от   немецких оккупантов.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1 июля 1945 года в Курско-Белгородской епархии действова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49 церкв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9 молитвенных домо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13 священник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1 диак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Поч икона Бож м"/>
          <p:cNvPicPr/>
          <p:nvPr/>
        </p:nvPicPr>
        <p:blipFill>
          <a:blip r:embed="rId1"/>
          <a:stretch/>
        </p:blipFill>
        <p:spPr>
          <a:xfrm>
            <a:off x="4572000" y="1447920"/>
            <a:ext cx="3657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началу Великой Отечественной войны Церковь подошла в состоянии крайнего упадка, вызванного непрекращающимися гонен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вый же день войны Московская Патриархия заняла принципиально жесткую патриотическую позицию. Церковь сплотила православных граждан советского государства в борьбе с агрессо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мотря на то, что бойцы РККА тщательно скрывали свою веру, мы можем говорить о значительном распространении веры среди военнослужащих – от рядового состава до генерал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встречи Сталина с митрополитом Сергием 4 сентября 1943 года Московская Патриархия получила принципиально новый статус в советском государстве. Была возрождена церковная структура, разгромленная за два десятилетия го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войны Коммунистическая партия в отношениях с религией больше никогда не возвращалась к методам террора 20-х, 30-х г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шные испытания, обрушившиеся на наш народ 22 июня 1941 года, не просто подтолкнули людей к Богу, они оживили саму народную душу, дали Церкви силы для дальнейшего существ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рамаренко Наталья</cp:lastModifiedBy>
  <dcterms:modified xsi:type="dcterms:W3CDTF">2001-12-31T21:29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