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E0D-CD64-4DB6-9380-C9A88BB5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82B-F7C5-469D-BC77-AB6ED9BD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C9C-F729-4C61-8665-12452F3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12C-174E-4610-8A8F-9FC8B127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1F70-E130-4DE1-8935-1535986B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936A-FF68-4039-8E98-F3CBBCE3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01B1-0F77-469D-899D-A952B3B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7EE-A9F6-4E52-8C17-46CABC3C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CA4-AAC7-4FFF-8FB1-3F723484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2C29-D8CB-4FCE-8441-1B5E9A6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F50-A6FC-46D4-A475-D852FF0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AB4-A9C4-4828-A8B7-D00F53B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CAB3-0C5A-46AF-9AEB-6C60767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FAA1-464B-4134-A8C7-9998307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1F8-711D-4C28-B497-74F1E66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E66D-4FA0-4FE4-8392-F4FAB7DC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5748-B7FB-4C66-80F9-DF7253F3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608-0213-4F12-94F1-67D0FA1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76C-9E4A-4549-9BDA-BCB2B233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1FC-9EE3-420B-9B9A-F77E109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EBE-6790-4241-9E79-CDC8904A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496-A8AB-4F70-80B8-62276D8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CCA-E678-402D-9845-130B7CF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2A6-3ED8-4614-AE0F-1B9418B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3323-7842-4EB3-BF6C-270D3D9067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11C-74CC-4BE5-8B34-BDDF836E80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9"/>
          <p:cNvSpPr/>
          <p:nvPr/>
        </p:nvSpPr>
        <p:spPr>
          <a:xfrm>
            <a:off x="714240" y="35712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средняя общеобразовательная школа №9 УКМ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Прямоугольник 11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91560" cy="37386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1714680" y="5715000"/>
            <a:ext cx="74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Автор: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ачковский Семён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4а класса МОУ СОШ 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уководитель: Федотова И.В. Учитель физики СОУ СОШ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Зимние дороги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616360" cy="4600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Лёд и снег – это замёршая вода. Когда температура воздуха опускаетс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ниже 0</a:t>
            </a:r>
            <a:r>
              <a:rPr b="1" i="1" lang="en-US" sz="2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о</a:t>
            </a: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С, вода, находящаяся вся на поверхности почвы замерзает 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превращается в лёд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G:\Фото к семёну\797079.jpg"/>
          <p:cNvPicPr/>
          <p:nvPr/>
        </p:nvPicPr>
        <p:blipFill>
          <a:blip r:embed="rId1"/>
          <a:stretch/>
        </p:blipFill>
        <p:spPr>
          <a:xfrm>
            <a:off x="1714680" y="2143080"/>
            <a:ext cx="5929200" cy="385776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Зимой, лёд, укрывает реки и озёра, спасает рыб и все живые организмы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от замерз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327640" cy="354168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en-US" sz="4200" spc="-1" strike="noStrike">
                <a:solidFill>
                  <a:srgbClr val="ffffff"/>
                </a:solidFill>
                <a:latin typeface="Garamond"/>
              </a:rPr>
              <a:t>запасы пресной воды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1680" y="1600200"/>
            <a:ext cx="361476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На земле, в ледниках сосредоточено огромное               количество пресной воды. Общая площадь  поверхности покрытой ледниками, превышает 16 млн.км</a:t>
            </a:r>
            <a:r>
              <a:rPr b="0" i="1" lang="en-US" sz="2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(11% всей поверхности суши). Общий объём льда в ледниках оценивается примерно в 30 млн.км</a:t>
            </a:r>
            <a:r>
              <a:rPr b="0" i="1" lang="en-US" sz="23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G:\Фото к семёну\0_7223_b4c64fe4_L.jpg"/>
          <p:cNvPicPr/>
          <p:nvPr/>
        </p:nvPicPr>
        <p:blipFill>
          <a:blip r:embed="rId1"/>
          <a:stretch/>
        </p:blipFill>
        <p:spPr>
          <a:xfrm>
            <a:off x="684360" y="1628640"/>
            <a:ext cx="4535280" cy="371484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32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57440" y="1071360"/>
            <a:ext cx="4329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aaaae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йсберг,«ледяная гора» — очень большой свободно плавающий кусок льда в океане или море. Как правило, айсберги откалываются от шельфовых лед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aaaae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Если айсберг синего цвета, скорее всего ему более 1000 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527280" cy="8877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ололёд – опасное для людей явление не живой природы, можно поскользнуться, упасть и получить травм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G:\Фото к семёну\Gololed.jpg"/>
          <p:cNvPicPr/>
          <p:nvPr/>
        </p:nvPicPr>
        <p:blipFill>
          <a:blip r:embed="rId1"/>
          <a:stretch/>
        </p:blipFill>
        <p:spPr>
          <a:xfrm>
            <a:off x="1908000" y="2060640"/>
            <a:ext cx="4969080" cy="37195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  <a:ea typeface="Calibri"/>
              </a:rPr>
              <a:t>       </a:t>
            </a:r>
            <a:r>
              <a:rPr b="1" lang="en-US" sz="4300" spc="-1" strike="noStrike">
                <a:solidFill>
                  <a:srgbClr val="ffffff"/>
                </a:solidFill>
                <a:latin typeface="Comic Sans MS"/>
                <a:ea typeface="Calibri"/>
              </a:rPr>
              <a:t>Наши советы:</a:t>
            </a:r>
            <a:br>
              <a:rPr sz="3800"/>
            </a:b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6400">
              <a:lnSpc>
                <a:spcPct val="80000"/>
              </a:lnSpc>
              <a:spcBef>
                <a:spcPts val="649"/>
              </a:spcBef>
              <a:buClr>
                <a:srgbClr val="aaaae2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Идя в школу не следует торопиться. Следует наступать на всю поверхность подошв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446400">
              <a:lnSpc>
                <a:spcPct val="80000"/>
              </a:lnSpc>
              <a:spcBef>
                <a:spcPts val="649"/>
              </a:spcBef>
              <a:buClr>
                <a:srgbClr val="aaaae2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Если у тебя скользкая обувь наклей на подошву кусочки лейкопластыря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446400">
              <a:lnSpc>
                <a:spcPct val="80000"/>
              </a:lnSpc>
              <a:spcBef>
                <a:spcPts val="649"/>
              </a:spcBef>
              <a:buClr>
                <a:srgbClr val="aaaae2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При ходьбе руки должны быть свобод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446400">
              <a:lnSpc>
                <a:spcPct val="80000"/>
              </a:lnSpc>
              <a:spcBef>
                <a:spcPts val="649"/>
              </a:spcBef>
              <a:buClr>
                <a:srgbClr val="aaaae2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Очень осторожно переходи улицу, даже у «зебры»  водитель не сможет быстро остановить машину, даже своевременно нажав на тормоз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90092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езентация предназначена для использования  на уроках «окружающий мир» по теме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«Свойства воды в твердом состоянии.»В третьем классе.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рагменты презентации могут быть использованы на уроках физики, химии, ОБЖ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714240"/>
            <a:ext cx="3900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 голубыми небес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ликолепными коврам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Блестя на солнце, снег лежи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зрачный лес один чернее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ель сквозь иней зеленее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И ручка подо льдом блести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А.С. Пушк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G:\09360103.JPG"/>
          <p:cNvPicPr/>
          <p:nvPr/>
        </p:nvPicPr>
        <p:blipFill>
          <a:blip r:embed="rId1"/>
          <a:stretch/>
        </p:blipFill>
        <p:spPr>
          <a:xfrm>
            <a:off x="714240" y="500040"/>
            <a:ext cx="3159360" cy="4657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образование снежинок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2000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57840" y="1213920"/>
            <a:ext cx="3929040" cy="4800600"/>
          </a:xfrm>
          <a:prstGeom prst="rect">
            <a:avLst/>
          </a:prstGeom>
          <a:gradFill rotWithShape="0">
            <a:gsLst>
              <a:gs pos="0">
                <a:srgbClr val="ff8078"/>
              </a:gs>
              <a:gs pos="100000">
                <a:srgbClr val="ffdad7"/>
              </a:gs>
            </a:gsLst>
            <a:lin ang="16200000"/>
          </a:gradFill>
          <a:ln w="9360">
            <a:solidFill>
              <a:srgbClr val="ff2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aaaae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1054b"/>
                </a:solidFill>
                <a:latin typeface="Calibri"/>
              </a:rPr>
              <a:t>Японский физик Укитиро Накая ещё в 1930-е годы выяснил, что форма снежинок зависит от температуры окружающего их воздуха. Так, если на их пути встретится поток очень холодного воздуха, кристаллик начнёт расти в высоту, вытянется в небольшой столбик. В более тёплых слоях воздуха обычно формируются пластинки. Если же температура воздуха оказывается выше точки замерзания, снежинка тает, вновь превращаясь в дождевую кап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18" descr="Морфология снежных кристаллов. Изображение: «Популярная механика»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471492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Виды снежинок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12" descr="D:\Documents and Settings\Администратор\Рабочий стол\Новая папка\x031224a130.jpg"/>
          <p:cNvPicPr/>
          <p:nvPr/>
        </p:nvPicPr>
        <p:blipFill>
          <a:blip r:embed="rId1"/>
          <a:stretch/>
        </p:blipFill>
        <p:spPr>
          <a:xfrm>
            <a:off x="6227640" y="4292640"/>
            <a:ext cx="2590920" cy="224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D:\Documents and Settings\Администратор\Рабочий стол\Новая папка\x031230a077.jpg"/>
          <p:cNvPicPr/>
          <p:nvPr/>
        </p:nvPicPr>
        <p:blipFill>
          <a:blip r:embed="rId2"/>
          <a:stretch/>
        </p:blipFill>
        <p:spPr>
          <a:xfrm>
            <a:off x="1042920" y="1125360"/>
            <a:ext cx="2255760" cy="257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D:\Documents and Settings\Администратор\Рабочий стол\Новая папка\x031230a113.jpg"/>
          <p:cNvPicPr/>
          <p:nvPr/>
        </p:nvPicPr>
        <p:blipFill>
          <a:blip r:embed="rId3"/>
          <a:stretch/>
        </p:blipFill>
        <p:spPr>
          <a:xfrm>
            <a:off x="3708360" y="2421000"/>
            <a:ext cx="2340000" cy="2566800"/>
          </a:xfrm>
          <a:prstGeom prst="rect">
            <a:avLst/>
          </a:prstGeom>
          <a:ln w="0">
            <a:noFill/>
          </a:ln>
        </p:spPr>
      </p:pic>
    </p:spTree>
  </p:cSld>
  <p:transition advTm="5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i="1" lang="en-US" sz="4200" spc="-1" strike="noStrike">
                <a:solidFill>
                  <a:srgbClr val="ffffff"/>
                </a:solidFill>
                <a:latin typeface="Garamond"/>
              </a:rPr>
              <a:t>снежный покров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24000" y="1989000"/>
            <a:ext cx="360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16360" y="4220640"/>
            <a:ext cx="217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F:\Новая папка (2)\th_1167049629_7.jpg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3940200"/>
          </a:xfrm>
          <a:prstGeom prst="rect">
            <a:avLst/>
          </a:prstGeom>
          <a:ln w="0">
            <a:noFill/>
          </a:ln>
        </p:spPr>
      </p:pic>
    </p:spTree>
  </p:cSld>
  <p:transition advTm="3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Запас влаг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2" descr="G:\Фото к семёну\4-web.jpg"/>
          <p:cNvPicPr/>
          <p:nvPr/>
        </p:nvPicPr>
        <p:blipFill>
          <a:blip r:embed="rId1"/>
          <a:stretch/>
        </p:blipFill>
        <p:spPr>
          <a:xfrm>
            <a:off x="1187280" y="1341360"/>
            <a:ext cx="6337440" cy="4146480"/>
          </a:xfrm>
          <a:prstGeom prst="rect">
            <a:avLst/>
          </a:prstGeom>
          <a:ln w="0">
            <a:noFill/>
          </a:ln>
        </p:spPr>
      </p:pic>
    </p:spTree>
  </p:cSld>
  <p:transition advTm="5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59920"/>
            <a:ext cx="9110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Снег - строительный     материал</a:t>
            </a:r>
            <a:r>
              <a:rPr b="0" i="1" lang="en-US" sz="49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3" descr="G:\Фото к семёну\003_256x192.jpg"/>
          <p:cNvPicPr/>
          <p:nvPr/>
        </p:nvPicPr>
        <p:blipFill>
          <a:blip r:embed="rId1"/>
          <a:stretch/>
        </p:blipFill>
        <p:spPr>
          <a:xfrm>
            <a:off x="1332000" y="1557360"/>
            <a:ext cx="6310080" cy="44704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иглу-жилище эскимосов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G:\Фото к семёну\12130_big.jpg"/>
          <p:cNvPicPr/>
          <p:nvPr/>
        </p:nvPicPr>
        <p:blipFill>
          <a:blip r:embed="rId1"/>
          <a:stretch/>
        </p:blipFill>
        <p:spPr>
          <a:xfrm>
            <a:off x="1835280" y="1700280"/>
            <a:ext cx="5113080" cy="43164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7:39:25Z</dcterms:created>
  <dc:creator>uam018</dc:creator>
  <dc:description/>
  <dc:language>en-US</dc:language>
  <cp:lastModifiedBy>Admin</cp:lastModifiedBy>
  <dcterms:modified xsi:type="dcterms:W3CDTF">2012-02-14T06:36:42Z</dcterms:modified>
  <cp:revision>114</cp:revision>
  <dc:subject/>
  <dc:title>Слайд 1</dc:title>
</cp:coreProperties>
</file>