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EC8-F49A-4B34-AB46-49C1C7D0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F75-8B1E-4264-B088-A32D2106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22A-A4A2-4944-90B1-CD97E53A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757-AAC4-4D5F-A2C0-E44A73D2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79803-B1EC-47D2-A7BC-9D009B74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2383B-38CD-4DFC-8B3C-67434A20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F6505-F7FC-441D-9E2A-D73F31BD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02C6F-89E6-4776-BE83-BAD35850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32B58-5FF1-4762-B2D6-CAC7EFC6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C1C68-A620-466F-82F4-1E1F1C5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D5219-E6C1-4439-A676-5505D0B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70D-33B4-4D3A-A074-3F83087B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DE3DF-E4A0-4E05-9756-04283D72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5D8D4-92B5-4DB1-AC3F-1193A28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E9121-7B1A-44D5-BF7F-2218BAB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7A641-4CFC-445B-996F-9BDF2BAA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F4C61-71AA-41E9-8BD9-A0EAC1AC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C52-A0DA-4E3E-8235-8858B0E3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F0A-C3C6-4BFC-A632-3D90B944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5D8-B1A0-4AD6-8C54-077799C0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172-F346-48DE-B940-D3F99133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1BA-93F7-449D-829F-7A7D8C64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1C0-BD85-4582-B329-45146AE9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2CE-8403-4155-B176-9305A0BF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32AF-D5AF-4F64-B061-9DB79C7F5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E0D8-44C5-4C39-982F-589A2C2AA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 Antiqua"/>
              </a:rPr>
              <a:t>Встреча миров. Великие     географические     открыт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F:\история\Материки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7216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836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322200"/>
            <a:ext cx="650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F:\история\Корабли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 Магеллана. Гравюра XV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века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0200" y="419040"/>
            <a:ext cx="64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0304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Корабли Магеллана. Гравю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6193080" cy="511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F:\история\Материки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1" name=""/>
          <p:cNvCxnSpPr/>
          <p:nvPr/>
        </p:nvCxnSpPr>
        <p:spPr>
          <a:xfrm flipH="1" rot="16200000">
            <a:off x="4572000" y="-36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2" name=""/>
          <p:cNvCxnSpPr/>
          <p:nvPr/>
        </p:nvCxnSpPr>
        <p:spPr>
          <a:xfrm flipH="1" rot="16200000">
            <a:off x="4572000" y="-36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H="1" rot="16200000">
            <a:off x="4572000" y="-36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 flipH="1" rot="16200000">
            <a:off x="4572000" y="-36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Правильные отве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    3      Васко да Га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    2     Христофор Колум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    1     Фернан Магелл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ликие географические открытия устранили изоляцию двух миров, привели к созданию мирового рынка, но ценой этого достижения стало уничтожение древних государств с их высокой культурой и физическое уничтожение индейцев. Следует ли считать Великие географические открытия прогрессивным явлением в истории развития общества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ое историческое событие, явление имеет неоднозначные последствия; за новые достижения на пути своего развития человечеству приходится платить высокую це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 Antiqua"/>
              </a:rPr>
              <a:t>Встреча миров. Великие     географические     открыт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F:\история\Материки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721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6920" y="836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22200"/>
            <a:ext cx="650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ликие географические открытия устранили изоляцию двух миров, привели к созданию мирового рынка, но ценой этого достижения стало уничтожение древних государств с их высокой культурой и физическое уничтожение индейцев. Следует ли считать Великие географические открытия прогрессивным явлением в истории развития общества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F:\история\1.jp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Колумб перед отплытием. Гравю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8066160" cy="525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F:\история\Одежда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индейцев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7620120" cy="5080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7128000" cy="5618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</a:rPr>
              <a:t>F:\история\3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31840" y="907920"/>
            <a:ext cx="5853240" cy="495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</a:rPr>
              <a:t>F:\история\1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9:22:23Z</dcterms:created>
  <dc:creator>Комп</dc:creator>
  <dc:description/>
  <dc:language>en-US</dc:language>
  <cp:lastModifiedBy>Комп</cp:lastModifiedBy>
  <dcterms:modified xsi:type="dcterms:W3CDTF">2009-02-01T11:27:41Z</dcterms:modified>
  <cp:revision>9</cp:revision>
  <dc:subject/>
  <dc:title>F:\история\1.jpg</dc:title>
</cp:coreProperties>
</file>