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066-5B94-4571-BF25-0EB65D1A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7E4-1E1E-427B-9DA8-3F743C28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F95-3335-4BB4-BEBC-8CC0EC06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0BB-73D5-4424-B17E-FCCD19F5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B722-80F3-46C3-9688-E1EF4A68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3AA-DD83-43EB-AA70-B45A269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4CA-DDCF-4712-BC1C-262FC90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4CBE-97A1-4181-9F45-36CDA6E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0FF6-0440-4EE5-AB36-08D7B81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2BE8-B3B9-409F-8AC4-CABB064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C491-BCC1-43A3-B7B7-CE3D6F2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8C0-1935-4B13-9D75-F6B8003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E38-7BB1-4A98-ABDA-B808D72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C49-1ED6-4601-96C2-7AE4F07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02D-24B2-417D-A285-72265975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BC07-3DED-4A4F-9D67-1755BDF5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CC3-DC51-4A01-A734-698D2FD5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382-424C-409C-840E-59A27153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84D-A915-41BF-9D93-F26C5EC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953-0EEF-4542-A550-CB7655B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87C-AA45-4FA3-B756-EFB93108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DFB-AA1D-46C5-A7B3-C6BF3A1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FC3-A8AC-4A92-BF17-E5644BC4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7C1-B6A1-44AF-B7A8-7AD5802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FD5-233D-401A-A9A4-9287C137ADE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F004-B419-4A38-8C09-F81FD2400A3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fipi.ru/" TargetMode="External"/><Relationship Id="rId4" Type="http://schemas.openxmlformats.org/officeDocument/2006/relationships/hyperlink" Target="http://www.fipi.ru/" TargetMode="External"/><Relationship Id="rId5" Type="http://schemas.openxmlformats.org/officeDocument/2006/relationships/hyperlink" Target="http://www.fipi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696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МБОУ «Погромская средняя общеобразовательная школа имени А.Д.Бондаренко» Волоконовского района Белгородской област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69832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Georgia"/>
              </a:rPr>
              <a:t>Аргументы к сочинению С2.1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Georgia"/>
              </a:rPr>
              <a:t>(ГИА 2012, 9 класс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Автор: Морозова Алла Станиславов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братим внимание на форму сказуемых в предложениях 1-9. В начале и конце текста в роли сказуемых выступают глаголы прошедшего времени совершенного вида: зашло, зажглась. В середине – несовершенного вида: пылал, набегали. Автор делает это намеренно, т.к. прошедшее время совершенного вида обозначает действия, следовавшие одно за другим, остающиеся налицо в настоящем. Глаголы прошедшего времени несовершенного вида позволяют показать прошедшие события не в их последовательности, а как совершившиеся в одном временном отрезке, увиденном сраз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40412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предложении 9 интересна форма употребления слова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звёздочка.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ьшительно-ласкательный суффикс -очк- указывает на что-то маленькое, ласковое, симпатичное автору. Ощущение бесконечной дали благодаря этому слову усиливается: мы видим не сам костёр, а звёздочку – крохотное пятнышко кост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6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ачестве примера возьмём составное именное сказуемое «была залита» (предложение 3). Именная часть «залита» передаёт основное лексическое значение: небо окрашено в цвета, радующие глаз . Глагол-связка «была» выражает грамматические значения: изъявительное наклонение, прошедшее время, единственное число, женский род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           </a:t>
            </a: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Таким образом, благодаря выбору лексики в тексте проявились те грани ситуации, которые занимали мысли автора в момент написания своего произведения, а в выборе грамматических форм отразилось его отношение, то есть то, «как» он по этому поводу думал.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Образец сочинения, рассчитанный на среднего учени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Известный  лингвист Г. Степанов писал: «Словарь языка свидетельствует, о чём думают люди, а грамматика – как они думают». Как понять эти слов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На мой взгляд, под понятием «словарь» Г. Степанов подразумевал лексику. Слова нужны человеку, чтобы дать имя всему, что есть на свете. Значит, они показывают то, о чём думает челове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Грамматика изучает правила словопроизводства, части речи, предложения и словосочетания.  Она помогает  нам связать между собою слова, чтобы выразить  любую мысль о любом предмете, свидетельствует о том, как люди дум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9640" y="361800"/>
            <a:ext cx="640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Лексика текста____________________ помогает нам понять его мысли, отношение к героям повествования. В предложениях №  мы видим (синонимы, антонимы, устаревшие слова, просторечная лексика и т.д. – выбери нужное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нание грамматических правил помогает человеку правильно и ясно излагать  мысли, раскрывает его внутренний мир, состояние, отношение к окружающим. Так, вводные слова в предложениях  ____, _____, ____ говорят нам о………………………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мышляя над словами Г. Степанова, я понял(а), что нужно расширять свой словарный запас, стараться лучше изучить грамматику. Тогда и в устной, и в письменной речи мы будем делать меньше ошибок, станем по-настоящему культурными люд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спользованные материал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усский язык. Теория. 5-9 кл.: учеб. для общеобразоват. учреждений / В. В. Бабайцева, Л. Д. Чеснокова. – М.: Дрофа, 2012. – 319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www.fipi.ru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(Демоверсия КИМ ГИА - 9 2012 г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рмулировка зад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ишите сочинение-рассуждение, приняв в качестве тезиса слова известного лингвиста Г. Степанова: «Словарь языка свидетельствует, о чём думают люди, а грамматика – как они думаю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пробуем подобрать аргументы, доказывающие справедливость второй части высказывания, на примере разных текс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Тезис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бы понять смысл второй части высказывания, нужно выяснить значение слова «грамматика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Грамматик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– раздел лингвистики, занимающийся изучением и описанием строения слов (словообразования), словоизменения (морфология), видов словосочетаний и типов предложений (синтаксис). Знание грамматических правил не только помогает человеку  правильно и ясно излагать собственные мысли, но и раскрывает его внутренний мир, состояние, отношение к окружающим. Попробуем это доказ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онтекст №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f1311"/>
                </a:solidFill>
                <a:latin typeface="Tahoma"/>
              </a:rPr>
              <a:t>(1)И вот бело-синим ослепительным светом раскрылась ночь. (2)На мгновенье чёрными очертаниями появились низко наклонившиеся деревья. (3)И снова  - тьма. (4)И грохнуло, обрушилось всё небо. (5)Хлынул дождь – сильный, обильный, потоко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А.Н.Толст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Tahoma"/>
              </a:rPr>
              <a:t>Так, например, в предложениях 1-5 борьба в природе, борьба света и темноты передаются не только лексическими средствами, но и с помощью синтаксиса. Сложное предложение, в котором рисуется первая вспышка молнии, сменяется коротким, простым, безглагольным, которое как бы символизирует поглотившую всё тьм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     </a:t>
            </a:r>
            <a:r>
              <a:rPr b="0" lang="en-US" sz="2600" spc="-1" strike="noStrike">
                <a:solidFill>
                  <a:srgbClr val="2f1311"/>
                </a:solidFill>
                <a:latin typeface="Tahoma"/>
              </a:rPr>
              <a:t>Так, например, использованный писателем в предложениях 1-5 обратный порядок слов (раскрылась ночь, появились деревья, обрушилось небо) позволяет выделить глагол, обратив внимание читателей на характер дождя. Предполагаемые писателем паузы, повышение, понижение голоса создают в этих предложениях определённый ритмический рисунок, способствующий передаче состояния разбушевавшейся природы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онтекст №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Tahoma"/>
              </a:rPr>
              <a:t>(1)Возьмёшь одну почку, разотрёшь между пальцами. И потом долго всё пахнет тебе ароматной смолой берёзы, тополя или черёмухи. (2)Понюхаешь черёмуховую почку и сразу вспомнишь, как, бывало, забирался вверх по дереву за ягодами, блестящими, чёрно-лаковыми. (3)Ел их горстями прямо с косточками, но ничего от этого, кроме хорошего, не бывал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Tahoma"/>
              </a:rPr>
              <a:t>М.М.Пришв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имер №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Tahoma"/>
              </a:rPr>
              <a:t>Возьмём, к примёру, предложения 1 и 2. Автор использует в них глаголы 2-го лица единственного числа, чтобы каждый из нас почувствовал себя действующим лицом. Вместе с автором мы берём почку, растираем её, нюхаем и вспоминаем лето. И помогает нам в этом использование в тексте односоставных предложен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онтекст №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48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1)Солнце зашло. (2)Запад пылал, как лицо запыхавшегося от беготни ребёнка. (3)Восточная половина неба была залита нежно-алыми и  лиловыми оттенками. (4)Воздух был тих и звучен. (5)Грустная задумчивость разлита была в его светлом колыхании. (6)Прозрачно мерцал вечер, и незаметно набегали сумерки. (7)Влажная и сонная тишина стояла над рекою. (8)Гладкие струи плескались о сырой песок берега с лёгким шёпотом, словно нежные детские губы целовали мамины руки. (9)Вдали, на берегу, радостно зажглась красная звёздочка костра; там виднелась рыбачья лод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.Сологу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8:08:42Z</dcterms:created>
  <dc:creator>Admin</dc:creator>
  <dc:description/>
  <dc:language>en-US</dc:language>
  <cp:lastModifiedBy>Admin</cp:lastModifiedBy>
  <dcterms:modified xsi:type="dcterms:W3CDTF">2011-12-31T10:03:37Z</dcterms:modified>
  <cp:revision>12</cp:revision>
  <dc:subject/>
  <dc:title>БМОУ «Погромская средняя общеобразовательная школа имени А.Д.Бондаренко» Волоконовского района Белгородской области</dc:title>
</cp:coreProperties>
</file>