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gif" ContentType="image/gif"/>
  <Override PartName="/ppt/media/image8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99EF-9887-4D7A-B262-AC54C6B2A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D9A5-0155-4CB2-A0C5-0EFC05AC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3F8E-D48F-4118-9697-D983FCB8F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2DDD-AEAA-4DC4-8132-18CB3B739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429DB-FCF0-4057-BA48-C59BE6794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DE098-A499-41B4-8E77-7AF0B309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89B00-E300-4349-80F4-0C3C7C74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3028A3-5AD6-4894-9F3E-0E2B659B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E9761-E102-4B08-A79A-E53BAF23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F9BE2-D007-494B-9F00-16B78D1F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C351C-AA5E-4288-9DC8-1F92F678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0B96-8F8E-4F09-931C-6317D3CA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36E3F-4C25-44AA-8E70-6D6E393E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AAABC-F8A0-42B3-8748-2D80C5F2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082FC-1889-4A28-85ED-F9625A3F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044A0-B7F7-4C85-B20E-4C8AA5FF9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27C00-BE4C-4804-92E4-BDC1A8357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A2CC7-62DD-408D-A2D6-DCEAD90E0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3EE91-1685-4FD5-91F0-F3DCE313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8CD41-55AD-49CA-9D7C-C005A66A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DD18D-D57B-4399-A574-77A7EB3F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BA891-EB66-4D45-BD20-6E6E2CB0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5E6A-12E9-4849-AD78-23A87E7B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DD2A9-0043-4CED-8F38-E9D19C74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A3D85-6FEA-4622-9EB2-2870C730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8AE6A-EB29-44A8-99F4-B7CB08B5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56599-C102-468F-8A95-1294E5EE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D3627-DB45-4258-8E0E-F7B6276E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9206B-ACD0-4301-BA2B-6A7A46FD6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461E3-5ABE-4651-AE3C-A362FA395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3C1BA5-8B12-47D3-ACA1-A9E758450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CBA08A-5244-4233-B2D2-1FADAEF2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244471-6306-42E7-9286-57964FA6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696C-7E2A-4664-88EE-FBFCBFC8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BAF0A1-C162-4A7F-9890-D92EB0A5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93A6C6-3AD5-4BCE-B190-ABA1A828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E81DB9-84C7-4380-B8DD-1910E35E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C2A515-7C8B-452E-8247-6831354E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958B27-143C-4DA7-A636-619DFB82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299CA0-758C-479E-814E-3FBA6F61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59D534-F5B0-4603-B91F-2F137511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F15805-F9C4-4CDE-B859-60D0AFE40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FA8718-0D61-4888-B241-672ECA4A4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F177-92BF-459F-8AE1-2DB6F7FF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2863-FE48-4629-A906-7A0EB608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9150-75D2-44C2-AE61-CED67C2B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C7E2-EF3F-4D5A-B86E-A112FA29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52BC-1F94-4B3E-8AC4-903988D9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9D99-C990-450A-AC42-AAC8AC7EB13A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AFEC-066C-46AC-B033-CDE9B10B685A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A8F4-AA9B-4CC6-9313-3822002C1B03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0D36-AA2D-4265-B756-D5C0BC37A920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71" name="Заголовок 1" descr=""/>
          <p:cNvPicPr/>
          <p:nvPr/>
        </p:nvPicPr>
        <p:blipFill>
          <a:blip r:embed="rId1"/>
          <a:stretch/>
        </p:blipFill>
        <p:spPr>
          <a:xfrm>
            <a:off x="450720" y="1103400"/>
            <a:ext cx="8321760" cy="23162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a"/>
          <p:cNvPicPr/>
          <p:nvPr/>
        </p:nvPicPr>
        <p:blipFill>
          <a:blip r:embed="rId2"/>
          <a:stretch/>
        </p:blipFill>
        <p:spPr>
          <a:xfrm>
            <a:off x="539640" y="4508640"/>
            <a:ext cx="1038240" cy="1557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a"/>
          <p:cNvPicPr/>
          <p:nvPr/>
        </p:nvPicPr>
        <p:blipFill>
          <a:blip r:embed="rId3"/>
          <a:stretch/>
        </p:blipFill>
        <p:spPr>
          <a:xfrm>
            <a:off x="7358040" y="214200"/>
            <a:ext cx="1038240" cy="1557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a"/>
          <p:cNvPicPr/>
          <p:nvPr/>
        </p:nvPicPr>
        <p:blipFill>
          <a:blip r:embed="rId4"/>
          <a:stretch/>
        </p:blipFill>
        <p:spPr>
          <a:xfrm>
            <a:off x="539640" y="4508640"/>
            <a:ext cx="1038240" cy="1557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a"/>
          <p:cNvPicPr/>
          <p:nvPr/>
        </p:nvPicPr>
        <p:blipFill>
          <a:blip r:embed="rId5"/>
          <a:stretch/>
        </p:blipFill>
        <p:spPr>
          <a:xfrm>
            <a:off x="7380360" y="260280"/>
            <a:ext cx="10382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6" name="Заголовок 1" descr=""/>
          <p:cNvPicPr/>
          <p:nvPr/>
        </p:nvPicPr>
        <p:blipFill>
          <a:blip r:embed="rId1"/>
          <a:stretch/>
        </p:blipFill>
        <p:spPr>
          <a:xfrm>
            <a:off x="128520" y="146160"/>
            <a:ext cx="85647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8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2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                       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А. С. Пушкин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        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Погасло дневное светило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        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На море синее вечерний пал туман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        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Шуми, шуми, послушное ветрило,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        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Волнуйся подо мной, угрюмый океан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        </a:t>
            </a: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А. С. Твардовский «За далью – даль»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             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И все, от корки и до корки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             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Что в книгу вписано вчера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             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Все с нами – в силу поговорк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             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Насчет пера и топора.    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" dur="1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8" dur="10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1" lang="ru-RU" sz="4400" spc="-1" strike="noStrike">
                <a:solidFill>
                  <a:srgbClr val="ffffff"/>
                </a:solidFill>
                <a:latin typeface="Constantia"/>
              </a:rPr>
              <a:t>Найдите заимствованные слова во </a:t>
            </a:r>
            <a:r>
              <a:rPr b="1" i="1" lang="ru-RU" sz="4800" spc="-1" strike="noStrike">
                <a:solidFill>
                  <a:srgbClr val="ffffff"/>
                </a:solidFill>
                <a:latin typeface="Constantia"/>
              </a:rPr>
              <a:t>фразе   «Устами   младенца         глаголет  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Constantia"/>
              </a:rPr>
              <a:t>                 </a:t>
            </a:r>
            <a:r>
              <a:rPr b="1" i="1" lang="ru-RU" sz="4800" spc="-1" strike="noStrike">
                <a:solidFill>
                  <a:srgbClr val="ffffff"/>
                </a:solidFill>
                <a:latin typeface="Constantia"/>
              </a:rPr>
              <a:t>истина»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57200" y="5715000"/>
            <a:ext cx="8229600" cy="380880"/>
          </a:xfrm>
          <a:prstGeom prst="rect">
            <a:avLst/>
          </a:prstGeom>
          <a:ln w="0">
            <a:noFill/>
          </a:ln>
        </p:spPr>
      </p:pic>
      <p:pic>
        <p:nvPicPr>
          <p:cNvPr id="204" name="Заголовок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1" lang="ru-RU" sz="4000" spc="-1" strike="noStrike">
                <a:solidFill>
                  <a:srgbClr val="ffffff"/>
                </a:solidFill>
                <a:latin typeface="Constantia"/>
              </a:rPr>
              <a:t>Серый Волк придумал несуществующее слово «рочь» и спросил у трех поросят, к какой части речи они относятся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2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2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 rot="20885400">
            <a:off x="1896840" y="6528960"/>
            <a:ext cx="768636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Заголовок 1" descr=""/>
          <p:cNvPicPr/>
          <p:nvPr/>
        </p:nvPicPr>
        <p:blipFill>
          <a:blip r:embed="rId1"/>
          <a:stretch/>
        </p:blipFill>
        <p:spPr>
          <a:xfrm>
            <a:off x="255600" y="469800"/>
            <a:ext cx="843768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onstantia"/>
              </a:rPr>
              <a:t>А. К. Паустовский: </a:t>
            </a:r>
            <a:r>
              <a:rPr b="1" i="1" lang="ru-RU" sz="6600" spc="-1" strike="noStrike">
                <a:solidFill>
                  <a:srgbClr val="ffffff"/>
                </a:solidFill>
                <a:latin typeface="Constantia"/>
              </a:rPr>
              <a:t>« С русским языком можно творить чудеса»</a:t>
            </a:r>
            <a:endParaRPr b="0" lang="en-US" sz="6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5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9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       </a:t>
            </a:r>
            <a:r>
              <a:rPr b="0" lang="ru-RU" sz="2600" spc="-1" strike="noStrike" u="sng">
                <a:solidFill>
                  <a:srgbClr val="ffffff"/>
                </a:solidFill>
                <a:uFillTx/>
                <a:latin typeface="Constantia"/>
              </a:rPr>
              <a:t> </a:t>
            </a:r>
            <a:r>
              <a:rPr b="0" lang="ru-RU" sz="2600" spc="-1" strike="noStrike" u="sng">
                <a:solidFill>
                  <a:srgbClr val="ffffff"/>
                </a:solidFill>
                <a:uFillTx/>
                <a:latin typeface="Constantia"/>
              </a:rPr>
              <a:t>В чем заключается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ffff"/>
                </a:solidFill>
                <a:uFillTx/>
                <a:latin typeface="Constantia"/>
              </a:rPr>
              <a:t>необычность   стихотворения В.Я.Брюсова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Алый бархат вечереет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Горделиво дремлют ели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Жаждет зелень, и июль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Колыбельной лаской млее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9" dur="2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2" dur="2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5" dur="20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8" dur="20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              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Игра с болельщикам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Согласно какой поговорке слова находятся в кармане?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 какой пословице вспоминают, когда хотят сказать, что человек, который рано встает, много успевает сделать за день?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5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onstantia"/>
              </a:rPr>
              <a:t>«Слово – выражение мысли и может служить соединению и разделению людей; поэтому нужно с осторожностью обращаться с ним»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Constantia"/>
              </a:rPr>
              <a:t>                                    </a:t>
            </a:r>
            <a:r>
              <a:rPr b="0" i="1" lang="ru-RU" sz="4000" spc="-1" strike="noStrike">
                <a:solidFill>
                  <a:srgbClr val="ffffff"/>
                </a:solidFill>
                <a:latin typeface="Constantia"/>
              </a:rPr>
              <a:t>Л. Н. Толстой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Согласно какой поговорке зубы находятся не во рту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Плеваться некрасиво, но когда из-за плевка можно умереть от жажды?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9" dur="2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               </a:t>
            </a:r>
            <a:r>
              <a:rPr b="1" lang="ru-RU" sz="2600" spc="-1" strike="noStrike" u="sng">
                <a:solidFill>
                  <a:srgbClr val="ffffff"/>
                </a:solidFill>
                <a:uFillTx/>
                <a:latin typeface="Constantia"/>
              </a:rPr>
              <a:t>Игра с болельщикам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Найдите ошибки в предложениях и исправьте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Гончий автомобиль едва не перевернулся на повороте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 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бладая острым обоянием, он сразу уловил запах испеченного пирог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Дыхание больного стало отрывистым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 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Нас познакомили с новым комплектом упражнени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У него были невыразимые черты лица.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Творческий конкурс</a:t>
            </a:r>
            <a:r>
              <a:rPr b="1" i="1" lang="ru-RU" sz="2800" spc="-1" strike="noStrike">
                <a:solidFill>
                  <a:srgbClr val="ffffff"/>
                </a:solidFill>
                <a:latin typeface="Constanti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Напишите письмо первой учительнице о вашей школьной жизни правильным литературным языком с использованием пословиц, фразеологизмо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4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1" dur="1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5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Попробуйте сформулировать определение,    что такое эколингвистик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Девиз нашей игры: </a:t>
            </a: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«Берегите наш язык, наш прекрасный русский язык…»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9" dur="2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Constantia"/>
              </a:rPr>
              <a:t>Устный мини-журнал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Иностранные заимствования в русском языке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Жаргонизмы в нашей речи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Слова-паразиты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омпьютерный жаргон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О сквернословии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onstantia"/>
              </a:rPr>
              <a:t>        </a:t>
            </a:r>
            <a:r>
              <a:rPr b="1" lang="ru-RU" sz="7200" spc="-1" strike="noStrike">
                <a:solidFill>
                  <a:srgbClr val="ffffff"/>
                </a:solidFill>
                <a:latin typeface="Constantia"/>
              </a:rPr>
              <a:t>Конкурс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1" lang="ru-RU" sz="7200" spc="-1" strike="noStrike">
                <a:solidFill>
                  <a:srgbClr val="ffffff"/>
                </a:solidFill>
                <a:latin typeface="Constantia"/>
              </a:rPr>
              <a:t>капитанов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86" name="Picture 4" descr="к"/>
          <p:cNvPicPr/>
          <p:nvPr/>
        </p:nvPicPr>
        <p:blipFill>
          <a:blip r:embed="rId1"/>
          <a:stretch/>
        </p:blipFill>
        <p:spPr>
          <a:xfrm>
            <a:off x="112680" y="404640"/>
            <a:ext cx="1217520" cy="12956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к"/>
          <p:cNvPicPr/>
          <p:nvPr/>
        </p:nvPicPr>
        <p:blipFill>
          <a:blip r:embed="rId2"/>
          <a:stretch/>
        </p:blipFill>
        <p:spPr>
          <a:xfrm>
            <a:off x="6929280" y="5000760"/>
            <a:ext cx="12178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5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1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nstantia"/>
              </a:rPr>
              <a:t>           </a:t>
            </a:r>
            <a:r>
              <a:rPr b="1" lang="ru-RU" sz="4800" spc="-1" strike="noStrike">
                <a:solidFill>
                  <a:srgbClr val="ffffff"/>
                </a:solidFill>
                <a:latin typeface="Constantia"/>
              </a:rPr>
              <a:t>Конкурс «Сценка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1" lang="ru-RU" sz="4800" spc="-1" strike="noStrike">
                <a:solidFill>
                  <a:srgbClr val="ffffff"/>
                </a:solidFill>
                <a:latin typeface="Constantia"/>
              </a:rPr>
              <a:t>из    школьной жизни».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nstantia"/>
              </a:rPr>
              <a:t>         </a:t>
            </a:r>
            <a:r>
              <a:rPr b="1" lang="ru-RU" sz="4800" spc="-1" strike="noStrike">
                <a:solidFill>
                  <a:srgbClr val="ffffff"/>
                </a:solidFill>
                <a:latin typeface="Constantia"/>
              </a:rPr>
              <a:t>Домашнее задание.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6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1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6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836640"/>
            <a:ext cx="8229600" cy="56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Конкурс болельщико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Переведите текст с русского языка на русский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«Мне вчера одна простокваша вздумала профильтровать базар, да обломилась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«К нам тут один фраер прихилял. Клево потусовались, поугорали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«Мы такие стоим. Тут этот подваливает, весь в винтах. Ну, я ему в натуре… И он скис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nstantia"/>
              </a:rPr>
              <a:t>Замените русским словом: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500040" y="142920"/>
          <a:ext cx="8143920" cy="8572320"/>
        </p:xfrm>
        <a:graphic>
          <a:graphicData uri="http://schemas.openxmlformats.org/drawingml/2006/table">
            <a:tbl>
              <a:tblPr/>
              <a:tblGrid>
                <a:gridCol w="4071960"/>
                <a:gridCol w="4071960"/>
              </a:tblGrid>
              <a:tr h="857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536142"/>
                          </a:solidFill>
                          <a:latin typeface="Constantia"/>
                        </a:rPr>
                        <a:t>1 команд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ьедестал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Грот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ресс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Артист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ригинальный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Трасс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444d26"/>
                          </a:solidFill>
                          <a:latin typeface="Constantia"/>
                        </a:rPr>
                        <a:t>2 команд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искуссия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Атеист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Триумф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Шеф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Атлет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Банкротство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5b59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07:37:27Z</dcterms:created>
  <dc:creator>SamLab.ws</dc:creator>
  <dc:description/>
  <dc:language>en-US</dc:language>
  <cp:lastModifiedBy>SamLab.ws</cp:lastModifiedBy>
  <dcterms:modified xsi:type="dcterms:W3CDTF">2011-03-01T05:45:12Z</dcterms:modified>
  <cp:revision>31</cp:revision>
  <dc:subject/>
  <dc:title>Что такое лингвоэкология?</dc:title>
</cp:coreProperties>
</file>