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8CB7-30D9-447A-A24F-8EF3ECBD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B47-E3DC-427F-922D-CC78D82D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B55-5D07-4D1B-97F0-49B24318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C4CE-A75F-4351-8D5C-C79641AC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A7B-6FFB-4270-8FB1-DEBAD3AC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6EF-9726-42D7-BDBC-50C30E10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E22-B6CB-4070-A5FE-92F3A326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39AC-3525-411D-89F3-43CD2A34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6EE-8378-46E7-A21C-F0DF5673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AB2-7776-4C27-B34B-9C482394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EFA4-DDAA-441B-B756-A8B31F2A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CF9-8AEE-497D-87AD-9D11590A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0B43-FE1C-41F0-816F-D09D1DC679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1058;&#1072;&#1073;&#1083;&#1080;&#1094;&#1072; &#1085;&#1077;&#1087;&#1088;&#1072;&#1074;&#1080;&#1083;&#1100;&#1085;&#1099;&#1093; &#1072;&#1075;&#1083;&#1080;&#1081;&#1089;&#1082;&#1080;&#1093; &#1075;&#1083;&#1072;&#1075;&#1086;&#1083;&#1086;&#1074;.doc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0062"/>
                </a:solidFill>
                <a:latin typeface="Bodoni MT Black"/>
              </a:rPr>
              <a:t>Baby Elephant’s birthda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Рисунок 2" descr="123 028.jpg"/>
          <p:cNvPicPr/>
          <p:nvPr/>
        </p:nvPicPr>
        <p:blipFill>
          <a:blip r:embed="rId2"/>
          <a:stretch/>
        </p:blipFill>
        <p:spPr>
          <a:xfrm>
            <a:off x="3121200" y="1481040"/>
            <a:ext cx="3193920" cy="4578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hat emotions do you feel? 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 I feel…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 rot="1156200">
            <a:off x="5866920" y="3357720"/>
            <a:ext cx="2335320" cy="22525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rot="19899600">
            <a:off x="487080" y="3373200"/>
            <a:ext cx="2392200" cy="2217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440880" y="324576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feel…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130840" y="1906560"/>
            <a:ext cx="15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Jo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Happi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Inter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Satisf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5009760" y="2003400"/>
            <a:ext cx="149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Sadn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Bored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Indiffere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Irrit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185724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90062"/>
                </a:solidFill>
                <a:latin typeface="Tahoma"/>
              </a:rPr>
              <a:t>See you! </a:t>
            </a:r>
            <a:br>
              <a:rPr sz="9600"/>
            </a:br>
            <a:r>
              <a:rPr b="1" lang="en-US" sz="9600" spc="-1" strike="noStrike">
                <a:solidFill>
                  <a:srgbClr val="e90062"/>
                </a:solidFill>
                <a:latin typeface="Tahoma"/>
              </a:rPr>
              <a:t>Bye!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0062"/>
                </a:solidFill>
                <a:latin typeface="Tahoma"/>
              </a:rPr>
              <a:t>Read and complete the letter. </a:t>
            </a:r>
            <a:br>
              <a:rPr sz="3200"/>
            </a:br>
            <a:r>
              <a:rPr b="1" lang="en-US" sz="3200" spc="-1" strike="noStrike">
                <a:solidFill>
                  <a:srgbClr val="e90062"/>
                </a:solidFill>
                <a:latin typeface="Tahoma"/>
              </a:rPr>
              <a:t>Use the verbs in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Past Simple</a:t>
            </a: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397880" y="1357200"/>
            <a:ext cx="52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The Baby Elephant …………. (have) a birthda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3841920" y="128592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h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1490760" y="1928880"/>
            <a:ext cx="50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Many friends ………….. (come) to his hous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1642320" y="2571840"/>
            <a:ext cx="48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They  …………. (give) him a lot of presen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1768320" y="3143160"/>
            <a:ext cx="41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The monkeys …………. (bring) a bal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335240" y="3714840"/>
            <a:ext cx="69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The lions ………………. (present) him with 2 dolls and cloth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1335600" y="4429080"/>
            <a:ext cx="70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The elephant’s parents ………………… (buy) a computer gam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1527120" y="5143680"/>
            <a:ext cx="52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The baby elephant ……………… (be) very gla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1628640" y="5877000"/>
            <a:ext cx="473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He ……………….. (want) to play with dolls</a:t>
            </a: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3195360" y="185724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ca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Box 20"/>
          <p:cNvSpPr/>
          <p:nvPr/>
        </p:nvSpPr>
        <p:spPr>
          <a:xfrm>
            <a:off x="2415240" y="250020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ga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Box 21"/>
          <p:cNvSpPr/>
          <p:nvPr/>
        </p:nvSpPr>
        <p:spPr>
          <a:xfrm>
            <a:off x="3305520" y="306864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brough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Box 22"/>
          <p:cNvSpPr/>
          <p:nvPr/>
        </p:nvSpPr>
        <p:spPr>
          <a:xfrm>
            <a:off x="2383560" y="3643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presen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Box 23"/>
          <p:cNvSpPr/>
          <p:nvPr/>
        </p:nvSpPr>
        <p:spPr>
          <a:xfrm>
            <a:off x="4211640" y="4365720"/>
            <a:ext cx="89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bough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4056120" y="508464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Box 25"/>
          <p:cNvSpPr/>
          <p:nvPr/>
        </p:nvSpPr>
        <p:spPr>
          <a:xfrm>
            <a:off x="2167200" y="5950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an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0062"/>
                </a:solidFill>
                <a:latin typeface="Tahoma"/>
              </a:rPr>
              <a:t>Расшифруй поговорк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285920" y="1357200"/>
            <a:ext cx="6786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There is no bad weather, there are only bad cloth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А) Нет плохой погоды. Есть плохое время г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Б) Нет плохой погоды, есть плохая одеж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В) В плохую погоду никакая одежда не спас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зимние березки.jpg"/>
          <p:cNvPicPr/>
          <p:nvPr/>
        </p:nvPicPr>
        <p:blipFill>
          <a:blip r:embed="rId2"/>
          <a:stretch/>
        </p:blipFill>
        <p:spPr>
          <a:xfrm>
            <a:off x="285840" y="142884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605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4296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0062"/>
                </a:solidFill>
                <a:latin typeface="Tahoma"/>
              </a:rPr>
              <a:t>Let’s play with dolls too. Dress them for winter/ for spring. Describe your doll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Рисунок 3" descr="зимние березки.jpg"/>
          <p:cNvPicPr/>
          <p:nvPr/>
        </p:nvPicPr>
        <p:blipFill>
          <a:blip r:embed="rId3"/>
          <a:stretch/>
        </p:blipFill>
        <p:spPr>
          <a:xfrm>
            <a:off x="324000" y="177336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весна 011.jpg"/>
          <p:cNvPicPr/>
          <p:nvPr/>
        </p:nvPicPr>
        <p:blipFill>
          <a:blip r:embed="rId4"/>
          <a:stretch/>
        </p:blipFill>
        <p:spPr>
          <a:xfrm>
            <a:off x="5364000" y="1557360"/>
            <a:ext cx="3127680" cy="4168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8"/>
          <p:cNvSpPr/>
          <p:nvPr/>
        </p:nvSpPr>
        <p:spPr>
          <a:xfrm>
            <a:off x="214200" y="3500280"/>
            <a:ext cx="33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6000840" y="47149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857160" y="566100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373"/>
                </a:solidFill>
                <a:latin typeface="Arial"/>
              </a:rPr>
              <a:t>He/ She has got …. 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0062"/>
                </a:solidFill>
                <a:latin typeface="Tahoma"/>
              </a:rPr>
              <a:t>Let’s play computer game: Find 13 words  (clothes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56760" y="1356840"/>
            <a:ext cx="857268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28760" y="1397160"/>
          <a:ext cx="8358120" cy="5178240"/>
        </p:xfrm>
        <a:graphic>
          <a:graphicData uri="http://schemas.openxmlformats.org/drawingml/2006/table">
            <a:tbl>
              <a:tblPr/>
              <a:tblGrid>
                <a:gridCol w="836640"/>
                <a:gridCol w="834840"/>
                <a:gridCol w="836640"/>
                <a:gridCol w="835200"/>
                <a:gridCol w="836280"/>
                <a:gridCol w="835200"/>
                <a:gridCol w="836640"/>
                <a:gridCol w="834840"/>
                <a:gridCol w="836640"/>
                <a:gridCol w="835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0062"/>
                </a:solidFill>
                <a:latin typeface="Tahoma"/>
              </a:rPr>
              <a:t>Let’s play computer game: Find 13 words  (clothes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56760" y="1356840"/>
            <a:ext cx="857268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28760" y="1397160"/>
          <a:ext cx="8358120" cy="5190840"/>
        </p:xfrm>
        <a:graphic>
          <a:graphicData uri="http://schemas.openxmlformats.org/drawingml/2006/table">
            <a:tbl>
              <a:tblPr/>
              <a:tblGrid>
                <a:gridCol w="836640"/>
                <a:gridCol w="834840"/>
                <a:gridCol w="836640"/>
                <a:gridCol w="835200"/>
                <a:gridCol w="836280"/>
                <a:gridCol w="835200"/>
                <a:gridCol w="836640"/>
                <a:gridCol w="834840"/>
                <a:gridCol w="836640"/>
                <a:gridCol w="835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ae7e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5cb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0062"/>
                </a:solidFill>
                <a:latin typeface="Tahoma"/>
              </a:rPr>
              <a:t>Let’s go to the shop </a:t>
            </a:r>
            <a:br>
              <a:rPr sz="4400"/>
            </a:br>
            <a:r>
              <a:rPr b="1" lang="en-US" sz="4400" spc="-1" strike="noStrike">
                <a:solidFill>
                  <a:srgbClr val="e90062"/>
                </a:solidFill>
                <a:latin typeface="Tahoma"/>
              </a:rPr>
              <a:t>and buy food for </a:t>
            </a:r>
            <a:br>
              <a:rPr sz="4400"/>
            </a:br>
            <a:r>
              <a:rPr b="1" lang="en-US" sz="4400" spc="-1" strike="noStrike">
                <a:solidFill>
                  <a:srgbClr val="e90062"/>
                </a:solidFill>
                <a:latin typeface="Tahoma"/>
              </a:rPr>
              <a:t>a birthday party. </a:t>
            </a:r>
            <a:br>
              <a:rPr sz="4400"/>
            </a:br>
            <a:r>
              <a:rPr b="1" lang="en-US" sz="4400" spc="-1" strike="noStrike">
                <a:solidFill>
                  <a:srgbClr val="e90062"/>
                </a:solidFill>
                <a:latin typeface="Tahoma"/>
              </a:rPr>
              <a:t>But the baby elephant doesn’t like fast food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0062"/>
                </a:solidFill>
                <a:latin typeface="Tahoma"/>
              </a:rPr>
              <a:t>Make the birthday postcard</a:t>
            </a:r>
            <a:br>
              <a:rPr sz="3200"/>
            </a:br>
            <a:r>
              <a:rPr b="1" lang="en-US" sz="3200" spc="-1" strike="noStrike">
                <a:solidFill>
                  <a:srgbClr val="e90062"/>
                </a:solidFill>
                <a:latin typeface="Tahoma"/>
              </a:rPr>
              <a:t>for the Baby Elepha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Горизонтальный свиток 4"/>
          <p:cNvSpPr/>
          <p:nvPr/>
        </p:nvSpPr>
        <p:spPr>
          <a:xfrm>
            <a:off x="642960" y="1428840"/>
            <a:ext cx="8143920" cy="528624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411280" y="2133720"/>
            <a:ext cx="47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ar Baby Elephan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2000160" y="257184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Happy birthday to you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1500120" y="3357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Best wish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Love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Your frie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Al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6286680" y="3429000"/>
            <a:ext cx="1828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ahoma"/>
              </a:rPr>
              <a:t>At home: 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e90062"/>
                </a:solidFill>
                <a:latin typeface="Tahoma"/>
              </a:rPr>
              <a:t>Project 3 “MFM for Stars” (Modern Fashion Magazine for Stars) – </a:t>
            </a:r>
            <a:br>
              <a:rPr sz="4800"/>
            </a:br>
            <a:r>
              <a:rPr b="1" lang="en-US" sz="4800" spc="-1" strike="noStrike">
                <a:solidFill>
                  <a:srgbClr val="e90062"/>
                </a:solidFill>
                <a:latin typeface="Tahoma"/>
              </a:rPr>
              <a:t>p. 79 (WB)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48:00Z</dcterms:created>
  <dc:creator>user</dc:creator>
  <dc:description/>
  <dc:language>en-US</dc:language>
  <cp:lastModifiedBy>Ваня</cp:lastModifiedBy>
  <dcterms:modified xsi:type="dcterms:W3CDTF">2012-02-15T13:24:25Z</dcterms:modified>
  <cp:revision>43</cp:revision>
  <dc:subject/>
  <dc:title>It is winter now. Choose clothes for skiing in the park.</dc:title>
</cp:coreProperties>
</file>