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252-A5E3-4E8F-B622-EAB89E6A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41D-76B0-4EBA-81D0-B3FA526D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7C6-127B-44FD-814D-782E11E4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E44-981B-432D-83C9-D0DE4136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35C-3E13-47EB-8213-9CA6D64E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181-4115-40E7-ABA1-C23D8B4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82E-DC89-4924-8A59-9E6BA0BB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C6E-6B04-4350-B7F0-B092AA2E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0A5-E511-486D-8970-8ED185FF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B30-466C-457E-93EC-14601A0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327-20E3-4824-9007-67D0229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08E-6EFB-406E-ADB0-C422C0E8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674-56A8-4B8B-8628-051216B78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457200"/>
            <a:ext cx="853452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 составлена </a:t>
            </a:r>
            <a:endParaRPr b="0" lang="en-US" sz="2800" spc="1" strike="noStrike">
              <a:ln w="19080">
                <a:solidFill>
                  <a:srgbClr val="333399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ем физики высшей категории</a:t>
            </a:r>
            <a:endParaRPr b="0" lang="en-US" sz="2800" spc="1" strike="noStrike">
              <a:ln w="19080">
                <a:solidFill>
                  <a:srgbClr val="333399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КОУ "Лицей п. Медногорский", КЧР</a:t>
            </a:r>
            <a:endParaRPr b="0" lang="en-US" sz="2800" spc="1" strike="noStrike">
              <a:ln w="19080">
                <a:solidFill>
                  <a:srgbClr val="333399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пинской Светланой Михайловной </a:t>
            </a:r>
            <a:endParaRPr b="0" lang="en-US" sz="2800" spc="1" strike="noStrike">
              <a:ln w="19080">
                <a:solidFill>
                  <a:srgbClr val="333399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rot="1839000">
            <a:off x="4495320" y="3352680"/>
            <a:ext cx="1295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о движется вниз по наклонной плоск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яг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304920"/>
            <a:ext cx="381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4343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324480" y="3505320"/>
            <a:ext cx="838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25146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289548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312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g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4267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·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g·sin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2362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8728E-006 L 0.12084 0.11098 E">
                                      <p:cBhvr>
                                        <p:cTn id="48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1839000">
            <a:off x="6781680" y="4876920"/>
            <a:ext cx="1295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вер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304920"/>
            <a:ext cx="381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334120" y="312372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3962520"/>
            <a:ext cx="4572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7010280" y="36576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4267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·cosα+g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238880" y="304812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571640" y="350532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4419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2819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080" y="52570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5181480"/>
                <a:ext cx="3047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08092E-006 L -0.22916 -0.19977 E">
                                      <p:cBhvr>
                                        <p:cTn id="57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1839000">
            <a:off x="4495320" y="3352680"/>
            <a:ext cx="1295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ни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304920"/>
            <a:ext cx="381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343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324480" y="3505320"/>
            <a:ext cx="838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5146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289548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2362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3434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943600" y="411444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4267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267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·cosα-g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2680" y="52570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5181480"/>
                <a:ext cx="2438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0289E-006 L 0.13333 0.12208 E">
                                      <p:cBhvr>
                                        <p:cTn id="68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983000">
            <a:off x="4495320" y="3429000"/>
            <a:ext cx="1295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 наклонной плоскос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тяг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304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4343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324480" y="3505320"/>
            <a:ext cx="838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289548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714640" y="39625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4267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cos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266688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51814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g(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111 L 0.13333 0.09988 E">
                                      <p:cBhvr>
                                        <p:cTn id="804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rot="1839000">
            <a:off x="6858000" y="4876560"/>
            <a:ext cx="1295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l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вер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304920"/>
            <a:ext cx="381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334120" y="312372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9625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7010280" y="36576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4267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 (g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·cosα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8168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297180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952520" y="3657240"/>
            <a:ext cx="3812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2819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080" y="52570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85800" y="5181480"/>
                <a:ext cx="2743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08092E-006 L -0.22916 -0.19977 E">
                                      <p:cBhvr>
                                        <p:cTn id="90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1839000">
            <a:off x="4419360" y="335232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ни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480" y="304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4343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324480" y="3505320"/>
            <a:ext cx="838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6400440" y="2666880"/>
            <a:ext cx="762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289548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629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2362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43434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714640" y="39625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4267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267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·cosα-g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2680" y="52570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990720" y="5181480"/>
                <a:ext cx="2743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111 L 0.13333 0.09988 E">
                                      <p:cBhvr>
                                        <p:cTn id="1019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rot="1983000">
            <a:off x="4495320" y="3429000"/>
            <a:ext cx="1295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 наклонной плоскос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тяг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480" y="304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4343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3505320"/>
            <a:ext cx="838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289548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057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714640" y="39625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4267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324480" y="266652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814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g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111 L 0.13333 0.09988 E">
                                      <p:cBhvr>
                                        <p:cTn id="1135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rot="1839000">
            <a:off x="6705720" y="4800240"/>
            <a:ext cx="1295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вер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480" y="304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/>
          <p:nvPr/>
        </p:nvSpPr>
        <p:spPr>
          <a:xfrm>
            <a:off x="5334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334120" y="312372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3962520"/>
            <a:ext cx="4572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7010280" y="36576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56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4267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g (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cos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8168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4952520" y="3657240"/>
            <a:ext cx="3812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63868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010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81503E-006 L -0.22084 -0.18867 E">
                                      <p:cBhvr>
                                        <p:cTn id="123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rot="1839000">
            <a:off x="4419360" y="335232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ни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480" y="304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343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324480" y="3505320"/>
            <a:ext cx="838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289548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629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43434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714640" y="39625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4267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4267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g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cosα - 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111 L 0.13333 0.09988 E">
                                      <p:cBhvr>
                                        <p:cTn id="13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 rot="1839000">
            <a:off x="4419360" y="335232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ни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480" y="304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"/>
          <p:cNvSpPr/>
          <p:nvPr/>
        </p:nvSpPr>
        <p:spPr>
          <a:xfrm>
            <a:off x="6324480" y="4343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324480" y="3505320"/>
            <a:ext cx="838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943600" y="289548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15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5714640" y="39625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426708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 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mgcosα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g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 равномерно скользит вни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9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111 L 0.13333 0.09988 E">
                                      <p:cBhvr>
                                        <p:cTn id="1432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762120"/>
            <a:ext cx="77724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фические зада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тем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276720"/>
            <a:ext cx="7238880" cy="22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Движение тел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наклонной плоскост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класс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 rot="1839000">
            <a:off x="5562360" y="403812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о  не движетс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по наклонной плоскости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г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3049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4343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324480" y="3505320"/>
            <a:ext cx="838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1629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294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714640" y="39625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42670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g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 не движ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 rot="1839000">
            <a:off x="4800240" y="358092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держивается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клонной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9480" y="304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3886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34120" y="312372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105160" y="3733560"/>
            <a:ext cx="2286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911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42670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g (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cos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Удерживаем т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4647960" y="34290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3962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8487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rot="1839000">
            <a:off x="6553080" y="4648320"/>
            <a:ext cx="1295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зит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вер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ер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3520" y="1522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34120" y="312372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34120" y="3962520"/>
            <a:ext cx="4572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4267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cos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8168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4419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4674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8487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33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86600" y="2286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6781320" y="29718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6960" y="515304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g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sin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9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1676E-006 L -0.1625 -0.13318 E">
                                      <p:cBhvr>
                                        <p:cTn id="1667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9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9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рта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3520" y="1295280"/>
          <a:ext cx="8229600" cy="51879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25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р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тя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р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тя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презентации использовался дидактический матери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Н. Отсечкиной 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лгоритм решения задач на законы динам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условие задачи, перевести данные в С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чертёж, на котором указать все силы, действующие на тело, вектор ускорения, направление  координатных ос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2 закон Ньютона  векторной форме,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внодействующая всех сил, действующих на те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знаки проекций сил на координатные оси и переписать 2 закон Ньютона с учётом этих зна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полученное уравнение (систему уравнений) относительно неизвест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1928400">
            <a:off x="6324120" y="3886200"/>
            <a:ext cx="1295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спом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=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mg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g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mg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mg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Т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клон – э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3124080"/>
            <a:ext cx="3809880" cy="2362320"/>
          </a:xfrm>
          <a:prstGeom prst="rtTriangl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248520" y="38098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43434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086600" y="34290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43434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029200" y="3047760"/>
            <a:ext cx="3733920" cy="236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24480" y="2590560"/>
            <a:ext cx="1905120" cy="28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086600" y="4648320"/>
            <a:ext cx="533520" cy="761760"/>
          </a:xfrm>
          <a:prstGeom prst="line">
            <a:avLst/>
          </a:prstGeom>
          <a:ln w="936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4343400"/>
            <a:ext cx="533520" cy="304920"/>
          </a:xfrm>
          <a:prstGeom prst="line">
            <a:avLst/>
          </a:prstGeom>
          <a:ln w="3816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0100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124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я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4038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50292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553080" y="4343400"/>
            <a:ext cx="533520" cy="685800"/>
          </a:xfrm>
          <a:prstGeom prst="line">
            <a:avLst/>
          </a:prstGeom>
          <a:ln w="3816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4343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полните следующие зад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данным составьте зада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шите дви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 второй закон Ньютона в векторной  фор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 второй закон Ньютона в  скалярной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зите действующую силу тя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ускорение, с которым движется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rot="1839000">
            <a:off x="6781680" y="4876920"/>
            <a:ext cx="1295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вер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304920"/>
            <a:ext cx="381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3886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34120" y="3048120"/>
            <a:ext cx="8380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952520" y="3657240"/>
            <a:ext cx="38124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238520" y="304812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933960" y="3886200"/>
            <a:ext cx="990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531072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71600" y="5181480"/>
                <a:ext cx="16765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33520" y="4267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·( g· sinα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819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08092E-006 L -0.2375 -0.19977 E">
                                      <p:cBhvr>
                                        <p:cTn id="8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39000">
            <a:off x="6781680" y="4876920"/>
            <a:ext cx="1295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l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вер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304920"/>
            <a:ext cx="381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886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048120"/>
            <a:ext cx="8380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952520" y="3657240"/>
            <a:ext cx="38124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30481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933960" y="3886200"/>
            <a:ext cx="990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531072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384200" y="5181480"/>
                <a:ext cx="16509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520" y="4267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·( g· sinα-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08092E-006 L -0.2375 -0.19977 E">
                                      <p:cBhvr>
                                        <p:cTn id="18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1839000">
            <a:off x="6934320" y="4800240"/>
            <a:ext cx="1295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35268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вер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наклонной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304920"/>
            <a:ext cx="381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38098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3048120"/>
            <a:ext cx="8380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952520" y="3657240"/>
            <a:ext cx="38124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933960" y="3886200"/>
            <a:ext cx="990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2670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=mg· sin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81503E-006 L -0.25 -0.19976 E">
                                      <p:cBhvr>
                                        <p:cTn id="28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1839000">
            <a:off x="4343400" y="3276360"/>
            <a:ext cx="1295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3429000"/>
            <a:ext cx="3810240" cy="236232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ло движется вниз по наклонной 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304920"/>
            <a:ext cx="381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42670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248520" y="3429000"/>
            <a:ext cx="6094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43434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2133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25146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31072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384200" y="5181480"/>
                <a:ext cx="16509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33520" y="4267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m·( a - g·sin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1905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2362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50289E-006 L 0.1375 0.12208 E">
                                      <p:cBhvr>
                                        <p:cTn id="37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Михайловна</cp:lastModifiedBy>
  <dcterms:modified xsi:type="dcterms:W3CDTF">2001-12-31T23:17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