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64B-21C5-4278-BE95-F6B8F032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1E83-C98C-45E2-8D00-2A182333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219D7-B76E-4741-972C-DE459A82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CD1E4-FE2E-4F9B-9C99-0648690C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44C07-C46D-472E-9D52-C0419F8D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74A49-EC54-4853-A9EB-0DA8876D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12C3E-3086-4585-8274-48B778B4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AE822-88CF-4046-BF73-DFE089A7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39A0B-FF5B-4EA0-8055-BDABAFA6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5E1B7-02F4-412A-92C8-02E11B09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EDB8E-1A28-43D2-ADCF-332C3ED5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CE7AF-2703-46CD-9F96-DA858A17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57E-3776-437C-93EE-12D2B469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73D09-5092-4F62-B618-8BFBAD28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9CA64-C243-4676-8A3C-7E656883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76E23-7025-4D3D-BDAE-DBD99C31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DB94C-3BDD-4A96-B490-C762F175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EA45D-1CAF-4C2E-B73C-19C02D8F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A876E-0623-4CF1-8556-47EE629F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D1E13-18BD-4F7D-9BFB-07AD7B22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FF1A1-B988-41E0-BE86-734B6455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AA9B2-F5A8-4B65-8584-A0F4EA27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37BB0-3808-4EAF-90A6-590AF290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44B-1775-4CC8-B990-BDAEF4A5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2D4F7-6305-40A7-9DD2-9DDB8809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3B0AD-B7DC-4765-8F0E-4523DAA3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1ADB5-D411-4415-B0F5-F38C8417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9897B-980E-4E7F-A7AD-FAD52599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BEFCF-5DD4-49AD-B793-836B5EF1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60511-8893-43EA-816D-5A021479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0770F-DEA1-446D-A79E-F55ADD73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9B100-8436-4D62-9BB2-1E6291EE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493E6-B666-4FC9-8880-4DDEA3F3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FE8C2-B2C0-4EFF-89CB-13AFA915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C572-FB65-4264-B2DD-E409801F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A08B5-DDA7-4E0D-8E2B-CBA47491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1348D-304A-47D1-B1C6-278E54E3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204A8-F4D8-487B-837A-BB915CFF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D7404-AD6A-4BDB-86A1-8E9B572D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E77EA-0D28-4407-8518-9FFB906D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E9C92-A593-4EE1-9EEB-00A5A48D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466D6-A1A0-46F6-B778-84B8EFA0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BAF48-58D7-4C8C-BABE-E84D8E19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E853D-0E06-4B70-B725-5960CA9A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35793-1622-43E2-80CC-B3B23731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68C3-9E1D-404F-BCFE-F373278D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6A6FB-FC8C-4B8B-A596-66F91DD4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0AD41-DDE1-46B7-A90E-AC1D98FD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7760D-62C6-46D8-B357-97635A71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4DBD7-3A8B-4576-AEDF-FE99F429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C00E1-C2E3-47B5-8946-F108F252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AA31D8-35DA-4CFF-87E8-9C2A3E5A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444479-E5AD-4F52-B39A-353A01CC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E0F54F-605B-4956-8DF3-309A791F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CB8CFA-BD3D-4BFD-89DE-6E279792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6FE4B5-3358-45F8-8A2D-E01D2C32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4AA4-B632-4F50-AA8A-E443E4A5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958FD2-BAC9-4AA7-A345-A6AF2419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9A690C-E601-4C7D-910F-0D5ACA45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F2B870-3A60-458A-87EB-CAC5C2EF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1522F9-EB87-4095-9A91-A7A15B24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29CF31-F850-4DF2-98C3-71361B5D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F33DBB-6DF0-4C1F-A2E9-7D53DE43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6144A7-8E1E-4865-B8B2-A6179A83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2D87A-CDF7-43C4-B8B7-8441D4A8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0B099-06B0-401B-A226-893D029F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62308-0B67-4B7C-8D45-70C44632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A3AE-4D90-4F8A-B3D9-FCB54B95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FFEF6-9EC5-4A0B-8946-9CE0F948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461C7B-CACE-403A-BB84-C789B5B8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1D2E3-DA2C-4A61-88CC-33824CDF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0E18D-5907-4457-8467-D3DE5648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830EAA-02BB-4FD1-961A-4F3C3BD9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3F434-66C6-48BA-AAAF-B22C4C06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406AB-36E0-4E19-8303-AAC96B7B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976F0D-B2A0-41DE-9F8B-88C29101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4B0DA-952A-430A-A318-4DAA3E1A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C9E28E-78B2-4443-BF91-B1CF2635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5D02-FAF2-4EF6-B54F-8A9051C0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19490-32BD-472E-90E5-4EE7ADEC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252654-C892-4D54-B5DD-259839FC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0C43AE-74CD-48D6-9D4B-03A6541E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9B69D-8FA5-4818-9FB4-40C6AE64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F7847-A922-4FC4-A347-F60070D2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21656-2169-4087-AF7B-35AB0148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EEBB3D-FB1B-4E1F-8B03-FE6ADC11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60B72-EDA6-40B1-B977-B2415C37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3CEA5B-31DD-4E94-A0BF-67458E83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42AA5B-F346-4966-9D6E-A7385602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A6D9-82A0-4DDA-838D-1C8B7C70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F6F61-F04C-42C2-BD9B-65BFD254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B554B2-2DF0-4417-93EC-60670FE9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796CE-B438-4DBD-827E-5B5D18AC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F842B5-03BA-41B7-883B-53D47952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B460DE-ADA6-47B7-8186-B854446C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AB6777-6939-4557-BCED-7ADB9584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4F9CC5-2B4F-4D6A-9F43-FC33A371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4A187-509C-404E-8F26-F74175AA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FF1E4F-203B-43AA-9201-309978F7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8DF23A-DBA4-4D5A-8E20-94DABA4F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FE80-4BD4-4424-9748-ED8A45A5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6E7F5E-C7AC-40A8-AABC-122D2311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E1868B-BF51-4B5F-BE0E-A2D6C11F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0D5C1C-2AB0-489C-9D32-11389F00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C60795-4054-438F-9A72-B69CBD72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2FD8F1-3362-473C-9224-8417F26A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8FF770-C650-43EC-AD76-9F79A50B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BB8CDD-2C86-4798-9FD0-EFFD2D04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F31D57-A384-432A-BE28-CB24F2DA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AC5B4F-4CE6-4D2F-92B9-6DBAAFCD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84F645-EF5B-47B4-9AF8-405C5C0B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6C5-774E-4A88-9E53-D2970686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BC91-2CA6-459B-9048-16D8F386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A7939-9BCE-414B-884D-013B173B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F13677-9EB8-461A-936E-C2D5E707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9CC24B-EBDD-4AB9-95C3-6B523BF5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13F2D2-2A08-4276-9BAF-121BB5B5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A6E16D-152A-4E22-B0BD-0B6E0149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FB0DBD-9024-46E8-B7DA-3BEB9D44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856AB5-091C-478E-84A6-A9352DD3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522E4-669F-4C3B-A3FF-8656345B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96C124-9B77-4A27-A80C-20CA6F0F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A03337-3C5E-498D-BCF7-CD74851C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A4FD-4ED4-4EEF-A66D-0B255452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E3264B-9D4E-45B3-B485-9C6B1490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17CD67-169F-4581-BA18-BA465D70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E96C7B-CB87-4BCB-A059-DA865133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7C0E46-8D94-42C2-958D-18085152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D5723-277F-4D45-AB23-FDDE28D7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44DB72-00BB-456A-97E7-A14CBC1C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392AA7-FDC7-4957-B162-AED4BFDB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3E26C3-0E38-4181-91C5-4AB13D76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2B2D24-4118-42B8-8920-F8FB140C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3EF0C3-56ED-4D43-BEAA-9AD73688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5E24-77A6-4C63-862E-57BE7A8F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700FD8-E47F-479E-9ABF-72610B5F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FD1E72-B624-4763-8B56-ABE11A80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BFB247-D707-4B33-96B6-7025184F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B1983C-6778-49B7-A0EF-6C44FB1C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BAB2F4-047E-4C49-836D-F05EDE49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1116B4-4F61-4945-9C94-F9B4527E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8BEE5E-D8A9-4B82-9C37-5C87FB65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9D18B9-BAAB-4D4D-8DE7-E3DD5026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B8CE23-6489-4B37-A8CF-CD692875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EA4400-691B-4739-9512-F1298A52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F56E-27E4-4DA8-8F77-51F7D7D2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1BFB06-F477-432B-A823-A773435C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5C8C06-F18E-4885-A867-133BB28F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D93F33-BD08-4343-90D9-F33B4FF0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981FC4-1989-4C4E-A61A-2F5E5FAE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07CB18-14C9-417A-B89E-747E11BF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109715-F962-45FF-872A-E1EC5D0A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AF8CAA-E55D-49F3-A8D6-A25BC62E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8BC3E3-A673-4AD5-8E16-1AC87D2B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462C4B-6A63-4A94-96A4-3D0F1BB0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DFC636-79A3-420F-95FF-1AEBF4C9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F72F-A00B-4A20-949A-B59DD40D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86CA97-B45D-464A-A310-A554CA62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F4F1B-4B03-4257-9B0E-EFDFD841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C0CE5-D946-4833-9548-D2915ADA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D9659-C54D-4B12-8AC1-D21856F4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20BE8-E4BE-487D-BFF9-E1576F41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4C30E-412F-4509-84B0-A08BF22B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A64-6B7E-47BE-9293-58D0C6A6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35C29-D255-4253-9709-908B0451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33A65-60DC-49D7-BA58-FB2B74B1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910468-8336-43B2-8B68-7F3EC372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980D2-8AFE-4915-9EDF-ACD96347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0CBA5-EA60-4AD7-A24D-B20BD422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4381C-358A-4D27-9824-5C0236E8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D50AF-601B-4301-8D70-829DAA5C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6C4D9-AB78-4CA6-B6FF-F8AA2C10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5E027-E2C7-4774-9B1E-E225578D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9F91C-F3B7-4D9F-A75F-B0861AC8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69D-0105-44AE-BECF-9ECFEDA0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80553-3461-412B-995F-82FA63EE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544F-9E91-419D-A935-7494A693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9A642-52A6-4492-9EF1-D0E86AFC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4C2B0-BB22-404B-8F1B-E7947197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15EC6-4F97-493F-89C7-24B09933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6988D-DAD4-4D8E-A420-BB69949C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BA314-6443-47B2-87C3-08F88C52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812E6-B1E7-4CDE-A2EF-897CEAF6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87764-505F-419A-9BE5-275B08E4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42835-CC1A-4200-AF54-C9CCC7C4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DF0-9C48-48F9-BB62-924713C5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CB99D-9E0C-4ADE-8D7B-79E91E4E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B5438-DB4F-4D94-8950-A7BC3B50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1953F-FC11-43AA-BE7C-4CD619E2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B46DA-7DE7-4E12-8B0D-78E3D1DA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746F7-94BF-48C2-88ED-9F5A9C3F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C5C11-6879-49D7-A8CE-A80A11AD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D1AB8-D787-4D5A-8187-1B43E534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CEF23-F0F9-4C9A-8BEC-210BE610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B14F7-0A60-4D09-B66B-4EFED705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8A9FC-ACD2-4570-8E15-430B9F0A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D72-5154-4105-83F8-D57D7EB9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A5BAE-8E58-430D-8911-FF0CEB1B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25BED-AD2A-4A6B-85A1-73D9EF35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832CB-964A-420A-A5DF-02532013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0C1C7-31B8-490A-9DAB-5B005298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0C1B2-3DA9-4BE6-8549-B3ECA6FC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D7821-C873-415A-9606-36BA9DED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59A93-D45D-4FB6-97F7-A5B57D46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3BD13-1479-447F-8A90-BED19697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47BBF-0C6B-420C-9617-E9FB369E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569A9-9E8F-4B74-ADA4-0D6EDA1D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0CF-B0C0-4999-BD98-6D4CE22F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0C5F8-20E5-41F3-AA8B-A54CDCD0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B689A-2D99-4291-97F0-14F15B58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AD9C3-374D-4510-A8CB-E9729541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C6C23-7991-453A-956C-BB13756D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0160B-E540-43C3-90DC-CF0A4DBB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A49E5-C8A9-497F-AFFB-98593CA2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B4DBF-7BA1-4489-ACA9-E361C1FF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37C17-53E1-4914-A9CF-6E36E0B5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B37EF-9008-4065-AB4D-93191AF5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B1B8D-391D-4C1D-8EA0-5C16233F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5DF-C23C-4C43-849C-F8BC768B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0AFDE-E4AE-4723-ACF6-357D345B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9E6B2-5AE7-461A-B5B2-BF005EC6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FA943-379E-440F-BBA8-3ABF9A91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58947-996E-491D-9390-626703D8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F77E8-BF3F-47BA-9645-29E041AB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BA842A-B249-4139-80E4-D24032F7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3708DA-3AED-445E-9E78-FD14E6AC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F327D1-BC7F-458F-B7A8-890A907D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A79D20-79B4-49ED-AA1A-D00D7B92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F77877-AE9C-45E0-B700-1433052E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92B-F29B-4933-BEB7-B862C0E6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9031C3-02D5-425B-827B-41FE2288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1C75CA-FACC-42E9-A936-D155CF1D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87F0BC-7A23-4ED6-AB86-52A73E89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722547-CD36-4964-8EB7-CA84F6C9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062E50-5DD2-49E8-8213-FAAD6BD2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1C31E2-55E9-4A9F-B366-BFEB8A42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9584D8-AA04-4795-A364-56F0E8F2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71DF2-04DB-43D8-83C1-4F76E63E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A8D2F-EFF4-4361-BBD7-60F87378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130CE-2B25-418E-91F6-6F0FC41E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E16A-E378-4DC5-81F5-0B7634D13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921d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cfa6d"/>
                </a:gs>
                <a:gs pos="100000">
                  <a:srgbClr val="309e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9a1e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cfa6d"/>
                </a:gs>
                <a:gs pos="100000">
                  <a:srgbClr val="39bc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4cfa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d029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b824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399b"/>
                </a:gs>
                <a:gs pos="100000">
                  <a:srgbClr val="ff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8a1b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4cfa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cfa6d"/>
                </a:gs>
                <a:gs pos="100000">
                  <a:srgbClr val="32a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b123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3e9e"/>
                </a:gs>
                <a:gs pos="100000">
                  <a:srgbClr val="ff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7517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821a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bc455"/>
                </a:gs>
                <a:gs pos="100000">
                  <a:srgbClr val="4cfa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45a1"/>
                </a:gs>
                <a:gs pos="100000">
                  <a:srgbClr val="ff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cf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a648"/>
                </a:gs>
                <a:gs pos="100000">
                  <a:srgbClr val="4cfa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4ad4b"/>
                </a:gs>
                <a:gs pos="100000">
                  <a:srgbClr val="4cfa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cf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a12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9a1e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d72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7b18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d7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bc455"/>
                </a:gs>
                <a:gs pos="100000">
                  <a:srgbClr val="4cfa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921d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b824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c828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99"/>
                  </a:gs>
                  <a:gs pos="100000">
                    <a:srgbClr val="b824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45a1"/>
                  </a:gs>
                  <a:gs pos="100000">
                    <a:srgbClr val="ff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03B6-BFCC-4303-9ED5-1D881B8FA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08d"/>
            </a:gs>
            <a:gs pos="100000">
              <a:srgbClr val="0066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662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663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00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00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00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0066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71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672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0066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73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674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5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6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7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8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9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0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1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2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3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4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5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6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7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8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9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0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1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2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3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4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5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6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7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9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0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1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2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3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4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5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6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7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8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9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6666"/>
                        </a:solidFill>
                        <a:ln w="9360">
                          <a:solidFill>
                            <a:srgbClr val="0066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10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711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2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3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4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5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6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7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8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9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0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1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2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23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4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5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6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7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8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9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0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1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2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3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4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5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6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7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8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9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0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1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2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3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4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5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6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7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8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9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0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1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2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3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4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5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6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7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8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759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760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62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72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773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9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780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267c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666"/>
                    </a:gs>
                    <a:gs pos="100000">
                      <a:srgbClr val="267c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666"/>
                    </a:gs>
                    <a:gs pos="100000">
                      <a:srgbClr val="267c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666"/>
                    </a:gs>
                    <a:gs pos="100000">
                      <a:srgbClr val="267c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666"/>
                    </a:gs>
                    <a:gs pos="100000">
                      <a:srgbClr val="267c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5" name="PlaceHolder 1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0CCC-D711-4889-AE91-D7788AB486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e5c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dd8db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5e2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de5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de5c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08d"/>
            </a:gs>
            <a:gs pos="100000">
              <a:srgbClr val="0066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827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828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0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831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00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00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00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0066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36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837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0066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38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839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0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2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3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4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5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6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7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8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9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0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1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2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3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4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5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6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7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8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9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1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2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3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4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5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6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7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8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9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0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1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3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4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6666"/>
                        </a:solidFill>
                        <a:ln w="9360">
                          <a:solidFill>
                            <a:srgbClr val="0066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75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876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7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8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9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0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1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2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3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4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5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6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7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66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88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9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0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1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2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3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4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5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6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7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8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9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0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1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2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3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4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5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6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7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8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9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0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1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2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3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4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5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6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7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8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9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0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1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2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3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66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24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925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928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00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7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938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44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945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267c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666"/>
                    </a:gs>
                    <a:gs pos="100000">
                      <a:srgbClr val="267c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666"/>
                    </a:gs>
                    <a:gs pos="100000">
                      <a:srgbClr val="267c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666"/>
                    </a:gs>
                    <a:gs pos="100000">
                      <a:srgbClr val="267c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666"/>
                    </a:gs>
                    <a:gs pos="100000">
                      <a:srgbClr val="267c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ade5cd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ade5cd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10C0-B556-44D7-A369-28B7395173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FD17-64EF-4C35-B504-AAE931B699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9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4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4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3AB0-CAD6-4F3C-A382-15B573E04B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9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2CD4-C44E-4DC3-B3AC-A9E383A62E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4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B8BA-110D-45FF-BA26-510E1E796B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0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1" name="PlaceHolder 1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E802-A313-4B72-A9D8-C96124A4C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5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D70C-C6A0-446A-B3A2-5397F76A0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0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42B9-406F-4B36-ABB5-9652105C8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72A8-7F0C-4B42-A979-100DF4360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6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755A-4346-4367-9A33-EC1BDDA33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DBC2-86BB-42A8-8FF7-8924746F241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9F37-D6B1-49FD-80E7-727CB9C9A38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3A51-2932-4B19-9380-7E3672944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C008-4911-423C-A0E6-CAF779FBC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1EF0-2EDE-4DE4-A992-9B4836C59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5B54-CF2C-48AE-A8D2-B9B6B81DF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921d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0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cfa6d"/>
                </a:gs>
                <a:gs pos="100000">
                  <a:srgbClr val="309e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9a1e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cfa6d"/>
                </a:gs>
                <a:gs pos="100000">
                  <a:srgbClr val="39bc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4cfa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d029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b824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399b"/>
                </a:gs>
                <a:gs pos="100000">
                  <a:srgbClr val="ff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8a1b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4cfa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cfa6d"/>
                </a:gs>
                <a:gs pos="100000">
                  <a:srgbClr val="32a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b123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3e9e"/>
                </a:gs>
                <a:gs pos="100000">
                  <a:srgbClr val="ff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7517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821a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bc455"/>
                </a:gs>
                <a:gs pos="100000">
                  <a:srgbClr val="4cfa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45a1"/>
                </a:gs>
                <a:gs pos="100000">
                  <a:srgbClr val="ff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cf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a648"/>
                </a:gs>
                <a:gs pos="100000">
                  <a:srgbClr val="4cfa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4ad4b"/>
                </a:gs>
                <a:gs pos="100000">
                  <a:srgbClr val="4cfa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cf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a12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9a1e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d72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7b18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d7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bc455"/>
                </a:gs>
                <a:gs pos="100000">
                  <a:srgbClr val="4cfa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921d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b824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c828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99"/>
                  </a:gs>
                  <a:gs pos="100000">
                    <a:srgbClr val="b824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45a1"/>
                  </a:gs>
                  <a:gs pos="100000">
                    <a:srgbClr val="ff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C448-EC69-4FC2-A487-1A505791E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2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7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1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e5cd"/>
              </a:solidFill>
              <a:latin typeface="Arial"/>
            </a:endParaRPr>
          </a:p>
        </p:txBody>
      </p:sp>
      <p:pic>
        <p:nvPicPr>
          <p:cNvPr id="1442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3898800" cy="5873760"/>
          </a:xfrm>
          <a:prstGeom prst="rect">
            <a:avLst/>
          </a:prstGeom>
          <a:ln w="0">
            <a:noFill/>
          </a:ln>
        </p:spPr>
      </p:pic>
      <p:pic>
        <p:nvPicPr>
          <p:cNvPr id="1443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381636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7" name="" descr=""/>
          <p:cNvPicPr/>
          <p:nvPr/>
        </p:nvPicPr>
        <p:blipFill>
          <a:blip r:embed="rId1"/>
          <a:stretch/>
        </p:blipFill>
        <p:spPr>
          <a:xfrm>
            <a:off x="455760" y="260280"/>
            <a:ext cx="3900240" cy="5835600"/>
          </a:xfrm>
          <a:prstGeom prst="rect">
            <a:avLst/>
          </a:prstGeom>
          <a:ln w="0">
            <a:noFill/>
          </a:ln>
        </p:spPr>
      </p:pic>
      <p:pic>
        <p:nvPicPr>
          <p:cNvPr id="1448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3970440" cy="586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d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d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2d9"/>
                </a:solidFill>
                <a:latin typeface="Arial"/>
              </a:rPr>
              <a:t>Петербург.</a:t>
            </a:r>
            <a:br>
              <a:rPr sz="4000"/>
            </a:br>
            <a:r>
              <a:rPr b="0" lang="ru-RU" sz="4000" spc="-1" strike="noStrike">
                <a:solidFill>
                  <a:srgbClr val="f3f2d9"/>
                </a:solidFill>
                <a:latin typeface="Arial"/>
              </a:rPr>
              <a:t>Невский проспект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2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455760" y="260280"/>
            <a:ext cx="3828960" cy="6048360"/>
          </a:xfrm>
          <a:prstGeom prst="rect">
            <a:avLst/>
          </a:prstGeom>
          <a:ln w="0">
            <a:noFill/>
          </a:ln>
        </p:spPr>
      </p:pic>
      <p:pic>
        <p:nvPicPr>
          <p:cNvPr id="1455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38941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7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0728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5400" y="333000"/>
            <a:ext cx="8226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0c22"/>
                </a:solidFill>
                <a:latin typeface="Tahoma"/>
              </a:rPr>
              <a:t>«Знаю, - говорил писатель, - что моё имя после меня будет счастливее меня…» И он оказался провидцем. Гоголь оказал исключительно сильное влияние на всё последующее развитие русской литературы, причём характер этого воздействия и его понимания с течением времени всё более и более углубляются.</a:t>
            </a:r>
            <a:endParaRPr b="0" lang="en-US" sz="3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2" name="" descr=""/>
          <p:cNvPicPr/>
          <p:nvPr/>
        </p:nvPicPr>
        <p:blipFill>
          <a:blip r:embed="rId1"/>
          <a:srcRect l="2272" t="0" r="0" b="0"/>
          <a:stretch/>
        </p:blipFill>
        <p:spPr>
          <a:xfrm>
            <a:off x="1835280" y="333360"/>
            <a:ext cx="5397480" cy="6121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ений всегда загад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 К 200- летию со Дня рожд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В. Гогол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«Я почитаюсь загадкой для всех, никто не разгадал меня совершенно».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(Из письма  Гоголя матери от 01.03.1828 г.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921d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0" name="" descr=""/>
          <p:cNvPicPr/>
          <p:nvPr/>
        </p:nvPicPr>
        <p:blipFill>
          <a:blip r:embed="rId1"/>
          <a:stretch/>
        </p:blipFill>
        <p:spPr>
          <a:xfrm>
            <a:off x="1979640" y="476280"/>
            <a:ext cx="504036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921d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2" name="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4753080" cy="568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34" name="" descr=""/>
          <p:cNvPicPr/>
          <p:nvPr/>
        </p:nvPicPr>
        <p:blipFill>
          <a:blip r:embed="rId2"/>
          <a:stretch/>
        </p:blipFill>
        <p:spPr>
          <a:xfrm>
            <a:off x="301680" y="692280"/>
            <a:ext cx="8663040" cy="576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Нежин.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Гимназия Высших наук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3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8064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етербург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адовая улиц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8" name="" descr=""/>
          <p:cNvPicPr/>
          <p:nvPr/>
        </p:nvPicPr>
        <p:blipFill>
          <a:blip r:embed="rId2"/>
          <a:srcRect l="1100" t="1053" r="1650" b="0"/>
          <a:stretch/>
        </p:blipFill>
        <p:spPr>
          <a:xfrm>
            <a:off x="1371600" y="2289240"/>
            <a:ext cx="6364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05:23:52Z</dcterms:created>
  <dc:creator>Сервер</dc:creator>
  <dc:description/>
  <dc:language>en-US</dc:language>
  <cp:lastModifiedBy>Сервер</cp:lastModifiedBy>
  <dcterms:modified xsi:type="dcterms:W3CDTF">2008-08-06T07:45:08Z</dcterms:modified>
  <cp:revision>28</cp:revision>
  <dc:subject/>
  <dc:title>Слайд 1</dc:title>
</cp:coreProperties>
</file>