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FD64-C465-4B8E-A626-1AAB70BB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53D1-7F04-43D1-AB26-720500D5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F0F5-E60F-41BA-96C5-702023AD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F987-65D1-43D5-B278-AF6D0907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BDC0-DCB4-4BC6-96C5-EE37F577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0F35-DA8C-47DB-9EA6-4FCC8432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4541-8D03-4CF5-B80F-45AB417D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A789-FD5C-4361-842B-CF9709D8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B836-DD8F-4E9A-B435-D06507A7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D491-8EEA-42A4-8D42-AD8F4306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ACC6-C70C-4641-8A8A-D0171F36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ECB7-D027-4C4A-B340-30E7AC85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5A99-1B1F-4ED1-8D80-B0500F0E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DA27-B237-4103-9823-77CDD273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76DC-E739-4C9A-AD3F-AB77F0F4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0E35-98A1-46A5-B7C4-B53FB235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CE79-5A2F-41E6-8575-EB6D4E29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799C-D71A-42D0-A79D-B4F56FDC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5EC0-7030-4CDF-9DF3-7449DC08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7B30-7784-411A-A892-E67AA7BD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A236-2809-47D5-85DC-7647C609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0B1E-B566-43B7-8396-CB387C7C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9C66-FEDD-40CF-ADFC-CFA93229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5D75-05D1-406E-9BEA-CE971E10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B6FA-9DA9-4E53-990D-95C22231135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A527-ED68-463E-A488-BF60D3ACCF4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0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9.xml"/><Relationship Id="rId10" Type="http://schemas.openxmlformats.org/officeDocument/2006/relationships/slide" Target="slide21.xml"/><Relationship Id="rId11" Type="http://schemas.openxmlformats.org/officeDocument/2006/relationships/slide" Target="slide22.xml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ила Обухова А.А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ница 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’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колы № 89  2007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26920" y="2349360"/>
            <a:ext cx="7561440" cy="186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9999ff"/>
                    </a:gs>
                  </a:gsLst>
                  <a:lin ang="5400000"/>
                </a:gradFill>
                <a:latin typeface="Times New Roman"/>
              </a:rPr>
              <a:t>Иррациональные уравне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ff"/>
                  </a:gs>
                  <a:gs pos="100000">
                    <a:srgbClr val="9999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Алгоритм решения иррациональных уравнений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ласть допустимых знач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вести в квадр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ить рациональное урав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ить, удовлетворяют ли корни уравнения ОДЗ (или подставить полученные корни в уравне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еять посторонние кор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250920" y="6308640"/>
            <a:ext cx="1296720" cy="333360"/>
          </a:xfrm>
          <a:custGeom>
            <a:avLst/>
            <a:gdLst>
              <a:gd name="textAreaLeft" fmla="*/ 21600 w 1296720"/>
              <a:gd name="textAreaRight" fmla="*/ 1275120 w 1296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83953" h="21600">
                <a:moveTo>
                  <a:pt x="0" y="0"/>
                </a:moveTo>
                <a:lnTo>
                  <a:pt x="83953" y="0"/>
                </a:lnTo>
                <a:lnTo>
                  <a:pt x="83953" y="21600"/>
                </a:lnTo>
                <a:lnTo>
                  <a:pt x="0" y="21600"/>
                </a:lnTo>
                <a:close/>
              </a:path>
              <a:path fill="lightenLess" w="83953" h="21600">
                <a:moveTo>
                  <a:pt x="0" y="0"/>
                </a:moveTo>
                <a:lnTo>
                  <a:pt x="83953" y="0"/>
                </a:lnTo>
                <a:lnTo>
                  <a:pt x="82553" y="1400"/>
                </a:lnTo>
                <a:lnTo>
                  <a:pt x="1400" y="1400"/>
                </a:lnTo>
                <a:close/>
              </a:path>
              <a:path fill="darken" w="83953" h="21600">
                <a:moveTo>
                  <a:pt x="83953" y="0"/>
                </a:moveTo>
                <a:lnTo>
                  <a:pt x="83953" y="21600"/>
                </a:lnTo>
                <a:lnTo>
                  <a:pt x="82553" y="20200"/>
                </a:lnTo>
                <a:lnTo>
                  <a:pt x="82553" y="1400"/>
                </a:lnTo>
                <a:close/>
              </a:path>
              <a:path fill="darkenLess" w="83953" h="21600">
                <a:moveTo>
                  <a:pt x="83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553" y="20200"/>
                </a:lnTo>
                <a:close/>
              </a:path>
              <a:path fill="lighten" w="83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гл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8028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3" name="chimes.wav"/>
      </p:stSnd>
    </p:sndAc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оверь себя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908000" y="2060640"/>
                <a:ext cx="36007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534000" y="25588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835280" y="2852640"/>
                <a:ext cx="50403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908000" y="3789360"/>
                <a:ext cx="38163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539640" y="1484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решите уравн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250920" y="6308640"/>
            <a:ext cx="1296720" cy="333360"/>
          </a:xfrm>
          <a:custGeom>
            <a:avLst/>
            <a:gdLst>
              <a:gd name="textAreaLeft" fmla="*/ 21600 w 1296720"/>
              <a:gd name="textAreaRight" fmla="*/ 1275120 w 1296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83953" h="21600">
                <a:moveTo>
                  <a:pt x="0" y="0"/>
                </a:moveTo>
                <a:lnTo>
                  <a:pt x="83953" y="0"/>
                </a:lnTo>
                <a:lnTo>
                  <a:pt x="83953" y="21600"/>
                </a:lnTo>
                <a:lnTo>
                  <a:pt x="0" y="21600"/>
                </a:lnTo>
                <a:close/>
              </a:path>
              <a:path fill="lightenLess" w="83953" h="21600">
                <a:moveTo>
                  <a:pt x="0" y="0"/>
                </a:moveTo>
                <a:lnTo>
                  <a:pt x="83953" y="0"/>
                </a:lnTo>
                <a:lnTo>
                  <a:pt x="82553" y="1400"/>
                </a:lnTo>
                <a:lnTo>
                  <a:pt x="1400" y="1400"/>
                </a:lnTo>
                <a:close/>
              </a:path>
              <a:path fill="darken" w="83953" h="21600">
                <a:moveTo>
                  <a:pt x="83953" y="0"/>
                </a:moveTo>
                <a:lnTo>
                  <a:pt x="83953" y="21600"/>
                </a:lnTo>
                <a:lnTo>
                  <a:pt x="82553" y="20200"/>
                </a:lnTo>
                <a:lnTo>
                  <a:pt x="82553" y="1400"/>
                </a:lnTo>
                <a:close/>
              </a:path>
              <a:path fill="darkenLess" w="83953" h="21600">
                <a:moveTo>
                  <a:pt x="83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553" y="20200"/>
                </a:lnTo>
                <a:close/>
              </a:path>
              <a:path fill="lighten" w="83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гл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810108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6000" y="2349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3141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36000" y="4005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3" name="chimes.wav"/>
      </p:stSnd>
    </p:sndAc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5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твет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952560" y="1599840"/>
            <a:ext cx="3200400" cy="2133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6516720" y="1700280"/>
                <a:ext cx="1224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516720" y="2205000"/>
                <a:ext cx="792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68360" y="1413000"/>
                <a:ext cx="34686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5x-16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5435640" y="17002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З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84360" y="1989000"/>
                <a:ext cx="338436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84360" y="2565360"/>
                <a:ext cx="20890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684360" y="3068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ём корни уравнения по обратной теореме Вие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755640" y="3933720"/>
                <a:ext cx="1584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826920" y="4437000"/>
                <a:ext cx="1584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2556000" y="3933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700360" y="3933720"/>
                <a:ext cx="107964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00360" y="4437000"/>
                <a:ext cx="1008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3851280" y="393372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овлетворяет ОД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51280" y="43657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овлетворяет ОД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26920" y="515772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4;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3" action="ppaction://hlinksldjump"/>
          </p:cNvPr>
          <p:cNvSpPr/>
          <p:nvPr/>
        </p:nvSpPr>
        <p:spPr>
          <a:xfrm>
            <a:off x="250920" y="6308640"/>
            <a:ext cx="1296720" cy="333360"/>
          </a:xfrm>
          <a:custGeom>
            <a:avLst/>
            <a:gdLst>
              <a:gd name="textAreaLeft" fmla="*/ 21600 w 1296720"/>
              <a:gd name="textAreaRight" fmla="*/ 1275120 w 1296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83953" h="21600">
                <a:moveTo>
                  <a:pt x="0" y="0"/>
                </a:moveTo>
                <a:lnTo>
                  <a:pt x="83953" y="0"/>
                </a:lnTo>
                <a:lnTo>
                  <a:pt x="83953" y="21600"/>
                </a:lnTo>
                <a:lnTo>
                  <a:pt x="0" y="21600"/>
                </a:lnTo>
                <a:close/>
              </a:path>
              <a:path fill="lightenLess" w="83953" h="21600">
                <a:moveTo>
                  <a:pt x="0" y="0"/>
                </a:moveTo>
                <a:lnTo>
                  <a:pt x="83953" y="0"/>
                </a:lnTo>
                <a:lnTo>
                  <a:pt x="82553" y="1400"/>
                </a:lnTo>
                <a:lnTo>
                  <a:pt x="1400" y="1400"/>
                </a:lnTo>
                <a:close/>
              </a:path>
              <a:path fill="darken" w="83953" h="21600">
                <a:moveTo>
                  <a:pt x="83953" y="0"/>
                </a:moveTo>
                <a:lnTo>
                  <a:pt x="83953" y="21600"/>
                </a:lnTo>
                <a:lnTo>
                  <a:pt x="82553" y="20200"/>
                </a:lnTo>
                <a:lnTo>
                  <a:pt x="82553" y="1400"/>
                </a:lnTo>
                <a:close/>
              </a:path>
              <a:path fill="darkenLess" w="83953" h="21600">
                <a:moveTo>
                  <a:pt x="83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553" y="20200"/>
                </a:lnTo>
                <a:close/>
              </a:path>
              <a:path fill="lighten" w="83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гл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810108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072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10800"/>
                </a:moveTo>
                <a:lnTo>
                  <a:pt x="23139" y="3794"/>
                </a:lnTo>
                <a:lnTo>
                  <a:pt x="23139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4" name="chimes.wav"/>
      </p:stSnd>
    </p:sndAc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50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71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76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81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86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91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96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1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600"/>
                            </p:stCondLst>
                            <p:childTnLst>
                              <p:par>
                                <p:cTn id="4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твет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68360" y="1413000"/>
                <a:ext cx="5398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55640" y="1844640"/>
                <a:ext cx="3673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92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826920" y="2276640"/>
                <a:ext cx="30243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6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539640" y="2781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ём корни уравнения по обратной теореме Вие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84360" y="3573360"/>
                <a:ext cx="19429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84360" y="4005360"/>
                <a:ext cx="2087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2771640" y="350028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843280" y="3500280"/>
                <a:ext cx="1441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916360" y="4005360"/>
                <a:ext cx="122400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684360" y="45086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84360" y="4941720"/>
                <a:ext cx="4032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84360" y="5373720"/>
                <a:ext cx="3382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788000" y="4941720"/>
                <a:ext cx="381636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859280" y="5373720"/>
                <a:ext cx="15843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539640" y="58053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ажение не имеет смыс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9640" y="58053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250920" y="6308640"/>
            <a:ext cx="1296720" cy="333360"/>
          </a:xfrm>
          <a:custGeom>
            <a:avLst/>
            <a:gdLst>
              <a:gd name="textAreaLeft" fmla="*/ 21600 w 1296720"/>
              <a:gd name="textAreaRight" fmla="*/ 1275120 w 1296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83953" h="21600">
                <a:moveTo>
                  <a:pt x="0" y="0"/>
                </a:moveTo>
                <a:lnTo>
                  <a:pt x="83953" y="0"/>
                </a:lnTo>
                <a:lnTo>
                  <a:pt x="83953" y="21600"/>
                </a:lnTo>
                <a:lnTo>
                  <a:pt x="0" y="21600"/>
                </a:lnTo>
                <a:close/>
              </a:path>
              <a:path fill="lightenLess" w="83953" h="21600">
                <a:moveTo>
                  <a:pt x="0" y="0"/>
                </a:moveTo>
                <a:lnTo>
                  <a:pt x="83953" y="0"/>
                </a:lnTo>
                <a:lnTo>
                  <a:pt x="82553" y="1400"/>
                </a:lnTo>
                <a:lnTo>
                  <a:pt x="1400" y="1400"/>
                </a:lnTo>
                <a:close/>
              </a:path>
              <a:path fill="darken" w="83953" h="21600">
                <a:moveTo>
                  <a:pt x="83953" y="0"/>
                </a:moveTo>
                <a:lnTo>
                  <a:pt x="83953" y="21600"/>
                </a:lnTo>
                <a:lnTo>
                  <a:pt x="82553" y="20200"/>
                </a:lnTo>
                <a:lnTo>
                  <a:pt x="82553" y="1400"/>
                </a:lnTo>
                <a:close/>
              </a:path>
              <a:path fill="darkenLess" w="83953" h="21600">
                <a:moveTo>
                  <a:pt x="83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553" y="20200"/>
                </a:lnTo>
                <a:close/>
              </a:path>
              <a:path fill="lighten" w="83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гл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810108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0072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10800"/>
                </a:moveTo>
                <a:lnTo>
                  <a:pt x="23139" y="3794"/>
                </a:lnTo>
                <a:lnTo>
                  <a:pt x="23139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3" name="chimes.wav"/>
      </p:stSnd>
    </p:sndAc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1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6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1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6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1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9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4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9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40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45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твет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755640" y="1773360"/>
                <a:ext cx="51847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755640" y="2349360"/>
                <a:ext cx="38876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755640" y="2852640"/>
                <a:ext cx="37450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68360" y="1413000"/>
                <a:ext cx="3311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55640" y="3357720"/>
                <a:ext cx="28796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 </m:t>
                    </m:r>
                    <m:r>
                      <m:t xml:space="preserve">|</m:t>
                    </m:r>
                    <m:r>
                      <m:t xml:space="preserve">÷</m:t>
                    </m:r>
                    <m:r>
                      <m:t xml:space="preserve">2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55640" y="3860640"/>
                <a:ext cx="26640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↑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55640" y="4365720"/>
                <a:ext cx="28796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755640" y="4797360"/>
                <a:ext cx="35290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755640" y="5300640"/>
                <a:ext cx="33116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|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826920" y="5805360"/>
                <a:ext cx="2160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" name="">
            <a:hlinkClick r:id="rId2" action="ppaction://hlinksldjump"/>
          </p:cNvPr>
          <p:cNvSpPr/>
          <p:nvPr/>
        </p:nvSpPr>
        <p:spPr>
          <a:xfrm>
            <a:off x="250920" y="6308640"/>
            <a:ext cx="1296720" cy="333360"/>
          </a:xfrm>
          <a:custGeom>
            <a:avLst/>
            <a:gdLst>
              <a:gd name="textAreaLeft" fmla="*/ 21600 w 1296720"/>
              <a:gd name="textAreaRight" fmla="*/ 1275120 w 1296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83953" h="21600">
                <a:moveTo>
                  <a:pt x="0" y="0"/>
                </a:moveTo>
                <a:lnTo>
                  <a:pt x="83953" y="0"/>
                </a:lnTo>
                <a:lnTo>
                  <a:pt x="83953" y="21600"/>
                </a:lnTo>
                <a:lnTo>
                  <a:pt x="0" y="21600"/>
                </a:lnTo>
                <a:close/>
              </a:path>
              <a:path fill="lightenLess" w="83953" h="21600">
                <a:moveTo>
                  <a:pt x="0" y="0"/>
                </a:moveTo>
                <a:lnTo>
                  <a:pt x="83953" y="0"/>
                </a:lnTo>
                <a:lnTo>
                  <a:pt x="82553" y="1400"/>
                </a:lnTo>
                <a:lnTo>
                  <a:pt x="1400" y="1400"/>
                </a:lnTo>
                <a:close/>
              </a:path>
              <a:path fill="darken" w="83953" h="21600">
                <a:moveTo>
                  <a:pt x="83953" y="0"/>
                </a:moveTo>
                <a:lnTo>
                  <a:pt x="83953" y="21600"/>
                </a:lnTo>
                <a:lnTo>
                  <a:pt x="82553" y="20200"/>
                </a:lnTo>
                <a:lnTo>
                  <a:pt x="82553" y="1400"/>
                </a:lnTo>
                <a:close/>
              </a:path>
              <a:path fill="darkenLess" w="83953" h="21600">
                <a:moveTo>
                  <a:pt x="83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553" y="20200"/>
                </a:lnTo>
                <a:close/>
              </a:path>
              <a:path fill="lighten" w="83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гл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10108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0072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10800"/>
                </a:moveTo>
                <a:lnTo>
                  <a:pt x="23139" y="3794"/>
                </a:lnTo>
                <a:lnTo>
                  <a:pt x="23139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3" name="chimes.wav"/>
      </p:stSnd>
    </p:sndAc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тветы (продолжение)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84360" y="2205000"/>
                <a:ext cx="16556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684360" y="2637000"/>
                <a:ext cx="180000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627280" y="2133720"/>
                <a:ext cx="12240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39640" y="148428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ём корни уравнения по обратной теореме Вие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56000" y="2133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627280" y="2637000"/>
                <a:ext cx="1224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611280" y="3141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539640" y="3573360"/>
                <a:ext cx="31672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611280" y="4005360"/>
                <a:ext cx="20890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539640" y="4508640"/>
            <a:ext cx="395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8360" y="443700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авнение не имеет смыс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932360" y="3573360"/>
                <a:ext cx="33116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003640" y="4005360"/>
                <a:ext cx="17290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539640" y="508464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2" action="ppaction://hlinksldjump"/>
          </p:cNvPr>
          <p:cNvSpPr/>
          <p:nvPr/>
        </p:nvSpPr>
        <p:spPr>
          <a:xfrm>
            <a:off x="250920" y="6308640"/>
            <a:ext cx="1296720" cy="333360"/>
          </a:xfrm>
          <a:custGeom>
            <a:avLst/>
            <a:gdLst>
              <a:gd name="textAreaLeft" fmla="*/ 21600 w 1296720"/>
              <a:gd name="textAreaRight" fmla="*/ 1275120 w 1296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83953" h="21600">
                <a:moveTo>
                  <a:pt x="0" y="0"/>
                </a:moveTo>
                <a:lnTo>
                  <a:pt x="83953" y="0"/>
                </a:lnTo>
                <a:lnTo>
                  <a:pt x="83953" y="21600"/>
                </a:lnTo>
                <a:lnTo>
                  <a:pt x="0" y="21600"/>
                </a:lnTo>
                <a:close/>
              </a:path>
              <a:path fill="lightenLess" w="83953" h="21600">
                <a:moveTo>
                  <a:pt x="0" y="0"/>
                </a:moveTo>
                <a:lnTo>
                  <a:pt x="83953" y="0"/>
                </a:lnTo>
                <a:lnTo>
                  <a:pt x="82553" y="1400"/>
                </a:lnTo>
                <a:lnTo>
                  <a:pt x="1400" y="1400"/>
                </a:lnTo>
                <a:close/>
              </a:path>
              <a:path fill="darken" w="83953" h="21600">
                <a:moveTo>
                  <a:pt x="83953" y="0"/>
                </a:moveTo>
                <a:lnTo>
                  <a:pt x="83953" y="21600"/>
                </a:lnTo>
                <a:lnTo>
                  <a:pt x="82553" y="20200"/>
                </a:lnTo>
                <a:lnTo>
                  <a:pt x="82553" y="1400"/>
                </a:lnTo>
                <a:close/>
              </a:path>
              <a:path fill="darkenLess" w="83953" h="21600">
                <a:moveTo>
                  <a:pt x="83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553" y="20200"/>
                </a:lnTo>
                <a:close/>
              </a:path>
              <a:path fill="lighten" w="83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гл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810108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0072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10800"/>
                </a:moveTo>
                <a:lnTo>
                  <a:pt x="23139" y="3794"/>
                </a:lnTo>
                <a:lnTo>
                  <a:pt x="23139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3" name="chimes.wav"/>
      </p:stSnd>
    </p:sndAc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46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1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6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61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66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71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80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85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90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6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11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1600"/>
                            </p:stCondLst>
                            <p:childTnLst>
                              <p:par>
                                <p:cTn id="6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Метод подбора 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(метод пристального взгляда)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8497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мма двух монотонно возрастающих функ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функция монотонно возрастающая на области определения, то функция принимает каждое своё значение один раз, значит других корней уравнение не име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700360" y="2781360"/>
                <a:ext cx="374472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64" name="">
            <a:hlinkClick r:id="rId2" action="ppaction://hlinksldjump"/>
          </p:cNvPr>
          <p:cNvSpPr/>
          <p:nvPr/>
        </p:nvSpPr>
        <p:spPr>
          <a:xfrm>
            <a:off x="250920" y="6308640"/>
            <a:ext cx="1296720" cy="333360"/>
          </a:xfrm>
          <a:custGeom>
            <a:avLst/>
            <a:gdLst>
              <a:gd name="textAreaLeft" fmla="*/ 21600 w 1296720"/>
              <a:gd name="textAreaRight" fmla="*/ 1275120 w 1296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83953" h="21600">
                <a:moveTo>
                  <a:pt x="0" y="0"/>
                </a:moveTo>
                <a:lnTo>
                  <a:pt x="83953" y="0"/>
                </a:lnTo>
                <a:lnTo>
                  <a:pt x="83953" y="21600"/>
                </a:lnTo>
                <a:lnTo>
                  <a:pt x="0" y="21600"/>
                </a:lnTo>
                <a:close/>
              </a:path>
              <a:path fill="lightenLess" w="83953" h="21600">
                <a:moveTo>
                  <a:pt x="0" y="0"/>
                </a:moveTo>
                <a:lnTo>
                  <a:pt x="83953" y="0"/>
                </a:lnTo>
                <a:lnTo>
                  <a:pt x="82553" y="1400"/>
                </a:lnTo>
                <a:lnTo>
                  <a:pt x="1400" y="1400"/>
                </a:lnTo>
                <a:close/>
              </a:path>
              <a:path fill="darken" w="83953" h="21600">
                <a:moveTo>
                  <a:pt x="83953" y="0"/>
                </a:moveTo>
                <a:lnTo>
                  <a:pt x="83953" y="21600"/>
                </a:lnTo>
                <a:lnTo>
                  <a:pt x="82553" y="20200"/>
                </a:lnTo>
                <a:lnTo>
                  <a:pt x="82553" y="1400"/>
                </a:lnTo>
                <a:close/>
              </a:path>
              <a:path fill="darkenLess" w="83953" h="21600">
                <a:moveTo>
                  <a:pt x="83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553" y="20200"/>
                </a:lnTo>
                <a:close/>
              </a:path>
              <a:path fill="lighten" w="83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гл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8028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1413000"/>
            <a:ext cx="87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9640" y="1341360"/>
            <a:ext cx="86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авнение 3 решено путем двукратного возведения  в квадрат. Познакомимся с другим методом его реш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4360" y="515772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9640" y="5661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3" name="chimes.wav"/>
      </p:stSnd>
    </p:sndAc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61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66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02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7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Алгоритм решения методом подбора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Доказать, что других корней нет, или доказать, что их несколь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1280" y="270828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Угадать (подобрать) один или     несколько корней уравн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2" action="ppaction://hlinksldjump"/>
          </p:cNvPr>
          <p:cNvSpPr/>
          <p:nvPr/>
        </p:nvSpPr>
        <p:spPr>
          <a:xfrm>
            <a:off x="250920" y="6308640"/>
            <a:ext cx="1296720" cy="333360"/>
          </a:xfrm>
          <a:custGeom>
            <a:avLst/>
            <a:gdLst>
              <a:gd name="textAreaLeft" fmla="*/ 21600 w 1296720"/>
              <a:gd name="textAreaRight" fmla="*/ 1275120 w 1296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83953" h="21600">
                <a:moveTo>
                  <a:pt x="0" y="0"/>
                </a:moveTo>
                <a:lnTo>
                  <a:pt x="83953" y="0"/>
                </a:lnTo>
                <a:lnTo>
                  <a:pt x="83953" y="21600"/>
                </a:lnTo>
                <a:lnTo>
                  <a:pt x="0" y="21600"/>
                </a:lnTo>
                <a:close/>
              </a:path>
              <a:path fill="lightenLess" w="83953" h="21600">
                <a:moveTo>
                  <a:pt x="0" y="0"/>
                </a:moveTo>
                <a:lnTo>
                  <a:pt x="83953" y="0"/>
                </a:lnTo>
                <a:lnTo>
                  <a:pt x="82553" y="1400"/>
                </a:lnTo>
                <a:lnTo>
                  <a:pt x="1400" y="1400"/>
                </a:lnTo>
                <a:close/>
              </a:path>
              <a:path fill="darken" w="83953" h="21600">
                <a:moveTo>
                  <a:pt x="83953" y="0"/>
                </a:moveTo>
                <a:lnTo>
                  <a:pt x="83953" y="21600"/>
                </a:lnTo>
                <a:lnTo>
                  <a:pt x="82553" y="20200"/>
                </a:lnTo>
                <a:lnTo>
                  <a:pt x="82553" y="1400"/>
                </a:lnTo>
                <a:close/>
              </a:path>
              <a:path fill="darkenLess" w="83953" h="21600">
                <a:moveTo>
                  <a:pt x="83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553" y="20200"/>
                </a:lnTo>
                <a:close/>
              </a:path>
              <a:path fill="lighten" w="83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гл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8028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3" name="chimes.wav"/>
      </p:stSnd>
    </p:sndAc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500"/>
                            </p:stCondLst>
                            <p:childTnLst>
                              <p:par>
                                <p:cTn id="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имеры на метод подбора: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11280" y="2216160"/>
                <a:ext cx="51847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611280" y="3213000"/>
                <a:ext cx="52560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539640" y="1484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ешите уравн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96000" y="2492280"/>
            <a:ext cx="28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796000" y="2565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ение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96000" y="3500280"/>
            <a:ext cx="287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ение (уравнение не имеет корней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>
            <a:hlinkClick r:id="rId2" action="ppaction://hlinksldjump"/>
          </p:cNvPr>
          <p:cNvSpPr/>
          <p:nvPr/>
        </p:nvSpPr>
        <p:spPr>
          <a:xfrm>
            <a:off x="250920" y="6308640"/>
            <a:ext cx="1296720" cy="333360"/>
          </a:xfrm>
          <a:custGeom>
            <a:avLst/>
            <a:gdLst>
              <a:gd name="textAreaLeft" fmla="*/ 21600 w 1296720"/>
              <a:gd name="textAreaRight" fmla="*/ 1275120 w 1296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83953" h="21600">
                <a:moveTo>
                  <a:pt x="0" y="0"/>
                </a:moveTo>
                <a:lnTo>
                  <a:pt x="83953" y="0"/>
                </a:lnTo>
                <a:lnTo>
                  <a:pt x="83953" y="21600"/>
                </a:lnTo>
                <a:lnTo>
                  <a:pt x="0" y="21600"/>
                </a:lnTo>
                <a:close/>
              </a:path>
              <a:path fill="lightenLess" w="83953" h="21600">
                <a:moveTo>
                  <a:pt x="0" y="0"/>
                </a:moveTo>
                <a:lnTo>
                  <a:pt x="83953" y="0"/>
                </a:lnTo>
                <a:lnTo>
                  <a:pt x="82553" y="1400"/>
                </a:lnTo>
                <a:lnTo>
                  <a:pt x="1400" y="1400"/>
                </a:lnTo>
                <a:close/>
              </a:path>
              <a:path fill="darken" w="83953" h="21600">
                <a:moveTo>
                  <a:pt x="83953" y="0"/>
                </a:moveTo>
                <a:lnTo>
                  <a:pt x="83953" y="21600"/>
                </a:lnTo>
                <a:lnTo>
                  <a:pt x="82553" y="20200"/>
                </a:lnTo>
                <a:lnTo>
                  <a:pt x="82553" y="1400"/>
                </a:lnTo>
                <a:close/>
              </a:path>
              <a:path fill="darkenLess" w="83953" h="21600">
                <a:moveTo>
                  <a:pt x="83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553" y="20200"/>
                </a:lnTo>
                <a:close/>
              </a:path>
              <a:path fill="lighten" w="83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гл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8028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3" name="chimes.wav"/>
      </p:stSnd>
    </p:sndAc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2000"/>
                            </p:stCondLst>
                            <p:childTnLst>
                              <p:par>
                                <p:cTn id="7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250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пределение равносильных уравнений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139240" cy="2521080"/>
          </a:xfrm>
          <a:prstGeom prst="rect">
            <a:avLst/>
          </a:prstGeom>
          <a:noFill/>
          <a:ln w="38160">
            <a:solidFill>
              <a:srgbClr val="00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 уравнен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g(x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(x)=s(x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вносильными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они имеют одинаковые корни (или, в частности, если оба уравнения не имеют корне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3789360"/>
            <a:ext cx="820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ычно при решении уравнения стараются заменить данное уравнение более простым, но равносильным ему. Такую замену называю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вносильным преобразованием уравн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rId2" action="ppaction://hlinksldjump"/>
          </p:cNvPr>
          <p:cNvSpPr/>
          <p:nvPr/>
        </p:nvSpPr>
        <p:spPr>
          <a:xfrm>
            <a:off x="250920" y="6308640"/>
            <a:ext cx="1296720" cy="333360"/>
          </a:xfrm>
          <a:custGeom>
            <a:avLst/>
            <a:gdLst>
              <a:gd name="textAreaLeft" fmla="*/ 21600 w 1296720"/>
              <a:gd name="textAreaRight" fmla="*/ 1275120 w 1296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83953" h="21600">
                <a:moveTo>
                  <a:pt x="0" y="0"/>
                </a:moveTo>
                <a:lnTo>
                  <a:pt x="83953" y="0"/>
                </a:lnTo>
                <a:lnTo>
                  <a:pt x="83953" y="21600"/>
                </a:lnTo>
                <a:lnTo>
                  <a:pt x="0" y="21600"/>
                </a:lnTo>
                <a:close/>
              </a:path>
              <a:path fill="lightenLess" w="83953" h="21600">
                <a:moveTo>
                  <a:pt x="0" y="0"/>
                </a:moveTo>
                <a:lnTo>
                  <a:pt x="83953" y="0"/>
                </a:lnTo>
                <a:lnTo>
                  <a:pt x="82553" y="1400"/>
                </a:lnTo>
                <a:lnTo>
                  <a:pt x="1400" y="1400"/>
                </a:lnTo>
                <a:close/>
              </a:path>
              <a:path fill="darken" w="83953" h="21600">
                <a:moveTo>
                  <a:pt x="83953" y="0"/>
                </a:moveTo>
                <a:lnTo>
                  <a:pt x="83953" y="21600"/>
                </a:lnTo>
                <a:lnTo>
                  <a:pt x="82553" y="20200"/>
                </a:lnTo>
                <a:lnTo>
                  <a:pt x="82553" y="1400"/>
                </a:lnTo>
                <a:close/>
              </a:path>
              <a:path fill="darkenLess" w="83953" h="21600">
                <a:moveTo>
                  <a:pt x="83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553" y="20200"/>
                </a:lnTo>
                <a:close/>
              </a:path>
              <a:path fill="lighten" w="83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гл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810108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3" name="chimes.wav"/>
      </p:stSnd>
    </p:sndAc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главле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27116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Основной метод решения иррациональных урав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Посторонний корень иррационального у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Способы обнаружения постороннего кор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Алгоритм решения иррациональных урав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5440" y="3733920"/>
            <a:ext cx="79246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Метод подбора _x000b_(метод пристального взгляд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Алгоритм решения методом подбо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Определение равносильных уравн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Равносильные преобразования уравн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Неравносильные преобразования урав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endshow"/>
          </p:cNvPr>
          <p:cNvSpPr/>
          <p:nvPr/>
        </p:nvSpPr>
        <p:spPr>
          <a:xfrm>
            <a:off x="7524720" y="6308640"/>
            <a:ext cx="1366920" cy="389160"/>
          </a:xfrm>
          <a:custGeom>
            <a:avLst/>
            <a:gdLst>
              <a:gd name="textAreaLeft" fmla="*/ 25200 w 1366920"/>
              <a:gd name="textAreaRight" fmla="*/ 1341720 w 1366920"/>
              <a:gd name="textAreaTop" fmla="*/ 25200 h 389160"/>
              <a:gd name="textAreaBottom" fmla="*/ 363960 h 389160"/>
            </a:gdLst>
            <a:ahLst/>
            <a:rect l="textAreaLeft" t="textAreaTop" r="textAreaRight" b="textAreaBottom"/>
            <a:pathLst>
              <a:path w="75820" h="21600">
                <a:moveTo>
                  <a:pt x="0" y="0"/>
                </a:moveTo>
                <a:lnTo>
                  <a:pt x="75820" y="0"/>
                </a:lnTo>
                <a:lnTo>
                  <a:pt x="75820" y="21600"/>
                </a:lnTo>
                <a:lnTo>
                  <a:pt x="0" y="21600"/>
                </a:lnTo>
                <a:close/>
              </a:path>
              <a:path fill="lightenLess" w="75820" h="21600">
                <a:moveTo>
                  <a:pt x="0" y="0"/>
                </a:moveTo>
                <a:lnTo>
                  <a:pt x="75820" y="0"/>
                </a:lnTo>
                <a:lnTo>
                  <a:pt x="74420" y="1400"/>
                </a:lnTo>
                <a:lnTo>
                  <a:pt x="1400" y="1400"/>
                </a:lnTo>
                <a:close/>
              </a:path>
              <a:path fill="darken" w="75820" h="21600">
                <a:moveTo>
                  <a:pt x="75820" y="0"/>
                </a:moveTo>
                <a:lnTo>
                  <a:pt x="75820" y="21600"/>
                </a:lnTo>
                <a:lnTo>
                  <a:pt x="74420" y="20200"/>
                </a:lnTo>
                <a:lnTo>
                  <a:pt x="74420" y="1400"/>
                </a:lnTo>
                <a:close/>
              </a:path>
              <a:path fill="darkenLess" w="75820" h="21600">
                <a:moveTo>
                  <a:pt x="75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420" y="20200"/>
                </a:lnTo>
                <a:close/>
              </a:path>
              <a:path fill="lighten" w="75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12" name="chimes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Равносильные преобразования уравнений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нос членов уравнения из одной части уравнения в другую с противоположным знаком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+ 5 = 7x – 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 уравнения равносиль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-7x = - 8 – 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905440" y="2514600"/>
                <a:ext cx="137160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3708360" y="3789360"/>
            <a:ext cx="71640" cy="1081080"/>
          </a:xfrm>
          <a:custGeom>
            <a:avLst/>
            <a:gdLst>
              <a:gd name="textAreaLeft" fmla="*/ 0 w 71640"/>
              <a:gd name="textAreaRight" fmla="*/ 25920 w 7164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rId2" action="ppaction://hlinksldjump"/>
          </p:cNvPr>
          <p:cNvSpPr/>
          <p:nvPr/>
        </p:nvSpPr>
        <p:spPr>
          <a:xfrm>
            <a:off x="250920" y="6308640"/>
            <a:ext cx="1296720" cy="333360"/>
          </a:xfrm>
          <a:custGeom>
            <a:avLst/>
            <a:gdLst>
              <a:gd name="textAreaLeft" fmla="*/ 21600 w 1296720"/>
              <a:gd name="textAreaRight" fmla="*/ 1275120 w 1296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83953" h="21600">
                <a:moveTo>
                  <a:pt x="0" y="0"/>
                </a:moveTo>
                <a:lnTo>
                  <a:pt x="83953" y="0"/>
                </a:lnTo>
                <a:lnTo>
                  <a:pt x="83953" y="21600"/>
                </a:lnTo>
                <a:lnTo>
                  <a:pt x="0" y="21600"/>
                </a:lnTo>
                <a:close/>
              </a:path>
              <a:path fill="lightenLess" w="83953" h="21600">
                <a:moveTo>
                  <a:pt x="0" y="0"/>
                </a:moveTo>
                <a:lnTo>
                  <a:pt x="83953" y="0"/>
                </a:lnTo>
                <a:lnTo>
                  <a:pt x="82553" y="1400"/>
                </a:lnTo>
                <a:lnTo>
                  <a:pt x="1400" y="1400"/>
                </a:lnTo>
                <a:close/>
              </a:path>
              <a:path fill="darken" w="83953" h="21600">
                <a:moveTo>
                  <a:pt x="83953" y="0"/>
                </a:moveTo>
                <a:lnTo>
                  <a:pt x="83953" y="21600"/>
                </a:lnTo>
                <a:lnTo>
                  <a:pt x="82553" y="20200"/>
                </a:lnTo>
                <a:lnTo>
                  <a:pt x="82553" y="1400"/>
                </a:lnTo>
                <a:close/>
              </a:path>
              <a:path fill="darkenLess" w="83953" h="21600">
                <a:moveTo>
                  <a:pt x="83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553" y="20200"/>
                </a:lnTo>
                <a:close/>
              </a:path>
              <a:path fill="lighten" w="83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гл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810108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3" name="chimes.wav"/>
      </p:stSnd>
    </p:sndAc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35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Равносильные преобразования уравнений (продолжение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066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множение или деление обеих частей уравнения на одно и то же отличное от нуля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116000" y="3141720"/>
                <a:ext cx="381636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0,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187280" y="3860640"/>
                <a:ext cx="35290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">
            <a:hlinkClick r:id="rId2" action="ppaction://hlinksldjump"/>
          </p:cNvPr>
          <p:cNvSpPr/>
          <p:nvPr/>
        </p:nvSpPr>
        <p:spPr>
          <a:xfrm>
            <a:off x="250920" y="6308640"/>
            <a:ext cx="1296720" cy="333360"/>
          </a:xfrm>
          <a:custGeom>
            <a:avLst/>
            <a:gdLst>
              <a:gd name="textAreaLeft" fmla="*/ 21600 w 1296720"/>
              <a:gd name="textAreaRight" fmla="*/ 1275120 w 1296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83953" h="21600">
                <a:moveTo>
                  <a:pt x="0" y="0"/>
                </a:moveTo>
                <a:lnTo>
                  <a:pt x="83953" y="0"/>
                </a:lnTo>
                <a:lnTo>
                  <a:pt x="83953" y="21600"/>
                </a:lnTo>
                <a:lnTo>
                  <a:pt x="0" y="21600"/>
                </a:lnTo>
                <a:close/>
              </a:path>
              <a:path fill="lightenLess" w="83953" h="21600">
                <a:moveTo>
                  <a:pt x="0" y="0"/>
                </a:moveTo>
                <a:lnTo>
                  <a:pt x="83953" y="0"/>
                </a:lnTo>
                <a:lnTo>
                  <a:pt x="82553" y="1400"/>
                </a:lnTo>
                <a:lnTo>
                  <a:pt x="1400" y="1400"/>
                </a:lnTo>
                <a:close/>
              </a:path>
              <a:path fill="darken" w="83953" h="21600">
                <a:moveTo>
                  <a:pt x="83953" y="0"/>
                </a:moveTo>
                <a:lnTo>
                  <a:pt x="83953" y="21600"/>
                </a:lnTo>
                <a:lnTo>
                  <a:pt x="82553" y="20200"/>
                </a:lnTo>
                <a:lnTo>
                  <a:pt x="82553" y="1400"/>
                </a:lnTo>
                <a:close/>
              </a:path>
              <a:path fill="darkenLess" w="83953" h="21600">
                <a:moveTo>
                  <a:pt x="83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553" y="20200"/>
                </a:lnTo>
                <a:close/>
              </a:path>
              <a:path fill="lighten" w="83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гл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810108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3" name="chimes.wav"/>
      </p:stSnd>
    </p:sndAc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000"/>
                            </p:stCondLst>
                            <p:childTnLst>
                              <p:par>
                                <p:cTn id="8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Неравносильные преобразования уравнен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свобождение от знаменателей, содержащих пе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.к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ет два корня -2; и 2. Посторонний корень –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556000" y="2637000"/>
                <a:ext cx="2233440" cy="12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468360" y="49417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озведение обеих частей уравнения в квадра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rId2" action="ppaction://hlinksldjump"/>
          </p:cNvPr>
          <p:cNvSpPr/>
          <p:nvPr/>
        </p:nvSpPr>
        <p:spPr>
          <a:xfrm>
            <a:off x="250920" y="6308640"/>
            <a:ext cx="1296720" cy="333360"/>
          </a:xfrm>
          <a:custGeom>
            <a:avLst/>
            <a:gdLst>
              <a:gd name="textAreaLeft" fmla="*/ 21600 w 1296720"/>
              <a:gd name="textAreaRight" fmla="*/ 1275120 w 1296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83953" h="21600">
                <a:moveTo>
                  <a:pt x="0" y="0"/>
                </a:moveTo>
                <a:lnTo>
                  <a:pt x="83953" y="0"/>
                </a:lnTo>
                <a:lnTo>
                  <a:pt x="83953" y="21600"/>
                </a:lnTo>
                <a:lnTo>
                  <a:pt x="0" y="21600"/>
                </a:lnTo>
                <a:close/>
              </a:path>
              <a:path fill="lightenLess" w="83953" h="21600">
                <a:moveTo>
                  <a:pt x="0" y="0"/>
                </a:moveTo>
                <a:lnTo>
                  <a:pt x="83953" y="0"/>
                </a:lnTo>
                <a:lnTo>
                  <a:pt x="82553" y="1400"/>
                </a:lnTo>
                <a:lnTo>
                  <a:pt x="1400" y="1400"/>
                </a:lnTo>
                <a:close/>
              </a:path>
              <a:path fill="darken" w="83953" h="21600">
                <a:moveTo>
                  <a:pt x="83953" y="0"/>
                </a:moveTo>
                <a:lnTo>
                  <a:pt x="83953" y="21600"/>
                </a:lnTo>
                <a:lnTo>
                  <a:pt x="82553" y="20200"/>
                </a:lnTo>
                <a:lnTo>
                  <a:pt x="82553" y="1400"/>
                </a:lnTo>
                <a:close/>
              </a:path>
              <a:path fill="darkenLess" w="83953" h="21600">
                <a:moveTo>
                  <a:pt x="83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553" y="20200"/>
                </a:lnTo>
                <a:close/>
              </a:path>
              <a:path fill="lighten" w="83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гл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>
            <a:hlinkClick r:id="" action="ppaction://hlinkshowjump?jump=endshow"/>
          </p:cNvPr>
          <p:cNvSpPr/>
          <p:nvPr/>
        </p:nvSpPr>
        <p:spPr>
          <a:xfrm>
            <a:off x="7885080" y="6308640"/>
            <a:ext cx="1006560" cy="289080"/>
          </a:xfrm>
          <a:custGeom>
            <a:avLst/>
            <a:gdLst>
              <a:gd name="textAreaLeft" fmla="*/ 18720 w 1006560"/>
              <a:gd name="textAreaRight" fmla="*/ 987840 w 10065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75143" h="21600">
                <a:moveTo>
                  <a:pt x="0" y="0"/>
                </a:moveTo>
                <a:lnTo>
                  <a:pt x="75143" y="0"/>
                </a:lnTo>
                <a:lnTo>
                  <a:pt x="75143" y="21600"/>
                </a:lnTo>
                <a:lnTo>
                  <a:pt x="0" y="21600"/>
                </a:lnTo>
                <a:close/>
              </a:path>
              <a:path fill="lightenLess" w="75143" h="21600">
                <a:moveTo>
                  <a:pt x="0" y="0"/>
                </a:moveTo>
                <a:lnTo>
                  <a:pt x="75143" y="0"/>
                </a:lnTo>
                <a:lnTo>
                  <a:pt x="73743" y="1400"/>
                </a:lnTo>
                <a:lnTo>
                  <a:pt x="1400" y="1400"/>
                </a:lnTo>
                <a:close/>
              </a:path>
              <a:path fill="darken" w="75143" h="21600">
                <a:moveTo>
                  <a:pt x="75143" y="0"/>
                </a:moveTo>
                <a:lnTo>
                  <a:pt x="75143" y="21600"/>
                </a:lnTo>
                <a:lnTo>
                  <a:pt x="73743" y="20200"/>
                </a:lnTo>
                <a:lnTo>
                  <a:pt x="73743" y="1400"/>
                </a:lnTo>
                <a:close/>
              </a:path>
              <a:path fill="darkenLess" w="75143" h="21600">
                <a:moveTo>
                  <a:pt x="7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743" y="20200"/>
                </a:lnTo>
                <a:close/>
              </a:path>
              <a:path fill="lighten" w="7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ых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" action="ppaction://hlinkshowjump?jump=previousslide"/>
          </p:cNvPr>
          <p:cNvSpPr/>
          <p:nvPr/>
        </p:nvSpPr>
        <p:spPr>
          <a:xfrm>
            <a:off x="709308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3" name="chimes.wav"/>
      </p:stSnd>
    </p:sndAc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Определение </a:t>
            </a:r>
            <a:br>
              <a:rPr sz="3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37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Иррациональное уравнение</a:t>
            </a: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уравнение, в котором содержится переменная под знаком квадратного кор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987640" y="4221000"/>
                <a:ext cx="280044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250920" y="6308640"/>
            <a:ext cx="1296720" cy="333360"/>
          </a:xfrm>
          <a:custGeom>
            <a:avLst/>
            <a:gdLst>
              <a:gd name="textAreaLeft" fmla="*/ 21600 w 1296720"/>
              <a:gd name="textAreaRight" fmla="*/ 1275120 w 1296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83953" h="21600">
                <a:moveTo>
                  <a:pt x="0" y="0"/>
                </a:moveTo>
                <a:lnTo>
                  <a:pt x="83953" y="0"/>
                </a:lnTo>
                <a:lnTo>
                  <a:pt x="83953" y="21600"/>
                </a:lnTo>
                <a:lnTo>
                  <a:pt x="0" y="21600"/>
                </a:lnTo>
                <a:close/>
              </a:path>
              <a:path fill="lightenLess" w="83953" h="21600">
                <a:moveTo>
                  <a:pt x="0" y="0"/>
                </a:moveTo>
                <a:lnTo>
                  <a:pt x="83953" y="0"/>
                </a:lnTo>
                <a:lnTo>
                  <a:pt x="82553" y="1400"/>
                </a:lnTo>
                <a:lnTo>
                  <a:pt x="1400" y="1400"/>
                </a:lnTo>
                <a:close/>
              </a:path>
              <a:path fill="darken" w="83953" h="21600">
                <a:moveTo>
                  <a:pt x="83953" y="0"/>
                </a:moveTo>
                <a:lnTo>
                  <a:pt x="83953" y="21600"/>
                </a:lnTo>
                <a:lnTo>
                  <a:pt x="82553" y="20200"/>
                </a:lnTo>
                <a:lnTo>
                  <a:pt x="82553" y="1400"/>
                </a:lnTo>
                <a:close/>
              </a:path>
              <a:path fill="darkenLess" w="83953" h="21600">
                <a:moveTo>
                  <a:pt x="83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553" y="20200"/>
                </a:lnTo>
                <a:close/>
              </a:path>
              <a:path fill="lighten" w="83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гл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028000" y="638172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3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940"/>
                            </p:stCondLst>
                            <p:childTnLst>
                              <p:par>
                                <p:cTn id="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640"/>
                            </p:stCondLst>
                            <p:childTnLst>
                              <p:par>
                                <p:cTn id="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240"/>
                            </p:stCondLst>
                            <p:childTnLst>
                              <p:par>
                                <p:cTn id="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155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1155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115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115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Основной метод решения иррациональных уравнений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94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это метод возведения в квадрат обеих частей уравн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908000" y="2492280"/>
                <a:ext cx="39592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908000" y="3213000"/>
                <a:ext cx="32004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908000" y="3860640"/>
                <a:ext cx="338472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908000" y="4437000"/>
                <a:ext cx="22338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908000" y="5013360"/>
                <a:ext cx="1224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250920" y="6308640"/>
            <a:ext cx="1296720" cy="333360"/>
          </a:xfrm>
          <a:custGeom>
            <a:avLst/>
            <a:gdLst>
              <a:gd name="textAreaLeft" fmla="*/ 21600 w 1296720"/>
              <a:gd name="textAreaRight" fmla="*/ 1275120 w 1296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83953" h="21600">
                <a:moveTo>
                  <a:pt x="0" y="0"/>
                </a:moveTo>
                <a:lnTo>
                  <a:pt x="83953" y="0"/>
                </a:lnTo>
                <a:lnTo>
                  <a:pt x="83953" y="21600"/>
                </a:lnTo>
                <a:lnTo>
                  <a:pt x="0" y="21600"/>
                </a:lnTo>
                <a:close/>
              </a:path>
              <a:path fill="lightenLess" w="83953" h="21600">
                <a:moveTo>
                  <a:pt x="0" y="0"/>
                </a:moveTo>
                <a:lnTo>
                  <a:pt x="83953" y="0"/>
                </a:lnTo>
                <a:lnTo>
                  <a:pt x="82553" y="1400"/>
                </a:lnTo>
                <a:lnTo>
                  <a:pt x="1400" y="1400"/>
                </a:lnTo>
                <a:close/>
              </a:path>
              <a:path fill="darken" w="83953" h="21600">
                <a:moveTo>
                  <a:pt x="83953" y="0"/>
                </a:moveTo>
                <a:lnTo>
                  <a:pt x="83953" y="21600"/>
                </a:lnTo>
                <a:lnTo>
                  <a:pt x="82553" y="20200"/>
                </a:lnTo>
                <a:lnTo>
                  <a:pt x="82553" y="1400"/>
                </a:lnTo>
                <a:close/>
              </a:path>
              <a:path fill="darkenLess" w="83953" h="21600">
                <a:moveTo>
                  <a:pt x="83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553" y="20200"/>
                </a:lnTo>
                <a:close/>
              </a:path>
              <a:path fill="lighten" w="83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гл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810108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4" name="chimes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7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Посторонний корень иррационального уравнен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0661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возведении в квадрат, получаем посторонние кор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=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 предыдущем уравнении посторонний корень, т.к. если подставить его в данное иррациональное уравнение, получим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411280" y="4724280"/>
                <a:ext cx="1727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991040" y="3885840"/>
            <a:ext cx="3200400" cy="2133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40000" y="3573360"/>
                <a:ext cx="27702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11280" y="4149720"/>
                <a:ext cx="2016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55640" y="53006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е не имеет корн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3" action="ppaction://hlinksldjump"/>
          </p:cNvPr>
          <p:cNvSpPr/>
          <p:nvPr/>
        </p:nvSpPr>
        <p:spPr>
          <a:xfrm>
            <a:off x="250920" y="6308640"/>
            <a:ext cx="1296720" cy="333360"/>
          </a:xfrm>
          <a:custGeom>
            <a:avLst/>
            <a:gdLst>
              <a:gd name="textAreaLeft" fmla="*/ 21600 w 1296720"/>
              <a:gd name="textAreaRight" fmla="*/ 1275120 w 1296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83953" h="21600">
                <a:moveTo>
                  <a:pt x="0" y="0"/>
                </a:moveTo>
                <a:lnTo>
                  <a:pt x="83953" y="0"/>
                </a:lnTo>
                <a:lnTo>
                  <a:pt x="83953" y="21600"/>
                </a:lnTo>
                <a:lnTo>
                  <a:pt x="0" y="21600"/>
                </a:lnTo>
                <a:close/>
              </a:path>
              <a:path fill="lightenLess" w="83953" h="21600">
                <a:moveTo>
                  <a:pt x="0" y="0"/>
                </a:moveTo>
                <a:lnTo>
                  <a:pt x="83953" y="0"/>
                </a:lnTo>
                <a:lnTo>
                  <a:pt x="82553" y="1400"/>
                </a:lnTo>
                <a:lnTo>
                  <a:pt x="1400" y="1400"/>
                </a:lnTo>
                <a:close/>
              </a:path>
              <a:path fill="darken" w="83953" h="21600">
                <a:moveTo>
                  <a:pt x="83953" y="0"/>
                </a:moveTo>
                <a:lnTo>
                  <a:pt x="83953" y="21600"/>
                </a:lnTo>
                <a:lnTo>
                  <a:pt x="82553" y="20200"/>
                </a:lnTo>
                <a:lnTo>
                  <a:pt x="82553" y="1400"/>
                </a:lnTo>
                <a:close/>
              </a:path>
              <a:path fill="darkenLess" w="83953" h="21600">
                <a:moveTo>
                  <a:pt x="83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553" y="20200"/>
                </a:lnTo>
                <a:close/>
              </a:path>
              <a:path fill="lighten" w="83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гл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795672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716436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4" name="chimes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600"/>
                            </p:stCondLst>
                            <p:childTnLst>
                              <p:par>
                                <p:cTn id="1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Способы обнаружения постороннего корн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155736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верка – подстановка полученных корней в иррациональное уравн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314172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По области допустимых значений –    ОД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250920" y="6308640"/>
            <a:ext cx="1296720" cy="333360"/>
          </a:xfrm>
          <a:custGeom>
            <a:avLst/>
            <a:gdLst>
              <a:gd name="textAreaLeft" fmla="*/ 21600 w 1296720"/>
              <a:gd name="textAreaRight" fmla="*/ 1275120 w 1296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83953" h="21600">
                <a:moveTo>
                  <a:pt x="0" y="0"/>
                </a:moveTo>
                <a:lnTo>
                  <a:pt x="83953" y="0"/>
                </a:lnTo>
                <a:lnTo>
                  <a:pt x="83953" y="21600"/>
                </a:lnTo>
                <a:lnTo>
                  <a:pt x="0" y="21600"/>
                </a:lnTo>
                <a:close/>
              </a:path>
              <a:path fill="lightenLess" w="83953" h="21600">
                <a:moveTo>
                  <a:pt x="0" y="0"/>
                </a:moveTo>
                <a:lnTo>
                  <a:pt x="83953" y="0"/>
                </a:lnTo>
                <a:lnTo>
                  <a:pt x="82553" y="1400"/>
                </a:lnTo>
                <a:lnTo>
                  <a:pt x="1400" y="1400"/>
                </a:lnTo>
                <a:close/>
              </a:path>
              <a:path fill="darken" w="83953" h="21600">
                <a:moveTo>
                  <a:pt x="83953" y="0"/>
                </a:moveTo>
                <a:lnTo>
                  <a:pt x="83953" y="21600"/>
                </a:lnTo>
                <a:lnTo>
                  <a:pt x="82553" y="20200"/>
                </a:lnTo>
                <a:lnTo>
                  <a:pt x="82553" y="1400"/>
                </a:lnTo>
                <a:close/>
              </a:path>
              <a:path fill="darkenLess" w="83953" h="21600">
                <a:moveTo>
                  <a:pt x="83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553" y="20200"/>
                </a:lnTo>
                <a:close/>
              </a:path>
              <a:path fill="lighten" w="83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гл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10108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3" name="chimes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67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116000" y="2997360"/>
                <a:ext cx="655164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755640" y="16286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ить иррациональное уравнени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250920" y="6308640"/>
            <a:ext cx="1296720" cy="333360"/>
          </a:xfrm>
          <a:custGeom>
            <a:avLst/>
            <a:gdLst>
              <a:gd name="textAreaLeft" fmla="*/ 21600 w 1296720"/>
              <a:gd name="textAreaRight" fmla="*/ 1275120 w 1296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83953" h="21600">
                <a:moveTo>
                  <a:pt x="0" y="0"/>
                </a:moveTo>
                <a:lnTo>
                  <a:pt x="83953" y="0"/>
                </a:lnTo>
                <a:lnTo>
                  <a:pt x="83953" y="21600"/>
                </a:lnTo>
                <a:lnTo>
                  <a:pt x="0" y="21600"/>
                </a:lnTo>
                <a:close/>
              </a:path>
              <a:path fill="lightenLess" w="83953" h="21600">
                <a:moveTo>
                  <a:pt x="0" y="0"/>
                </a:moveTo>
                <a:lnTo>
                  <a:pt x="83953" y="0"/>
                </a:lnTo>
                <a:lnTo>
                  <a:pt x="82553" y="1400"/>
                </a:lnTo>
                <a:lnTo>
                  <a:pt x="1400" y="1400"/>
                </a:lnTo>
                <a:close/>
              </a:path>
              <a:path fill="darken" w="83953" h="21600">
                <a:moveTo>
                  <a:pt x="83953" y="0"/>
                </a:moveTo>
                <a:lnTo>
                  <a:pt x="83953" y="21600"/>
                </a:lnTo>
                <a:lnTo>
                  <a:pt x="82553" y="20200"/>
                </a:lnTo>
                <a:lnTo>
                  <a:pt x="82553" y="1400"/>
                </a:lnTo>
                <a:close/>
              </a:path>
              <a:path fill="darkenLess" w="83953" h="21600">
                <a:moveTo>
                  <a:pt x="83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553" y="20200"/>
                </a:lnTo>
                <a:close/>
              </a:path>
              <a:path fill="lighten" w="83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гл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8028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716436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3" name="chimes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ешение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066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84360" y="4941720"/>
                <a:ext cx="20872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95280" y="1413000"/>
                <a:ext cx="43909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2843280" y="4941720"/>
            <a:ext cx="0" cy="11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916360" y="4869000"/>
                <a:ext cx="12952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156360" y="1557360"/>
                <a:ext cx="16477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68360" y="2133720"/>
                <a:ext cx="41036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68360" y="2852640"/>
                <a:ext cx="4248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3573360"/>
                <a:ext cx="29512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084720" y="2133720"/>
                <a:ext cx="107964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414972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ём корни уравнения по обратной теореме Вие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55640" y="5516640"/>
                <a:ext cx="19447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916360" y="5445000"/>
                <a:ext cx="15127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5148360" y="1628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З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250920" y="6308640"/>
            <a:ext cx="1296720" cy="333360"/>
          </a:xfrm>
          <a:custGeom>
            <a:avLst/>
            <a:gdLst>
              <a:gd name="textAreaLeft" fmla="*/ 21600 w 1296720"/>
              <a:gd name="textAreaRight" fmla="*/ 1275120 w 1296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83953" h="21600">
                <a:moveTo>
                  <a:pt x="0" y="0"/>
                </a:moveTo>
                <a:lnTo>
                  <a:pt x="83953" y="0"/>
                </a:lnTo>
                <a:lnTo>
                  <a:pt x="83953" y="21600"/>
                </a:lnTo>
                <a:lnTo>
                  <a:pt x="0" y="21600"/>
                </a:lnTo>
                <a:close/>
              </a:path>
              <a:path fill="lightenLess" w="83953" h="21600">
                <a:moveTo>
                  <a:pt x="0" y="0"/>
                </a:moveTo>
                <a:lnTo>
                  <a:pt x="83953" y="0"/>
                </a:lnTo>
                <a:lnTo>
                  <a:pt x="82553" y="1400"/>
                </a:lnTo>
                <a:lnTo>
                  <a:pt x="1400" y="1400"/>
                </a:lnTo>
                <a:close/>
              </a:path>
              <a:path fill="darken" w="83953" h="21600">
                <a:moveTo>
                  <a:pt x="83953" y="0"/>
                </a:moveTo>
                <a:lnTo>
                  <a:pt x="83953" y="21600"/>
                </a:lnTo>
                <a:lnTo>
                  <a:pt x="82553" y="20200"/>
                </a:lnTo>
                <a:lnTo>
                  <a:pt x="82553" y="1400"/>
                </a:lnTo>
                <a:close/>
              </a:path>
              <a:path fill="darkenLess" w="83953" h="21600">
                <a:moveTo>
                  <a:pt x="83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553" y="20200"/>
                </a:lnTo>
                <a:close/>
              </a:path>
              <a:path fill="lighten" w="83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гл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810108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3" name="chimes.wav"/>
      </p:stSnd>
    </p:sndAc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6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1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6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1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6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1 спосо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2 спосо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116000" y="3860640"/>
                <a:ext cx="11523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84360" y="2060640"/>
                <a:ext cx="366372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932360" y="2133720"/>
                <a:ext cx="35272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076720" y="314172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27280" y="2852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93080" y="2781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4653000"/>
                <a:ext cx="1152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2340000" y="3933720"/>
            <a:ext cx="47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удовлетворяет ОД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удовлетворяет ОД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537372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уравнение не имеет корн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250920" y="6308640"/>
            <a:ext cx="1296720" cy="333360"/>
          </a:xfrm>
          <a:custGeom>
            <a:avLst/>
            <a:gdLst>
              <a:gd name="textAreaLeft" fmla="*/ 21600 w 1296720"/>
              <a:gd name="textAreaRight" fmla="*/ 1275120 w 1296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83953" h="21600">
                <a:moveTo>
                  <a:pt x="0" y="0"/>
                </a:moveTo>
                <a:lnTo>
                  <a:pt x="83953" y="0"/>
                </a:lnTo>
                <a:lnTo>
                  <a:pt x="83953" y="21600"/>
                </a:lnTo>
                <a:lnTo>
                  <a:pt x="0" y="21600"/>
                </a:lnTo>
                <a:close/>
              </a:path>
              <a:path fill="lightenLess" w="83953" h="21600">
                <a:moveTo>
                  <a:pt x="0" y="0"/>
                </a:moveTo>
                <a:lnTo>
                  <a:pt x="83953" y="0"/>
                </a:lnTo>
                <a:lnTo>
                  <a:pt x="82553" y="1400"/>
                </a:lnTo>
                <a:lnTo>
                  <a:pt x="1400" y="1400"/>
                </a:lnTo>
                <a:close/>
              </a:path>
              <a:path fill="darken" w="83953" h="21600">
                <a:moveTo>
                  <a:pt x="83953" y="0"/>
                </a:moveTo>
                <a:lnTo>
                  <a:pt x="83953" y="21600"/>
                </a:lnTo>
                <a:lnTo>
                  <a:pt x="82553" y="20200"/>
                </a:lnTo>
                <a:lnTo>
                  <a:pt x="82553" y="1400"/>
                </a:lnTo>
                <a:close/>
              </a:path>
              <a:path fill="darkenLess" w="83953" h="21600">
                <a:moveTo>
                  <a:pt x="83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553" y="20200"/>
                </a:lnTo>
                <a:close/>
              </a:path>
              <a:path fill="lighten" w="83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гл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8028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4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3" name="chimes.wav"/>
      </p:stSnd>
    </p:sndAc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7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5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8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8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90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9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olna10</cp:lastModifiedBy>
  <dcterms:modified xsi:type="dcterms:W3CDTF">2007-03-20T08:28:51Z</dcterms:modified>
  <cp:revision>12</cp:revision>
  <dc:subject/>
  <dc:title>PowerPoint Presentation</dc:title>
</cp:coreProperties>
</file>