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698-CC02-4371-A610-8AD26297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964-06A2-4C02-A454-112C4E77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D08-C499-4AFD-A676-745B2695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2B8-5C5C-4A9D-BD08-6A28C803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172-2B41-4278-AC79-9B23AAC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096-D9E4-4174-BA21-1718F9C5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192-1878-4377-B033-555F4835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B0F-0C5F-4C50-9851-25403517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7A0-BD95-45A2-99D2-5F7F17AD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9A8-2489-4FB1-8D8C-714CCB8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72D-4C21-4971-BAAD-ADF7E04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1CD-69D6-414E-9EA6-CFB438E0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3D03-4EB4-480C-A7AE-FAAEFBC55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333360"/>
            <a:ext cx="770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ение  объема с помощью интеграл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AutoShape 17"/>
          <p:cNvSpPr/>
          <p:nvPr/>
        </p:nvSpPr>
        <p:spPr>
          <a:xfrm>
            <a:off x="971640" y="1700280"/>
            <a:ext cx="1079280" cy="1441440"/>
          </a:xfrm>
          <a:prstGeom prst="parallelogram">
            <a:avLst>
              <a:gd name="adj" fmla="val 25000"/>
            </a:avLst>
          </a:prstGeom>
          <a:solidFill>
            <a:srgbClr val="ff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9"/>
          <p:cNvSpPr/>
          <p:nvPr/>
        </p:nvSpPr>
        <p:spPr>
          <a:xfrm>
            <a:off x="1547640" y="1760400"/>
            <a:ext cx="2303640" cy="1200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0"/>
          <p:cNvSpPr/>
          <p:nvPr/>
        </p:nvSpPr>
        <p:spPr>
          <a:xfrm>
            <a:off x="3348000" y="1844640"/>
            <a:ext cx="57636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1"/>
          <p:cNvSpPr/>
          <p:nvPr/>
        </p:nvSpPr>
        <p:spPr>
          <a:xfrm>
            <a:off x="2340000" y="1844640"/>
            <a:ext cx="287280" cy="936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2"/>
          <p:cNvSpPr/>
          <p:nvPr/>
        </p:nvSpPr>
        <p:spPr>
          <a:xfrm>
            <a:off x="3132000" y="1484280"/>
            <a:ext cx="1079640" cy="1655640"/>
          </a:xfrm>
          <a:prstGeom prst="parallelogram">
            <a:avLst>
              <a:gd name="adj" fmla="val 25000"/>
            </a:avLst>
          </a:prstGeom>
          <a:solidFill>
            <a:srgbClr val="ff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4"/>
          <p:cNvSpPr/>
          <p:nvPr/>
        </p:nvSpPr>
        <p:spPr>
          <a:xfrm>
            <a:off x="755640" y="3429000"/>
            <a:ext cx="374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619280" y="227664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6"/>
          <p:cNvSpPr/>
          <p:nvPr/>
        </p:nvSpPr>
        <p:spPr>
          <a:xfrm>
            <a:off x="2484360" y="278136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7"/>
          <p:cNvSpPr/>
          <p:nvPr/>
        </p:nvSpPr>
        <p:spPr>
          <a:xfrm>
            <a:off x="3635280" y="29242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476360" y="3357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411280" y="3357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3492360" y="3357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1"/>
          <p:cNvSpPr/>
          <p:nvPr/>
        </p:nvSpPr>
        <p:spPr>
          <a:xfrm>
            <a:off x="4427640" y="3141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268360" y="141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6"/>
          <p:cNvSpPr/>
          <p:nvPr/>
        </p:nvSpPr>
        <p:spPr>
          <a:xfrm>
            <a:off x="248436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12589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3780000" y="148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5724360" y="170028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2"/>
          <p:cNvSpPr/>
          <p:nvPr/>
        </p:nvSpPr>
        <p:spPr>
          <a:xfrm>
            <a:off x="6012000" y="1989000"/>
            <a:ext cx="7272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6227640" y="1916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(x) 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594036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5"/>
          <p:cNvSpPr/>
          <p:nvPr/>
        </p:nvSpPr>
        <p:spPr>
          <a:xfrm>
            <a:off x="6012000" y="1484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5364000" y="184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5219640" y="1484280"/>
            <a:ext cx="2089080" cy="13683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5"/>
          <p:cNvSpPr txBox="1"/>
          <p:nvPr/>
        </p:nvSpPr>
        <p:spPr>
          <a:xfrm>
            <a:off x="1835280" y="333360"/>
            <a:ext cx="530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м наклонной призмы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116000" y="2276640"/>
            <a:ext cx="2808360" cy="865080"/>
          </a:xfrm>
          <a:prstGeom prst="parallelogram">
            <a:avLst>
              <a:gd name="adj" fmla="val 811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124000" y="4437000"/>
            <a:ext cx="2592360" cy="936720"/>
          </a:xfrm>
          <a:prstGeom prst="parallelogram">
            <a:avLst>
              <a:gd name="adj" fmla="val 69187"/>
            </a:avLst>
          </a:pr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116000" y="3141720"/>
            <a:ext cx="100800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03640" y="3141720"/>
            <a:ext cx="86364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35280" y="2276640"/>
            <a:ext cx="936360" cy="2160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3924360" y="2276640"/>
            <a:ext cx="792000" cy="21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3203640" y="3141720"/>
            <a:ext cx="144360" cy="223200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924360" y="2276640"/>
            <a:ext cx="71280" cy="216036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 flipH="1">
            <a:off x="3347640" y="4437000"/>
            <a:ext cx="647640" cy="93672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1116000" y="3141720"/>
            <a:ext cx="71280" cy="223200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1187280" y="5373720"/>
            <a:ext cx="936720" cy="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1835280" y="2276640"/>
            <a:ext cx="144360" cy="216036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1979640" y="4437000"/>
            <a:ext cx="792000" cy="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H="1">
            <a:off x="1186920" y="4437000"/>
            <a:ext cx="792360" cy="936720"/>
          </a:xfrm>
          <a:prstGeom prst="line">
            <a:avLst/>
          </a:prstGeom>
          <a:ln w="38160">
            <a:solidFill>
              <a:srgbClr val="66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1979640" y="5445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90000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755640" y="551664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4067280" y="544500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3132000" y="551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4716360" y="429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2843280" y="40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205092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4"/>
          <p:cNvSpPr/>
          <p:nvPr/>
        </p:nvSpPr>
        <p:spPr>
          <a:xfrm>
            <a:off x="826920" y="299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619280" y="198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385128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3276720" y="2924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4140360" y="407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0"/>
          <p:cNvSpPr/>
          <p:nvPr/>
        </p:nvSpPr>
        <p:spPr>
          <a:xfrm>
            <a:off x="3276720" y="2852640"/>
            <a:ext cx="863640" cy="576360"/>
          </a:xfrm>
          <a:prstGeom prst="leftArrow">
            <a:avLst>
              <a:gd name="adj1" fmla="val 50000"/>
              <a:gd name="adj2" fmla="val 37461"/>
            </a:avLst>
          </a:prstGeom>
          <a:solidFill>
            <a:srgbClr val="00ff0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1"/>
          <p:cNvSpPr/>
          <p:nvPr/>
        </p:nvSpPr>
        <p:spPr>
          <a:xfrm>
            <a:off x="395280" y="2924280"/>
            <a:ext cx="541440" cy="431640"/>
          </a:xfrm>
          <a:prstGeom prst="rightArrow">
            <a:avLst>
              <a:gd name="adj1" fmla="val 50000"/>
              <a:gd name="adj2" fmla="val 31359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5"/>
          <p:cNvSpPr/>
          <p:nvPr/>
        </p:nvSpPr>
        <p:spPr>
          <a:xfrm>
            <a:off x="5651640" y="4365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9"/>
          <p:cNvSpPr txBox="1"/>
          <p:nvPr/>
        </p:nvSpPr>
        <p:spPr>
          <a:xfrm>
            <a:off x="4788000" y="1341360"/>
            <a:ext cx="295092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)  V         =V    </a:t>
            </a:r>
            <a:endParaRPr b="0" lang="en-US" sz="20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50"/>
          <p:cNvSpPr txBox="1"/>
          <p:nvPr/>
        </p:nvSpPr>
        <p:spPr>
          <a:xfrm>
            <a:off x="5796000" y="1700280"/>
            <a:ext cx="2400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KCBTS                         ADMNRF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52"/>
          <p:cNvSpPr txBox="1"/>
          <p:nvPr/>
        </p:nvSpPr>
        <p:spPr>
          <a:xfrm>
            <a:off x="4859280" y="2276640"/>
            <a:ext cx="27432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)  V               = V</a:t>
            </a:r>
            <a:endParaRPr b="0" lang="en-US" sz="40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3"/>
          <p:cNvSpPr txBox="1"/>
          <p:nvPr/>
        </p:nvSpPr>
        <p:spPr>
          <a:xfrm>
            <a:off x="5724360" y="2637000"/>
            <a:ext cx="30006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CDMNKP                     MNKPTSRF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54"/>
          <p:cNvSpPr txBox="1"/>
          <p:nvPr/>
        </p:nvSpPr>
        <p:spPr>
          <a:xfrm>
            <a:off x="4859280" y="3213000"/>
            <a:ext cx="3962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)  V            = S   H</a:t>
            </a:r>
            <a:endParaRPr b="0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55"/>
          <p:cNvSpPr txBox="1"/>
          <p:nvPr/>
        </p:nvSpPr>
        <p:spPr>
          <a:xfrm>
            <a:off x="8172360" y="3573360"/>
            <a:ext cx="30492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6"/>
          <p:cNvSpPr txBox="1"/>
          <p:nvPr/>
        </p:nvSpPr>
        <p:spPr>
          <a:xfrm>
            <a:off x="5292720" y="4365720"/>
            <a:ext cx="3143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) H = PT - общ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7"/>
          <p:cNvSpPr txBox="1"/>
          <p:nvPr/>
        </p:nvSpPr>
        <p:spPr>
          <a:xfrm>
            <a:off x="5508720" y="5229360"/>
            <a:ext cx="153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 = S    H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58"/>
          <p:cNvSpPr txBox="1"/>
          <p:nvPr/>
        </p:nvSpPr>
        <p:spPr>
          <a:xfrm>
            <a:off x="6084720" y="3500280"/>
            <a:ext cx="10861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NKPTSRF</a:t>
            </a:r>
            <a:endParaRPr b="0" lang="en-US" sz="20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59"/>
          <p:cNvSpPr txBox="1"/>
          <p:nvPr/>
        </p:nvSpPr>
        <p:spPr>
          <a:xfrm>
            <a:off x="6443640" y="6165720"/>
            <a:ext cx="2570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23 L 0.06476 -0.12514 L 0.15573 0.18691 L 0.08507 0.31714 L 5.55556E-007 0.00023 Z">
                                      <p:cBhvr>
                                        <p:cTn id="11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23 L 0.06597 -0.12653 L 0.07535 0.18367 L 5.55556E-007 0.33334 L 5.55556E-007 0.00023 Z">
                                      <p:cBhvr>
                                        <p:cTn id="121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62549E-006 L 0.09792 -0.14874 L 0.19427 0.17719 L 0.12848 0.32778 L -3.05556E-006 -2.62549E-006 Z">
                                      <p:cBhvr>
                                        <p:cTn id="13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4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62549E-006 L 0.09792 -0.15336 L 0.10608 0.18367 L -3.05556E-006 0.3331 L -3.05556E-006 -2.62549E-006 Z">
                                      <p:cBhvr>
                                        <p:cTn id="135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916360" y="260280"/>
            <a:ext cx="358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М ПИРАМИДЫ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2050560" y="2421000"/>
            <a:ext cx="73080" cy="158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124000" y="2421000"/>
            <a:ext cx="792360" cy="2448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1116000" y="2421000"/>
            <a:ext cx="1008000" cy="338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324000" y="3284640"/>
            <a:ext cx="792000" cy="25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1258920" y="1484280"/>
            <a:ext cx="792000" cy="25210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324000" y="3284640"/>
            <a:ext cx="1726920" cy="720720"/>
          </a:xfrm>
          <a:prstGeom prst="line">
            <a:avLst/>
          </a:prstGeom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 flipV="1">
            <a:off x="324000" y="2420640"/>
            <a:ext cx="1800000" cy="86364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 flipV="1">
            <a:off x="324000" y="1483920"/>
            <a:ext cx="934920" cy="18003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1258920" y="1484280"/>
            <a:ext cx="865080" cy="93672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116000" y="4868640"/>
            <a:ext cx="1800360" cy="936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1116000" y="4005360"/>
            <a:ext cx="934920" cy="1800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2050920" y="4005360"/>
            <a:ext cx="865440" cy="8636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90000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91636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205092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205092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7928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1258920" y="119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3780000" y="1197000"/>
            <a:ext cx="55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Arial"/>
              </a:rPr>
              <a:t>Две пирамиды, имеющие равные основания и равные высоты, имеют равные объем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3708360" y="1197000"/>
            <a:ext cx="4969080" cy="107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3132000" y="2349360"/>
            <a:ext cx="525636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М =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М ( по трем сторон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 – общая высо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вершины С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C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K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1"/>
          <p:cNvSpPr/>
          <p:nvPr/>
        </p:nvSpPr>
        <p:spPr>
          <a:xfrm>
            <a:off x="3492360" y="2492280"/>
            <a:ext cx="144720" cy="14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4572000" y="2492280"/>
            <a:ext cx="144360" cy="14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7093080" y="29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7093080" y="2924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3132000" y="3500280"/>
            <a:ext cx="5040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А =     КСТ ( по трем сторон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 – общая высота из вершины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MK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T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>
            <a:off x="3492360" y="3716280"/>
            <a:ext cx="142920" cy="144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9"/>
          <p:cNvSpPr/>
          <p:nvPr/>
        </p:nvSpPr>
        <p:spPr>
          <a:xfrm>
            <a:off x="4427640" y="3645000"/>
            <a:ext cx="142920" cy="1429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0"/>
          <p:cNvSpPr/>
          <p:nvPr/>
        </p:nvSpPr>
        <p:spPr>
          <a:xfrm>
            <a:off x="7236000" y="40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723600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3059280" y="5013360"/>
            <a:ext cx="58323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V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рами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3 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мы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3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H –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бщая высота призмы и пирамиды из вершины 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3708360" y="6093000"/>
            <a:ext cx="3384720" cy="368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ВЫВОД: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пир.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1/3 S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oc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9"/>
          <p:cNvSpPr/>
          <p:nvPr/>
        </p:nvSpPr>
        <p:spPr>
          <a:xfrm flipH="1">
            <a:off x="1258560" y="242100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0"/>
          <p:cNvSpPr/>
          <p:nvPr/>
        </p:nvSpPr>
        <p:spPr>
          <a:xfrm flipH="1">
            <a:off x="1692360" y="400536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1"/>
          <p:cNvSpPr/>
          <p:nvPr/>
        </p:nvSpPr>
        <p:spPr>
          <a:xfrm>
            <a:off x="2124000" y="2421000"/>
            <a:ext cx="71640" cy="2376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56:57Z</dcterms:created>
  <dc:creator>User</dc:creator>
  <dc:description/>
  <dc:language>en-US</dc:language>
  <cp:lastModifiedBy>Admin</cp:lastModifiedBy>
  <dcterms:modified xsi:type="dcterms:W3CDTF">2012-02-14T19:15:57Z</dcterms:modified>
  <cp:revision>5</cp:revision>
  <dc:subject/>
  <dc:title>Слайд 1</dc:title>
</cp:coreProperties>
</file>