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704-DCA8-4D6B-A7A4-030B4EE3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05C-4469-4F69-85DA-C6976CC6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ED6-252C-4C8A-97DD-8C9EB317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135-4AB6-47F0-8221-2132A0D9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D56D-71E0-4015-932B-3805BB33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BE2B-BA5C-49C5-9E6F-D9AE87CA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2AF8-1324-49A4-9A31-E4350C4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7ED3-3E69-4E52-8D1F-B7B59506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6171-B75D-4DAD-97E1-93193B89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5B6C-0266-438A-8B0B-3D66FBA7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FA07-ED12-4C82-8F2C-202C3BBF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8CB-7602-454F-8E7B-8EB7C81F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0305-1E8F-469D-AAC8-3A28B7F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ED5B-B5F3-4188-A712-119CA1E7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188C-E62E-4E5C-AB27-15785361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DFC4-E4F9-4C48-B46B-AA6B58D0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5CD1-5EAE-48AA-B555-7F6E0291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339-7164-4ED9-9045-DD47B040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82B-5616-4880-9505-FE8D8E95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240-29D0-48C5-9B8D-A9FAF1B8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397-F42D-4D4D-809D-90378C1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347-3452-44CE-A9E9-01A60D9B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94D-8A38-4564-8502-0BBC8C2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AD9-AD02-4256-8A29-B5A34205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3B21-BFED-4BF0-BC34-18F1A9A3DF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4BCA-E223-4953-867F-B4492126BED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ustoys.ru/toys/images/o/ochen_b_ptits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400800" cy="129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МОУ «Средняя общеобразовательная школа с. Родничок Балашовского района Саратовской области»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637000"/>
            <a:ext cx="60325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Times New Roman"/>
              </a:rPr>
              <a:t>Тема проекта: «Игрушечный горо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втор: Кострикина Елена Иванов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200"/>
                </a:solidFill>
                <a:latin typeface="Times New Roman"/>
              </a:rPr>
              <a:t>Как вы думает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ff"/>
                </a:solidFill>
                <a:latin typeface="Comic Sans MS"/>
              </a:rPr>
              <a:t>Что может рассказать игруш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2857680" cy="289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дымково 5"/>
          <p:cNvPicPr/>
          <p:nvPr/>
        </p:nvPicPr>
        <p:blipFill>
          <a:blip r:embed="rId2"/>
          <a:stretch/>
        </p:blipFill>
        <p:spPr>
          <a:xfrm>
            <a:off x="4572000" y="2997360"/>
            <a:ext cx="4016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200"/>
                </a:solidFill>
                <a:latin typeface="Comic Sans MS"/>
              </a:rPr>
              <a:t>А знаете ли в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Что у каждой игрушки есть своя история, есть свой замысел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По игрушкам можно судить о культуре не только человека, но и народа, о его пристрастиях, о его идеал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Для каждой игрушки характерна своя форма: одни игрушки предназначались для игры детей, другие – для оформления интерьеров, третьи были участниками ритуа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200"/>
                </a:solidFill>
                <a:latin typeface="Times New Roman"/>
              </a:rPr>
              <a:t>Филимоновские</a:t>
            </a:r>
            <a:r>
              <a:rPr b="0" i="1" lang="en-US" sz="3600" spc="-1" strike="noStrike">
                <a:solidFill>
                  <a:srgbClr val="00b2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b200"/>
                </a:solidFill>
                <a:latin typeface="Times New Roman"/>
              </a:rPr>
              <a:t>и дымковские игрушки использовались для красоты, для зазывани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J:\Народная игрушка\фото\dymkovo_toys_7.jpg"/>
          <p:cNvPicPr/>
          <p:nvPr/>
        </p:nvPicPr>
        <p:blipFill>
          <a:blip r:embed="rId1"/>
          <a:stretch/>
        </p:blipFill>
        <p:spPr>
          <a:xfrm>
            <a:off x="5148360" y="2852640"/>
            <a:ext cx="266364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4321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000" spc="-1" strike="noStrike">
                <a:solidFill>
                  <a:srgbClr val="703dff"/>
                </a:solidFill>
                <a:latin typeface="Times New Roman"/>
              </a:rPr>
              <a:t>очень старая игрушка. Надутые воздухом кишки и желудки животных с вышитыми на них узорами использовали в древности как жертвоприношения. В Европе кишки животных в качестве «шара» подбрасывали в воздух бродячие артисты. Дети играли с такими шарами еще более 100 лет назад. Шар всегда был круглым, пока не появились «шары-карандаши», ныне известные как «колбаски». Фокусники создавали из них различные фигуры живот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86080" y="404640"/>
            <a:ext cx="45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200"/>
                </a:solidFill>
                <a:latin typeface="Times New Roman"/>
              </a:rPr>
              <a:t>Воздушный ша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24360" y="4076640"/>
            <a:ext cx="22161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b2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dff"/>
                </a:solidFill>
                <a:latin typeface="Times New Roman"/>
              </a:rPr>
              <a:t>В древние времена люди верили, что птицы прогоняют своим звонким пением зимний мрак, стужу и приносят на крыльях весну красную, тепло летушко. С песнями- заклинаниями обращались они к жаворонку, кулику, ласточке, прося принести весну на своем хвосте. Птицы символизировали свет, теп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d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201600"/>
            <a:ext cx="18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200"/>
                </a:solidFill>
                <a:latin typeface="Times New Roman"/>
              </a:rPr>
              <a:t>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-main-pic" descr="Картинка 18 из 3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4437000"/>
            <a:ext cx="3166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200"/>
                </a:solidFill>
                <a:latin typeface="Times New Roman"/>
              </a:rPr>
              <a:t>Угада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dff"/>
                </a:solidFill>
                <a:latin typeface="Times New Roman"/>
              </a:rPr>
              <a:t>Как называется эта игрушка и для чего она нужн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img010"/>
          <p:cNvPicPr/>
          <p:nvPr/>
        </p:nvPicPr>
        <p:blipFill>
          <a:blip r:embed="rId1"/>
          <a:stretch/>
        </p:blipFill>
        <p:spPr>
          <a:xfrm>
            <a:off x="3059280" y="3357720"/>
            <a:ext cx="542268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15:08Z</dcterms:created>
  <dc:creator>user</dc:creator>
  <dc:description/>
  <dc:language>en-US</dc:language>
  <cp:lastModifiedBy>user</cp:lastModifiedBy>
  <dcterms:modified xsi:type="dcterms:W3CDTF">2011-12-16T22:09:42Z</dcterms:modified>
  <cp:revision>2</cp:revision>
  <dc:subject/>
  <dc:title>МОУ «Средняя общеобразовательная школа с. Родничок Балашовского района Саратовской области»</dc:title>
</cp:coreProperties>
</file>