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2.wmf" ContentType="image/x-wmf"/>
  <Override PartName="/ppt/media/cashreg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9C7-A67F-4B34-B584-C169B208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3E9-85E5-495C-AF8D-7F327FD5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B2D-9311-4053-8048-F179AE42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475-47E6-488A-8C95-E69534EE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B2AF-F136-4030-950B-17C1F466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A065-CE64-4965-860C-C2365745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84C3-7A86-4784-9095-B42E4253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6110-2B74-4E31-ADF5-24F64836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1B41-86C0-4DA1-8CFF-8BC31231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4F6C-6B2E-4B14-A60D-7984FC26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E133-9DD2-412E-9160-427BDA64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08F-8503-458C-8B02-1BA1ABD9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EDF8-1338-4871-A297-FC42C15D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4BD0-346B-4B63-AD94-EF6A347C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5599-8595-4782-A9D9-0B842DDC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CD7E-C4E7-4C7E-9FE7-C5B9EAF2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E5AB-71E6-4DA4-8321-96767DF6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BBA0-0BF3-47CF-82D1-4948937D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86F-D7E4-44D4-B8F9-FE21C24C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CC7-0C61-4F9D-B4AC-68193F87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7C8-9028-43F4-9B0B-7E837B90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316-8279-4B46-99FB-4B9E7181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1FE-91DD-4DAC-AA5F-2325D90C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D02-A5CA-4336-9033-23F6E8C5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9372-FDD4-4B94-B287-E76CE0DDE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ED52-1231-446B-B8BE-713DFA3B1A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пастовская средняя  школ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пастовского  район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Республики Татарстан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рок  по  обществознан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Учител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Насибуллин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ульнур Хайда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Региональные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лог  на  имущество  предприят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есной  нало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бор  с  юридических лиц  на  нужды  образовательных  учреж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657600" cy="4191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685800"/>
            <a:ext cx="1828800" cy="21337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Элем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алог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1676520"/>
            <a:ext cx="609480" cy="4572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1066680"/>
            <a:ext cx="3048120" cy="152424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Носитель налога</a:t>
            </a: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лицо, с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удерживается нало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3886200"/>
            <a:ext cx="3733920" cy="220968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Источник  налог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доход</a:t>
            </a: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и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уплачи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налог</a:t>
            </a: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295280"/>
            <a:ext cx="3276360" cy="129564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логоплательщ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886200"/>
            <a:ext cx="3124080" cy="220968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ъект  налог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ход, имущество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ова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7400" y="186228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352680" y="2743200"/>
            <a:ext cx="4572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2819520"/>
            <a:ext cx="533520" cy="106668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638680" y="2133360"/>
            <a:ext cx="228600" cy="7596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7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838080"/>
            <a:ext cx="4648320" cy="14479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Налоговые  системы</a:t>
            </a: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47560" y="2286000"/>
            <a:ext cx="99036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2286000"/>
            <a:ext cx="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2286000"/>
            <a:ext cx="838080" cy="1447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86200"/>
            <a:ext cx="1828800" cy="23623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Пропор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циональ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3962520"/>
            <a:ext cx="190512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Прогрес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4038480"/>
            <a:ext cx="182880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Регрес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09480"/>
            <a:ext cx="3581640" cy="16002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Бюдж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200400"/>
            <a:ext cx="266724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Дохо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налоги, сбо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200400"/>
            <a:ext cx="243828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Расхо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социальны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выпла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286000" y="2057400"/>
            <a:ext cx="9144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2057400"/>
            <a:ext cx="1143000" cy="11430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492360" y="2276640"/>
            <a:ext cx="2283120" cy="224784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Автор – Насибуллина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Гульнур Хайдаровна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спублики Татарст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пастово, 2003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Налоги  как  источник  доходов государства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ы  можешь  и   не заметить, что  у тебя  всё  идёт хорошо, но  налоговая  служба напомн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ьер  Данино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61000" y="1641600"/>
            <a:ext cx="3584520" cy="445428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Налоговая система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04760" y="3505320"/>
            <a:ext cx="16002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3505320"/>
            <a:ext cx="152388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228600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114800"/>
            <a:ext cx="213372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2242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Налог  как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финансов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систе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61280" y="4495680"/>
            <a:ext cx="16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Элемент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налог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ff00"/>
                </a:solidFill>
                <a:uFillTx/>
                <a:latin typeface="Times New Roman"/>
              </a:rPr>
              <a:t>Экономическая сущность  налога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ь валового  внутреннего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ь   себестоимости 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ь  прибы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ь  личного  дохода  работ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Методы  налогообложения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ям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Косвен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вой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логовая деклара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6019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Функции налогов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иск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гулирующ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нтро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ци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5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Console"/>
              </a:rPr>
              <a:t>Прям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Вид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лог  на  прибы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логи  на  имуществ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логи  на  дох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сурсные  платеж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48520" y="3886200"/>
            <a:ext cx="1888920" cy="187488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Налог  на  добавленную  стоим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Акци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Таможенные  пошл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Налог  на  операции с  ценными  бумаг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18400" y="2590920"/>
            <a:ext cx="1944720" cy="236196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en-US" sz="44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Федеральные  налог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Региональные  налог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Местные  налоги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080" y="129528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500"/>
                            </p:stCondLst>
                            <p:childTnLst>
                              <p:par>
                                <p:cTn id="27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Федераль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Налог  на  добавленную стоим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Акцизы  на  отдельные  группы и  виды  товар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Подоходный  нал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Таможенная  пошл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Гербовый  сб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Налог  на  наследуемое  и  даримое  имущество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7696080" y="53341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9:36:13Z</dcterms:created>
  <dc:creator>User</dc:creator>
  <dc:description/>
  <dc:language>en-US</dc:language>
  <cp:lastModifiedBy>User</cp:lastModifiedBy>
  <dcterms:modified xsi:type="dcterms:W3CDTF">2006-02-17T20:09:10Z</dcterms:modified>
  <cp:revision>7</cp:revision>
  <dc:subject/>
  <dc:title>Апастовская средняя  школа.</dc:title>
</cp:coreProperties>
</file>