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egoe Semibold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F4AE-C26C-40B4-AB89-5BC65462D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ьте портрет руководителя сво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0B1-2288-4024-9451-F1D90370A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33A-D8C4-476D-A467-44D362AA5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D30-A54A-4EBD-995C-4B5CD7A41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EFA-CCA7-4CD5-BBCC-AABC39B3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FFC-B1D3-40B0-BEE4-2C6B72A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384-1C7E-43AB-A064-10C1B205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FBA-6C92-4C1E-A37F-98C8B124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214200"/>
            <a:ext cx="75438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9D1-2BAF-4459-AE6F-280DC69C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76D-824E-422E-8452-CDB86C1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2640" y="214200"/>
            <a:ext cx="75438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406-1C0A-498D-A160-9B03F2D9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CF4-81D2-4E60-81CD-A974155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14200"/>
            <a:ext cx="75438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CDB-20A0-42B2-B986-68E2D3B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58A-A749-40D4-8EB3-846D8A7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A7F-0E76-44BE-AFC2-DAB0D18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0E5-121D-416A-9B77-A9AB085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egoe Semibold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89B-BCCF-45C7-97FB-8FFB10EF92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egoe Semibold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egoe Semibold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Segoe Semibold"/>
            </a:endParaRPr>
          </a:p>
        </p:txBody>
      </p:sp>
      <p:pic>
        <p:nvPicPr>
          <p:cNvPr id="125" name="dvd-to-ai_NEW.avi" descr=""/>
          <p:cNvPicPr/>
          <p:nvPr/>
        </p:nvPicPr>
        <p:blipFill>
          <a:blip r:embed="rId1"/>
          <a:stretch/>
        </p:blipFill>
        <p:spPr>
          <a:xfrm>
            <a:off x="12859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47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86040"/>
            <a:ext cx="4500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Segoe Semibold"/>
              </a:rPr>
              <a:t>Кремль</a:t>
            </a:r>
            <a:endParaRPr b="0" lang="en-US" sz="8000" spc="-1" strike="noStrike">
              <a:solidFill>
                <a:srgbClr val="ff0000"/>
              </a:solidFill>
              <a:latin typeface="Segoe Semibold"/>
            </a:endParaRPr>
          </a:p>
        </p:txBody>
      </p:sp>
      <p:pic>
        <p:nvPicPr>
          <p:cNvPr id="146" name="Содержимое 3" descr="orig_451_12973157673yYABKsSzD.jpg"/>
          <p:cNvPicPr/>
          <p:nvPr/>
        </p:nvPicPr>
        <p:blipFill>
          <a:blip r:embed="rId1"/>
          <a:stretch/>
        </p:blipFill>
        <p:spPr>
          <a:xfrm>
            <a:off x="4357800" y="714240"/>
            <a:ext cx="4357440" cy="581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1" descr=""/>
          <p:cNvPicPr/>
          <p:nvPr/>
        </p:nvPicPr>
        <p:blipFill>
          <a:blip r:embed="rId1"/>
          <a:stretch/>
        </p:blipFill>
        <p:spPr>
          <a:xfrm>
            <a:off x="1133640" y="-128520"/>
            <a:ext cx="7559640" cy="20606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14567217ba.png"/>
          <p:cNvPicPr/>
          <p:nvPr/>
        </p:nvPicPr>
        <p:blipFill>
          <a:blip r:embed="rId2"/>
          <a:stretch/>
        </p:blipFill>
        <p:spPr>
          <a:xfrm>
            <a:off x="500040" y="1428840"/>
            <a:ext cx="381636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7" descr="russia-fsb-600x479.jpg"/>
          <p:cNvPicPr/>
          <p:nvPr/>
        </p:nvPicPr>
        <p:blipFill>
          <a:blip r:embed="rId3"/>
          <a:stretch/>
        </p:blipFill>
        <p:spPr>
          <a:xfrm>
            <a:off x="4643280" y="2071800"/>
            <a:ext cx="4038840" cy="322416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1" descr=""/>
          <p:cNvPicPr/>
          <p:nvPr/>
        </p:nvPicPr>
        <p:blipFill>
          <a:blip r:embed="rId4"/>
          <a:stretch/>
        </p:blipFill>
        <p:spPr>
          <a:xfrm>
            <a:off x="566640" y="5516640"/>
            <a:ext cx="7553520" cy="2060640"/>
          </a:xfrm>
          <a:prstGeom prst="rect">
            <a:avLst/>
          </a:prstGeom>
          <a:ln w="0">
            <a:noFill/>
          </a:ln>
        </p:spPr>
      </p:pic>
      <p:pic>
        <p:nvPicPr>
          <p:cNvPr id="151" name="gimn_-_gimn_rossii_so_slovami_(zaycev.net).mp3" descr=""/>
          <p:cNvPicPr/>
          <p:nvPr/>
        </p:nvPicPr>
        <p:blipFill>
          <a:blip r:embed="rId5"/>
          <a:stretch/>
        </p:blipFill>
        <p:spPr>
          <a:xfrm>
            <a:off x="778680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3096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48240" y="1206360"/>
            <a:ext cx="4913280" cy="351180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4" descr="552.jpg"/>
          <p:cNvPicPr/>
          <p:nvPr/>
        </p:nvPicPr>
        <p:blipFill>
          <a:blip r:embed="rId2"/>
          <a:stretch/>
        </p:blipFill>
        <p:spPr>
          <a:xfrm>
            <a:off x="0" y="0"/>
            <a:ext cx="4786200" cy="68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Segoe Semibold"/>
              </a:rPr>
              <a:t>ПЛАН ПОСЛАНИЯ.</a:t>
            </a:r>
            <a:endParaRPr b="0" lang="en-US" sz="48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1435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Segoe"/>
              </a:rPr>
              <a:t>Поздравительные слова президенту.</a:t>
            </a:r>
            <a:endParaRPr b="0" lang="en-US" sz="4400" spc="-1" strike="noStrike">
              <a:solidFill>
                <a:srgbClr val="000066"/>
              </a:solidFill>
              <a:latin typeface="Segoe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Segoe"/>
              </a:rPr>
              <a:t>Пожелания президенту.</a:t>
            </a:r>
            <a:endParaRPr b="0" lang="en-US" sz="4400" spc="-1" strike="noStrike">
              <a:solidFill>
                <a:srgbClr val="000066"/>
              </a:solidFill>
              <a:latin typeface="Segoe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Segoe"/>
              </a:rPr>
              <a:t>Напутствия главе государства.</a:t>
            </a:r>
            <a:endParaRPr b="0" lang="en-US" sz="44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285920" y="0"/>
            <a:ext cx="6715080" cy="6861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571400" y="1571760"/>
            <a:ext cx="5715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Уважаемый Дмитрий Анатольевич! </a:t>
            </a: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Мы, ученики 3 Б класса, поздравляем Вас  с Днем защитника Отечества! Это праздник силы, мужества, отваги.  Мы знаем: любить Родину – значит жить с ней одной жизнью; радоваться в праздник и страдать, когда ей тяжело. И самое главное – нужно беречь и защищать свое Отечество.</a:t>
            </a: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Желаем Вам, Дмитрий Анатольевич, крепкого здоровья, сил и трудовых успехов на благо нашей любимой Родины.</a:t>
            </a: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Мы хотим, чтобы Вы все делали для того, чтобы люди в нашей стране жили мирно и счастливо и у всех детей были мамы и папы.                    </a:t>
            </a: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  <a:p>
            <a:pPr marL="298440" indent="-2984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Monotype Corsiva"/>
              </a:rPr>
              <a:t>С уважением, ученики Китаевской МОУ СОШ №3 Новоселицкого района, Ставропоольского края.</a:t>
            </a: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Segoe Semibold"/>
            </a:endParaRPr>
          </a:p>
        </p:txBody>
      </p:sp>
      <p:pic>
        <p:nvPicPr>
          <p:cNvPr id="159" name="DSC_0034.MO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3" descr=""/>
          <p:cNvPicPr/>
          <p:nvPr/>
        </p:nvPicPr>
        <p:blipFill>
          <a:blip r:embed="rId1"/>
          <a:stretch/>
        </p:blipFill>
        <p:spPr>
          <a:xfrm>
            <a:off x="-426960" y="-262080"/>
            <a:ext cx="9626400" cy="3633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index2.php.jpg"/>
          <p:cNvPicPr/>
          <p:nvPr/>
        </p:nvPicPr>
        <p:blipFill>
          <a:blip r:embed="rId2"/>
          <a:stretch/>
        </p:blipFill>
        <p:spPr>
          <a:xfrm>
            <a:off x="2643120" y="278604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57160" y="6000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66"/>
              </a:solidFill>
              <a:latin typeface="Segoe"/>
            </a:endParaRPr>
          </a:p>
        </p:txBody>
      </p:sp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55440" y="585720"/>
            <a:ext cx="9253800" cy="6004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knigi-185.gif"/>
          <p:cNvPicPr/>
          <p:nvPr/>
        </p:nvPicPr>
        <p:blipFill>
          <a:blip r:embed="rId3"/>
          <a:stretch/>
        </p:blipFill>
        <p:spPr>
          <a:xfrm>
            <a:off x="214200" y="0"/>
            <a:ext cx="3353040" cy="1405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Segoe Semibold"/>
              </a:rPr>
              <a:t>Цели урока: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680" y="19288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Segoe"/>
              </a:rPr>
              <a:t>Воспитывать любовь и уважение к своей стране, к её законам, символам. Способствовать воспитанию гражданственности, патриотизма.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marL="571680" indent="-571680">
              <a:spcBef>
                <a:spcPts val="7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Segoe"/>
              </a:rPr>
              <a:t>Познакомить с эпистолярным жанром, т.е. учить умению писать и составлять личное послание.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  <a:p>
            <a:pPr marL="571680" indent="-571680">
              <a:spcBef>
                <a:spcPts val="700"/>
              </a:spcBef>
              <a:buClr>
                <a:srgbClr val="000066"/>
              </a:buClr>
              <a:buFont typeface="Sego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Segoe"/>
              </a:rPr>
              <a:t>Способствовать развитию памяти, внимания, мышления, связной литературно грамотной речи.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  <p:pic>
        <p:nvPicPr>
          <p:cNvPr id="131" name="Рисунок 3" descr="Рисунок2.gif"/>
          <p:cNvPicPr/>
          <p:nvPr/>
        </p:nvPicPr>
        <p:blipFill>
          <a:blip r:embed="rId1"/>
          <a:stretch/>
        </p:blipFill>
        <p:spPr>
          <a:xfrm>
            <a:off x="0" y="0"/>
            <a:ext cx="264312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одзаголовок 2" descr=""/>
          <p:cNvPicPr/>
          <p:nvPr/>
        </p:nvPicPr>
        <p:blipFill>
          <a:blip r:embed="rId1"/>
          <a:stretch/>
        </p:blipFill>
        <p:spPr>
          <a:xfrm>
            <a:off x="1279440" y="2041560"/>
            <a:ext cx="6413760" cy="18604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0_28af8_570aa056_L.jpg"/>
          <p:cNvPicPr/>
          <p:nvPr/>
        </p:nvPicPr>
        <p:blipFill>
          <a:blip r:embed="rId2"/>
          <a:stretch/>
        </p:blipFill>
        <p:spPr>
          <a:xfrm>
            <a:off x="0" y="1130400"/>
            <a:ext cx="9144000" cy="572760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6480" y="-249120"/>
            <a:ext cx="8942400" cy="2425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9725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Segoe Semibold"/>
              </a:rPr>
              <a:t>Род..на – мат.. -умей её защищ..ть.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Segoe Semibold"/>
            </a:endParaRPr>
          </a:p>
        </p:txBody>
      </p:sp>
      <p:pic>
        <p:nvPicPr>
          <p:cNvPr id="136" name="Содержимое 3" descr="zaschitniki-otechestva-foto.jpg"/>
          <p:cNvPicPr/>
          <p:nvPr/>
        </p:nvPicPr>
        <p:blipFill>
          <a:blip r:embed="rId1"/>
          <a:stretch/>
        </p:blipFill>
        <p:spPr>
          <a:xfrm>
            <a:off x="2286000" y="2500200"/>
            <a:ext cx="4643280" cy="40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9725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Segoe Semibold"/>
              </a:rPr>
              <a:t>Род</a:t>
            </a:r>
            <a:r>
              <a:rPr b="0" lang="ru-RU" sz="5400" spc="-1" strike="noStrike" u="sng">
                <a:solidFill>
                  <a:srgbClr val="ff0000"/>
                </a:solidFill>
                <a:uFillTx/>
                <a:latin typeface="Segoe Semibold"/>
              </a:rPr>
              <a:t>и</a:t>
            </a:r>
            <a:r>
              <a:rPr b="0" lang="ru-RU" sz="5400" spc="-1" strike="noStrike">
                <a:solidFill>
                  <a:srgbClr val="000066"/>
                </a:solidFill>
                <a:latin typeface="Segoe Semibold"/>
              </a:rPr>
              <a:t>на – мат</a:t>
            </a:r>
            <a:r>
              <a:rPr b="0" lang="ru-RU" sz="5400" spc="-1" strike="noStrike" u="sng">
                <a:solidFill>
                  <a:srgbClr val="ff0000"/>
                </a:solidFill>
                <a:uFillTx/>
                <a:latin typeface="Segoe Semibold"/>
              </a:rPr>
              <a:t>ь</a:t>
            </a:r>
            <a:r>
              <a:rPr b="0" lang="ru-RU" sz="5400" spc="-1" strike="noStrike">
                <a:solidFill>
                  <a:srgbClr val="000066"/>
                </a:solidFill>
                <a:latin typeface="Segoe Semibold"/>
              </a:rPr>
              <a:t> -умей её защищ</a:t>
            </a:r>
            <a:r>
              <a:rPr b="0" lang="ru-RU" sz="5400" spc="-1" strike="noStrike" u="sng">
                <a:solidFill>
                  <a:srgbClr val="ff0000"/>
                </a:solidFill>
                <a:uFillTx/>
                <a:latin typeface="Segoe Semibold"/>
              </a:rPr>
              <a:t>а</a:t>
            </a:r>
            <a:r>
              <a:rPr b="0" lang="ru-RU" sz="5400" spc="-1" strike="noStrike">
                <a:solidFill>
                  <a:srgbClr val="000066"/>
                </a:solidFill>
                <a:latin typeface="Segoe Semibold"/>
              </a:rPr>
              <a:t>ть.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Segoe Semibold"/>
            </a:endParaRPr>
          </a:p>
        </p:txBody>
      </p:sp>
      <p:pic>
        <p:nvPicPr>
          <p:cNvPr id="138" name="Содержимое 3" descr="zaschitniki-otechestva-foto.jpg"/>
          <p:cNvPicPr/>
          <p:nvPr/>
        </p:nvPicPr>
        <p:blipFill>
          <a:blip r:embed="rId1"/>
          <a:stretch/>
        </p:blipFill>
        <p:spPr>
          <a:xfrm>
            <a:off x="2286000" y="2500200"/>
            <a:ext cx="4643280" cy="4067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Segoe Semibold"/>
              </a:rPr>
              <a:t>«Что мы Родиной зовём?»</a:t>
            </a:r>
            <a:endParaRPr b="0" lang="en-US" sz="36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856880" y="1071360"/>
            <a:ext cx="5715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Segoe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Что мы Родиной зовём?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Дом, где мы с тобой растём,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И берёзки у дороги,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По которой мы идём.</a:t>
            </a:r>
            <a:endParaRPr b="0" lang="en-US" sz="3200" spc="-1" strike="noStrike">
              <a:solidFill>
                <a:srgbClr val="000066"/>
              </a:solidFill>
              <a:latin typeface="Segoe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Что мы Родиной зовём?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Солнце в небе голубом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И душистый, золотистый хлеб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За праздничным столом.</a:t>
            </a:r>
            <a:endParaRPr b="0" lang="en-US" sz="3200" spc="-1" strike="noStrike">
              <a:solidFill>
                <a:srgbClr val="000066"/>
              </a:solidFill>
              <a:latin typeface="Segoe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Что мы Родиной зовём?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Край, где мы с тобой живем.</a:t>
            </a:r>
            <a:endParaRPr b="0" lang="en-US" sz="3200" spc="-1" strike="noStrike">
              <a:solidFill>
                <a:srgbClr val="000066"/>
              </a:solidFill>
              <a:latin typeface="Segoe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Segoe Semibold"/>
              </a:rPr>
              <a:t>Словарная работа</a:t>
            </a:r>
            <a:endParaRPr b="0" lang="en-US" sz="4800" spc="-1" strike="noStrike">
              <a:solidFill>
                <a:srgbClr val="ff0000"/>
              </a:solidFill>
              <a:latin typeface="Segoe Semi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21428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   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Н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а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ро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д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, 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Мо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сква, г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ород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, ст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о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лица, 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К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расная пло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ща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дь, 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Р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о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сс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ия, ру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сс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кий, ч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е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ловек, н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а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ро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д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, т</a:t>
            </a:r>
            <a:r>
              <a:rPr b="0" lang="ru-RU" sz="4100" spc="-1" strike="noStrike" u="sng">
                <a:solidFill>
                  <a:srgbClr val="000066"/>
                </a:solidFill>
                <a:uFillTx/>
                <a:latin typeface="Segoe"/>
              </a:rPr>
              <a:t>о</a:t>
            </a:r>
            <a:r>
              <a:rPr b="0" lang="ru-RU" sz="4100" spc="-1" strike="noStrike">
                <a:solidFill>
                  <a:srgbClr val="000066"/>
                </a:solidFill>
                <a:latin typeface="Segoe"/>
              </a:rPr>
              <a:t>варищ.</a:t>
            </a:r>
            <a:endParaRPr b="0" lang="en-US" sz="4100" spc="-1" strike="noStrike">
              <a:solidFill>
                <a:srgbClr val="000066"/>
              </a:solidFill>
              <a:latin typeface="Segoe"/>
            </a:endParaRPr>
          </a:p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Segoe"/>
            </a:endParaRPr>
          </a:p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Sego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Segoe"/>
              </a:rPr>
              <a:t>Родина начинается у твоего дома. </a:t>
            </a:r>
            <a:r>
              <a:rPr b="0" lang="ru-RU" sz="2800" spc="-1" strike="noStrike">
                <a:solidFill>
                  <a:srgbClr val="0d0d0d"/>
                </a:solidFill>
                <a:latin typeface="Segoe"/>
              </a:rPr>
              <a:t>(подчеркнуть главные члены предложения)</a:t>
            </a:r>
            <a:endParaRPr b="0" lang="en-US" sz="2800" spc="-1" strike="noStrike">
              <a:solidFill>
                <a:srgbClr val="000066"/>
              </a:solidFill>
              <a:latin typeface="Segoe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8485200" cy="170676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9" descr="61425252_kreml.jpg"/>
          <p:cNvPicPr/>
          <p:nvPr/>
        </p:nvPicPr>
        <p:blipFill>
          <a:blip r:embed="rId2"/>
          <a:stretch/>
        </p:blipFill>
        <p:spPr>
          <a:xfrm>
            <a:off x="642960" y="1285920"/>
            <a:ext cx="8143920" cy="5405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5:56Z</dcterms:created>
  <dc:creator/>
  <dc:description/>
  <dc:language>en-US</dc:language>
  <cp:lastModifiedBy/>
  <dcterms:modified xsi:type="dcterms:W3CDTF">2012-02-15T16:29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6999991</vt:lpwstr>
  </property>
</Properties>
</file>