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DCB-9E5C-4A1B-B2B2-83002A7B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123-AFA5-47D8-887F-8CD56373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40A-0777-4B06-A25D-E61F09DB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6D2-F440-4E5A-8C4B-06FDBD00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AF1F-534D-4F73-9533-E53C76F9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B2CA-B20C-4CF4-89DF-7E206FB0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476F-1A03-4CE4-A982-B3B70087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6066-4148-45CE-B89F-4298C640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437B-D94A-4126-A1E2-002393ED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B2F5-6230-478E-BC8C-31ED2070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3051-8C72-44C0-9749-9B9FE3CB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CEB-44D2-4D29-9F0A-F80383EB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BE68-7339-4262-A233-68082FDB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440F-B307-4653-852C-2B88417E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045B-BCD8-4621-BA63-FAB5855F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472A-2B55-49FE-9D6B-4DB025DB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F1F2-0919-4B4D-A324-D99F8ACA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F89-C85E-45F8-BF19-D84F511A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55B-7BE0-4352-B96C-493148AC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345-2C36-4EC7-8B0C-C0C5A893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687-95AB-4B35-9551-D3C4FCD3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8EFC-0792-4EF5-8A2E-C964CDDC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791-7DE9-4CCE-81E3-3E59BF22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DF2-B251-4CDE-809E-CDF308C9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C4AE-D51D-4966-A185-82C6E68681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495C-EC75-42D4-9354-22A8120A31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rsk-battle.narod.ru/image/113.jp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777240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imes New Roman"/>
              </a:rPr>
              <a:t>Внеклассное чтение по рассказу              А.Н. Толстого «Русский характер». Человеческая красота и сила характера героев произведения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743200" y="4508640"/>
            <a:ext cx="640080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Бедствия всего более открывают                 силы в характере русского нар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Н.М. Карам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537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fcb0"/>
                </a:solidFill>
                <a:latin typeface="Tahoma"/>
              </a:rPr>
              <a:t>Награды Алексея Толстог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5256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ворчество Толстого отмечено множеством наград, в том числе тремя Сталинскими премиями - за трилогию "Хождение по мукам", за роман "Петр Первый" и за пьесу "Иван Грозный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286680" y="1268280"/>
            <a:ext cx="2857320" cy="4600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1428480" cy="22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340000" y="4005360"/>
            <a:ext cx="367344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ом- муз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724120" y="189000"/>
            <a:ext cx="64198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w Cen MT Condensed Extra Bold"/>
              </a:rPr>
              <a:t> </a:t>
            </a: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w Cen MT Condensed Extra Bold"/>
              </a:rPr>
              <a:t>Дом - музей в г. Самаре.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w Cen MT Condensed Extra Bold"/>
              <a:ea typeface="Tw Cen MT Condensed Extra Bol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24000" y="189000"/>
            <a:ext cx="4476600" cy="13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33cc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мятник А.Н.Толстому</a:t>
            </a:r>
            <a:endParaRPr b="1" i="1" lang="en-US" sz="2800" spc="1" strike="noStrike">
              <a:ln w="12600">
                <a:solidFill>
                  <a:srgbClr val="33cc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640" y="404640"/>
            <a:ext cx="3384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Tahoma"/>
              </a:rPr>
              <a:t>Солдат                     Иван Сударев, рассказчик истори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492360" y="476280"/>
            <a:ext cx="524196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32000" y="476280"/>
            <a:ext cx="3970440" cy="57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Танкист Егор Дрём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1000" y="115920"/>
            <a:ext cx="47196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58920" y="5157720"/>
            <a:ext cx="6400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5 июля-23 августа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1943 год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790560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F:\Курская битва\12.jpg"/>
          <p:cNvPicPr/>
          <p:nvPr/>
        </p:nvPicPr>
        <p:blipFill>
          <a:blip r:embed="rId3"/>
          <a:stretch/>
        </p:blipFill>
        <p:spPr>
          <a:xfrm>
            <a:off x="1332000" y="1773360"/>
            <a:ext cx="6311880" cy="32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39640" y="4049640"/>
            <a:ext cx="82296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урская битва занимает в Великой Отечественной войне особое мест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9200" indent="-259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на продолжалась 50 дней и ночей, с 5 июля по 23 августа 1943 г. По своему ожесточению и упорству борьбы эта битва не имеет себе равны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F:\Курская битва\08.jpg"/>
          <p:cNvPicPr/>
          <p:nvPr/>
        </p:nvPicPr>
        <p:blipFill>
          <a:blip r:embed="rId2"/>
          <a:stretch/>
        </p:blipFill>
        <p:spPr>
          <a:xfrm>
            <a:off x="1908000" y="189000"/>
            <a:ext cx="525636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68360" y="350028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Для реализации своих планов противник сосредоточил мощные ударные группировки, которые насчитывали свыше 900 тыс. человек, около 10 тыс. орудий и минометов, до 2700 танков и штурмовых орудий, около 2050 самоле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ольшие надежды возлагались на новейшие танки "тигр" и "пантера", штурмовые орудия "Фердинанд", самолеты-истребители "Фокке-Вульф-190-А" и штурмовики "Хейнкель-129".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332000" y="189000"/>
            <a:ext cx="6192720" cy="33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181440" y="549000"/>
            <a:ext cx="39610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оветское командование решило сначала обескровить ударные группировки врага в оборонительных сражениях, а затем перейти в контрнаступление. Начавшаяся битва сразу же приняла грандиозный размах и носила крайне напряженный характер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" descr="F:\Курская битва\143.jpg"/>
          <p:cNvPicPr/>
          <p:nvPr/>
        </p:nvPicPr>
        <p:blipFill>
          <a:blip r:embed="rId2"/>
          <a:stretch/>
        </p:blipFill>
        <p:spPr>
          <a:xfrm>
            <a:off x="3851280" y="1125360"/>
            <a:ext cx="514836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219640" y="980640"/>
            <a:ext cx="37562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аши войска не дрогнули. Они встретили лавины танков и пехоты врага с невиданной стойкостью и мужеством. Наступление ударных группировок противника было приостановлен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5329440" cy="38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35280" y="692280"/>
            <a:ext cx="352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Одно из первых изданий рассказа </a:t>
            </a:r>
            <a:br>
              <a:rPr sz="3600"/>
            </a:b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А.Н. Толстого «Русский характер» </a:t>
            </a:r>
            <a:r>
              <a:rPr b="1" i="1" lang="en-US" sz="2800" spc="-1" strike="noStrike">
                <a:solidFill>
                  <a:srgbClr val="e5ffff"/>
                </a:solidFill>
                <a:latin typeface="Tahoma"/>
              </a:rPr>
              <a:t>(библиотека красноармейца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68360" y="115560"/>
            <a:ext cx="8136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Окончательно похоронило гитлеровскую операцию "Цитадель" крупнейшее за всю вторую мировую войну встречное танковое сражение под Прохоровкой. Оно произошло 12 июля.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2" descr="F:\Курская битва\1219208227_1111.jpg"/>
          <p:cNvPicPr/>
          <p:nvPr/>
        </p:nvPicPr>
        <p:blipFill>
          <a:blip r:embed="rId2"/>
          <a:stretch/>
        </p:blipFill>
        <p:spPr>
          <a:xfrm>
            <a:off x="108000" y="2421000"/>
            <a:ext cx="4248000" cy="3502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00720" y="2421000"/>
            <a:ext cx="4502160" cy="34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8920" y="18864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нем с обеих сторон одновременно участвовали 1200 танков и самоходных орудий. Это сражение выиграли советские воины. Фашисты, потеряв за день боя до 400 танков, вынуждены были   отказаться от наступления.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547640" y="2781360"/>
            <a:ext cx="57610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00040" y="2142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12 июля начался второй этап Курской битвы - контрнаступление советских войс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5 августа советские войска освободили города Орел и Белгород.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6408720" cy="41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560" y="189000"/>
            <a:ext cx="87138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ечером 5 августа в честь этого крупного успеха в Москве впервые за два года войны был дан победный салют. С этого времени артиллерийские салюты постоянно возвещали о славных победах советского оружия.</a:t>
            </a:r>
            <a:r>
              <a:rPr b="1" i="1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19280" y="3075120"/>
            <a:ext cx="5689440" cy="36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500076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3 августа был освобожден Харьков. Так победоносно завершилась битва на Курской огненной дуг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258920" y="189000"/>
            <a:ext cx="6696000" cy="46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13840" y="357120"/>
            <a:ext cx="354348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 ходе нее было разгромлено 30 отборных дивизий противника. Немецко-фашистские войска потеряли около 500 тыс. человек, 1500 танков, 3 тыс. орудий и 3700 самолетов.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2" descr="F:\Курская битва\163.jpg"/>
          <p:cNvPicPr/>
          <p:nvPr/>
        </p:nvPicPr>
        <p:blipFill>
          <a:blip r:embed="rId2"/>
          <a:stretch/>
        </p:blipFill>
        <p:spPr>
          <a:xfrm>
            <a:off x="4067280" y="3429000"/>
            <a:ext cx="4464000" cy="3278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431928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23640" y="83664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За мужество и героизм свыше 100 тыс. советских воинов - участников битвы на Огненной дуге, были награждены орденами и медалями. Битвой под Курском завершился коренной перелом в Великой Отечественной войне.</a:t>
            </a:r>
            <a:r>
              <a:rPr b="1" i="1" lang="en-US" sz="3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70000" indent="-270000" algn="ctr">
              <a:spcBef>
                <a:spcPts val="8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3" descr="C:\Users\VaL\Pictures\KUBITVAAVB1LL.jpg"/>
          <p:cNvPicPr/>
          <p:nvPr/>
        </p:nvPicPr>
        <p:blipFill>
          <a:blip r:embed="rId2"/>
          <a:stretch/>
        </p:blipFill>
        <p:spPr>
          <a:xfrm>
            <a:off x="5796000" y="2852640"/>
            <a:ext cx="2697120" cy="3583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724360" y="404640"/>
            <a:ext cx="2953080" cy="22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5168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0" y="907560"/>
            <a:ext cx="404352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Указом Президиума Верховного Совета СССР от 1 августа 1939 года введён особый отличительный знак для Героев Советского Союза — медаль «Герой Советского Союза». Другим Указом от 16 октября 1939 года был утверждён внешний вид медали, которая получила название «Золотая Звезда»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9718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Мать и отец Егора Дрёмо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66960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0"/>
            <a:ext cx="84312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Алексей Николаевич Толст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5634000"/>
            <a:ext cx="648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боту выполнили учащиеся 7б клас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У «СОШ п. Новопушкинско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ураева Наталия и Славягина Юл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16360" y="981000"/>
            <a:ext cx="3714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Катя Малышева, невеста Его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78612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Характер – совокупность все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сихических, духов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войств человек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бнаруживающихся в е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овед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Да, вот они, русские характеры! Кажется, прост человек, а придет суровая беда, в большом или в малом, и поднимается в нём великая сила – человеческая крас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А.Н. Толс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Бедствия всего более открывают                 силы в характере русского нар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Н.М. Карамзи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8280360" cy="547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66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40360" y="1413000"/>
            <a:ext cx="410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916280"/>
            <a:ext cx="5148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лексей Николаевич Толст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одился 29 декабря 1882 года в  городе Николаевс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ыне городе Пугаче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аратовской обла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857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97080" y="25992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ец Алексея Николаевича Толстого-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иколай Александрович  Толстой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389736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932000" y="1628280"/>
            <a:ext cx="42116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го мать Александра Леонтьевна Толстая, урожденная     Тургене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92760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92720" y="549000"/>
            <a:ext cx="3144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ет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108360" y="3400560"/>
            <a:ext cx="5256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лексей провёл сво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етство  в  семье отчима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  Сосновке недалеко от Самары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527280" cy="2697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64000" y="3916440"/>
            <a:ext cx="353088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24360" y="380520"/>
            <a:ext cx="5341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Учёба и литератур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93840" y="1197000"/>
            <a:ext cx="6049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кончил Санкт-Петербургский машиностроительный институт. В литературе дебютировал в 1907 году поэтическим сборником "Лирика". В 1910-1912 гг. опубликовал романы "Чудаки", "Хромой барин" и цикл рассказов и повестей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В середине 20-ых годов была издана первая часть знаменитой трилогии Толстого "Хождение по мукам" - роман "Сестры" . Вторая часть трилогии, "Восемнадцатый год", вышла в 1928 г., третья, "Хмурое утро", - в 1941 году. В начале 30-ых годов Толстой приступил к своему роману "Петр Первый" (1930-1945). -19 марта 1943года  за роман "Хождение по мукам" присуждена Сталинская премия первой степени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Кроме того, в 1935 году он выпустил сказку "Приключения Буратино", которая стала одной из любимейших книг детворы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814840" cy="374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26920" y="4049640"/>
            <a:ext cx="22305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5761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Годы войн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108000" y="1196640"/>
            <a:ext cx="590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годы первой мировой войны Толстой был военным корреспондентом. После Октябрьской революции он уехал из России и поселился во Франции. В эмиграции он опубликовал автобиографический роман "Детство Никиты" (1921), а год спустя  фантастический роман "Аэлита"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В 1923 году Толстой вернулся в Россию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30 марта 1943года появилось сообщение в газетах о том, что Алексей Толстой передает присужденную ему премию в сто тысяч рублей на постройку танка "Грозный"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годы Великой Отечественной войны Толстой опубликовал сборник статей «Родина», а 7 мая 1944 года в газете «Красная звезда» был опубликован рассказ «Русский характер»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56280" y="1557360"/>
            <a:ext cx="2778120" cy="378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6:53:56Z</dcterms:created>
  <dc:creator>FoM</dc:creator>
  <dc:description/>
  <dc:language>en-US</dc:language>
  <cp:lastModifiedBy>надежда</cp:lastModifiedBy>
  <dcterms:modified xsi:type="dcterms:W3CDTF">2010-07-12T13:50:48Z</dcterms:modified>
  <cp:revision>10</cp:revision>
  <dc:subject/>
  <dc:title>Внеклассное чтение по рассказу              А.Н. Толстого «Русский характер». Человеческая красота и сила характера героев произведения.</dc:title>
</cp:coreProperties>
</file>