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28E-EEC7-4ACB-B006-285BFF27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7BB-6D48-45D6-832C-47E25472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448-E4D1-4E92-8E0B-62819C0F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2C7D-71AC-4D19-858D-2B6A45F4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9BF-7C06-4EB2-8A01-BD3D3AAC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86B-FB32-4353-8BAA-376BCBDE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3F8-5314-40D4-A4DA-21A082DA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F799-9EAB-495B-BF95-61C393F9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DB25-5144-456E-8081-2428D36A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AE0-E482-46DF-9291-51512579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370-B7F8-45FD-85A3-FDB2C7ED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F902-D0A6-4052-9E38-E0ED30C5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E0E4-AAB4-41B8-A599-02947160F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les.school-collection.edu.ru/dlrstore/90cf71f8-622a-eab1-c67c-c2dd48a60a3c/0018.wmv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260280"/>
            <a:ext cx="6480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ктическая работа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Получение уксусной  кислоты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опыты с ней"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19640" y="4365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дготовила учитель химии           Бердова Н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16 из 1959"/>
          <p:cNvPicPr/>
          <p:nvPr/>
        </p:nvPicPr>
        <p:blipFill>
          <a:blip r:embed="rId2"/>
          <a:stretch/>
        </p:blipFill>
        <p:spPr>
          <a:xfrm>
            <a:off x="250920" y="2565360"/>
            <a:ext cx="48481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1250280"/>
            <a:ext cx="864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Опыт 2. Взаимодействие уксусной кислоты с метал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Посмотрите видео-опыт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«Взаимодействие уксусной кислоты с металл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В одну пробирку положите гранулу цинка, в другую порошок магния. В обе пробирки прилейте 1 мл уксусной кислоты. Что наблюдаете? Сравните скорость этих реакций? Запишите соответствующие уравнения химических реакций, назовите продукты, укажите тип реа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770400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8168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1036440"/>
            <a:ext cx="835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пыт 3. Взаимодействие уксусной кислоты с основа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Посмотрите видео-опыт «Взаимодействие уксусной кислоты с основания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 пробирку налейте 1 мл гидроксида натрия и добавьте 1 каплю фенолфталеина. Что наблюдаете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Затем добавьте к содержимому пробирки уксусную кислоту. Почему происходит обесцвечивание? Запишите УХР, назовите 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0647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592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04076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Опыт 4. Взаимодействие уксусной кислоты с солями слабых неорганических кисл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Посмотрите видео-опыт «Взаимодействие уксусной кислоты с карбонатом натр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В пробирку налейте 1 мл карбоната натрия и по каплям добавьте уксусную кислоту. Что наблюдаете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Запишите УХР, назовите 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8424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12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32000" y="181080"/>
            <a:ext cx="7272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Оформите работу в виде таблицы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26920" y="1268280"/>
          <a:ext cx="7921800" cy="2231640"/>
        </p:xfrm>
        <a:graphic>
          <a:graphicData uri="http://schemas.openxmlformats.org/drawingml/2006/table">
            <a:tbl>
              <a:tblPr/>
              <a:tblGrid>
                <a:gridCol w="4508640"/>
                <a:gridCol w="3413160"/>
              </a:tblGrid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звание опыт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Что делал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ХР. Наблюдения. Выв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826560" y="3715200"/>
            <a:ext cx="74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делайте общий вывод о проделанной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611280" y="981000"/>
            <a:ext cx="79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РОК ОКОНЧ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684360" y="4437000"/>
            <a:ext cx="777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6" descr="Рисунок а"/>
          <p:cNvPicPr/>
          <p:nvPr/>
        </p:nvPicPr>
        <p:blipFill>
          <a:blip r:embed="rId2"/>
          <a:stretch/>
        </p:blipFill>
        <p:spPr>
          <a:xfrm>
            <a:off x="2916360" y="2349360"/>
            <a:ext cx="29527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Картинка 23 из 1959"/>
          <p:cNvPicPr/>
          <p:nvPr/>
        </p:nvPicPr>
        <p:blipFill>
          <a:blip r:embed="rId2"/>
          <a:stretch/>
        </p:blipFill>
        <p:spPr>
          <a:xfrm>
            <a:off x="2050920" y="907920"/>
            <a:ext cx="4778640" cy="568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476360" y="260280"/>
            <a:ext cx="5553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хника безопаснос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L01p2p01"/>
          <p:cNvPicPr/>
          <p:nvPr/>
        </p:nvPicPr>
        <p:blipFill>
          <a:blip r:embed="rId2"/>
          <a:stretch/>
        </p:blipFill>
        <p:spPr>
          <a:xfrm>
            <a:off x="1619280" y="1844640"/>
            <a:ext cx="6321240" cy="4741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900000" y="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Помните, что любое вещество может быть опасным, если обращаться с ним неправи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Вещества не должны храниться вместе с пищевыми продук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01p2p02"/>
          <p:cNvPicPr/>
          <p:nvPr/>
        </p:nvPicPr>
        <p:blipFill>
          <a:blip r:embed="rId2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Не склоняйтесь над сосудом с кипящей жидкост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2268360" y="1413000"/>
            <a:ext cx="408492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L01p2p07"/>
          <p:cNvPicPr/>
          <p:nvPr/>
        </p:nvPicPr>
        <p:blipFill>
          <a:blip r:embed="rId2"/>
          <a:stretch/>
        </p:blipFill>
        <p:spPr>
          <a:xfrm>
            <a:off x="1476360" y="1773360"/>
            <a:ext cx="6265800" cy="48132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611280" y="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Перед началом эксперимента внимательно ознакомьтесь с инструкц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Не работай с треснутой или посуд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3457800" cy="294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4932360" y="2060640"/>
            <a:ext cx="309708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308880"/>
            <a:ext cx="7705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Цель работы: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 Получить уксусную кислоту и изучить её сво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Реактивы и оборудование: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 ацетат натрия, </a:t>
            </a:r>
            <a:r>
              <a:rPr b="0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серная кислота (конц.)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, уксусная кислота, магний (порошок), цинк, гидроксид натрия, карбонат натрия, фенолфталеин, универсальная индикаторная бумага, прибор для получения и собирания кислоты, спиртовка, пробирку, вата, спичк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227880"/>
            <a:ext cx="8569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пыт 1. Получение уксусной кисл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 пробирку с ацетатом натрия прибавить 1- 2 мл концентрированной серной кислоты. Закрыть пробирку пробкой с газоотводной трубкой, конец которой опустите в другую пробирку вход в пробирку прикрыть ваткой, смотрите рисун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Смесь в пробирке осторожно нагревайте до тех пор, пока в приёмнике – пробирке не собёрётся 1 -2 мл жидкости. Прекратите нагревание, закройте спиртов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Опустите в пробирку с образовавшейся жидкости универсальную индикаторную бумагу. Как изменился цвет индикатора? Почему? Запишите уравнение диссоциации уксусной кисл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Опишите запах, образовавшейся жидкости? Соблюдайте осторожность при определении запаха! Составьте уравнение данной химической реа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60000" y="49320"/>
            <a:ext cx="24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Ход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476360" y="1700280"/>
            <a:ext cx="22478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7:37:06Z</dcterms:created>
  <dc:creator>user</dc:creator>
  <dc:description/>
  <dc:language>en-US</dc:language>
  <cp:lastModifiedBy>user</cp:lastModifiedBy>
  <dcterms:modified xsi:type="dcterms:W3CDTF">2012-02-14T18:15:29Z</dcterms:modified>
  <cp:revision>5</cp:revision>
  <dc:subject/>
  <dc:title>Слайд 1</dc:title>
</cp:coreProperties>
</file>