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8.jpeg" ContentType="image/jpeg"/>
  <Override PartName="/ppt/media/image1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E57E-540A-481C-A1F0-F7F5CE88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1EC8-7C3A-4892-AED8-EE5256B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643B-78ED-407E-AB1A-32439587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04E9-86A8-411C-B39B-F93AD76B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6696-C98B-4174-A8C0-21D99047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8F0B-4D85-4B18-94A5-A34C89C2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046-F7F3-4A78-9FB3-A3BC662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D390-5265-490F-8D11-3D1F1EC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4273-0178-499F-8821-41D4E004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D6E-5D53-4E61-971F-B519232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C47-22BD-4A9D-B4BB-700CCB7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4676-6DEF-4CA5-AEF2-621EEC9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F06-C2F3-453D-852B-2CDD380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AF9-EEB4-440E-929C-BF6D5B9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1ABC-42DF-4E3A-B873-69BCF49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C51B-D4DC-4280-916D-524D3C14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41D-2A08-4D08-B3FC-C169A64E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8C7B-3578-4700-94AF-C9AE730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A84B-614D-453A-A941-29A501F4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8965-6343-4B1B-B8F3-AF3ACAC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734A-BBAB-4E2E-AC9E-262DD33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F925-E73F-4C2A-A6B8-D04C53D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0FEF-CDE6-4595-9111-BC08049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A2E8-4F9F-4924-84E7-68654EE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796-4545-4854-B27A-0C96057CFF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416C-90A7-4928-A101-ED2EA84E3D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8000" y="115920"/>
            <a:ext cx="8812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РУССКИЙ 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ХАРАКТЕР  В  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ТВОРЧЕСТВЕ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В. М.   ШУКШИ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6920" y="4267080"/>
            <a:ext cx="81648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 РАССКАЗАМ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МАСТЕР» И «КРЕПКИЙ МУЖИК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826920" y="422100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внеклассного чт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7620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79280" y="0"/>
            <a:ext cx="288000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рковь Покрова на Нерли 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419640" y="2825640"/>
            <a:ext cx="2304720" cy="2908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3097080" cy="30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280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Тишина и покой кругом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-03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церкви в Та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евка невиданной красоты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белая каменная сказка»,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к песня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тоит в зелени белая красавица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красавица необыкновенная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КАМЕННАЯ СКАЗ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32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ТЫЙ  ЗВУК   ДУШ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36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577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обеспокоенный красотой и тайн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482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КАЗ «КРЕПКИЙ МУЖ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68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руше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ма Христа Спас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024000" cy="36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384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урыгин о гибели церк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Хрустну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 бревно, трос,  врезавшись  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,  запел  балалаечной  струной. Странно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было хорошо слышно  -  ревели  же  тр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ктора, напрягая  свои  железные   сил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гнул   верх   церкви... Стена, противополож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й, на какую сваливали,  вдруг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одралас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шири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ашна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рная в глуби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ва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ль на белой стене пош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скрывать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рх церкви с маков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клонился,  поклонил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 ухн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з... Церковь  лежала бесформенной грудой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х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075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в же он –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характ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2268360" y="115920"/>
            <a:ext cx="7272000" cy="6741720"/>
            <a:chOff x="2268360" y="115920"/>
            <a:chExt cx="7272000" cy="6741720"/>
          </a:xfrm>
        </p:grpSpPr>
        <p:sp>
          <p:nvSpPr>
            <p:cNvPr id="165" name="Pyr1"/>
            <p:cNvSpPr/>
            <p:nvPr/>
          </p:nvSpPr>
          <p:spPr>
            <a:xfrm>
              <a:off x="5097960" y="115920"/>
              <a:ext cx="1630080" cy="14943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yr2"/>
            <p:cNvSpPr/>
            <p:nvPr/>
          </p:nvSpPr>
          <p:spPr>
            <a:xfrm>
              <a:off x="4154400" y="1610280"/>
              <a:ext cx="3508920" cy="1752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yr3"/>
            <p:cNvSpPr/>
            <p:nvPr/>
          </p:nvSpPr>
          <p:spPr>
            <a:xfrm>
              <a:off x="3220560" y="3363480"/>
              <a:ext cx="5375880" cy="17506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yr4"/>
            <p:cNvSpPr/>
            <p:nvPr/>
          </p:nvSpPr>
          <p:spPr>
            <a:xfrm>
              <a:off x="2268360" y="5105160"/>
              <a:ext cx="7272000" cy="1752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2700360" y="587700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ние красоты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995640" y="3860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е серд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859280" y="220500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опережи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219640" y="10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ознакомиться  с многогранной личностью и творчеством В.М.Шукш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яснить основные проблемы рассказов «Мастер» и «Крепкий мужи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определить, что представляет собой русский национальный характер в понимании В.М.Шук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овые задания по теме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ем по образованию был В.М.Шукш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пис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актё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режиссё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929280" y="4714920"/>
            <a:ext cx="187668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95280" y="126828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Назовите последнюю актёрскую работу В.М.Шукш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«Они сражались за Род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«Калина красн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«Живёт такой пар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 «Печки-лав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7072200" y="5656320"/>
            <a:ext cx="187668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9640" y="1365120"/>
            <a:ext cx="77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то из современников так сказал о В.М.Шукшине: «Не пропустил он момента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у захотелось сокровенного. И он рассказал о простом, не героическом, близ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так же просто, негромким голосом, очень доверитель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.Г.Рас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М.Шоло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В.И.Бе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В.П.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267680" y="5143680"/>
            <a:ext cx="187632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кой литературный жанр представляют произведения В.М.Шукшина «Мастер»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епкий мужи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6643800" y="4714920"/>
            <a:ext cx="187632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пределите, какой элемент сюжета представляет приведённый ниже фраг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Жил-был в селе Чебровка некто Сёмка Рысь, забулдыга, но непревзойдённый столяр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кульм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экспоз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завя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развит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6715080" y="4929120"/>
            <a:ext cx="187632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 Как звали писателя, которому Сёмка отделывал кабинет «под избу 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к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Игорь Александ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Николай Ефимы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Игорь Юр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Александр Ефимы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072200" y="5214960"/>
            <a:ext cx="187668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  В каком колхозе работал бригадир Николай Шурыг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«Гига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«Плам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«Звез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 «Соко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429240" y="4857840"/>
            <a:ext cx="187668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  Какой приём используется в приведённом ниже отрывке из рассказа «Крепкий мужик»:          «Тросы натянулись, заскрипели,  затрещали,  зазвенели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 град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6215040" y="3929040"/>
            <a:ext cx="1876320" cy="1201680"/>
          </a:xfrm>
          <a:prstGeom prst="irregularSeal1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620280"/>
            <a:ext cx="42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кшин неприметный, простой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ак он дорог для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ел он пробудить добро на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инуть зла о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ссказы всем понят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ны каждому из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х люди так душой бога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и чудны подча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Турищ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2498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силий Макарович Шукш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(1929-197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468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9607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ь В.М.Шук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267600" cy="32036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908000" y="5516640"/>
            <a:ext cx="511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о Сростки на Алта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14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л слесарем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ужил на флоте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ыл колхозник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зчик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ем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ректор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черне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160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-31644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а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ктёром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жиссёром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исател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79744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1618920" cy="2433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387520" cy="230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5600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1511280" cy="218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4427640" y="3500280"/>
            <a:ext cx="1800000" cy="18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25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хоронен на Новодевичьем    кладбище    в    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979640" y="1981080"/>
            <a:ext cx="41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6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риг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кшину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ы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аны 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его судьб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профессии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ктёр и писате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2737080" cy="252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2305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КАЗ  «МАС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24000" cy="46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45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19:11Z</dcterms:created>
  <dc:creator>Sadmin</dc:creator>
  <dc:description/>
  <dc:language>en-US</dc:language>
  <cp:lastModifiedBy>User</cp:lastModifiedBy>
  <dcterms:modified xsi:type="dcterms:W3CDTF">2012-01-01T07:10:01Z</dcterms:modified>
  <cp:revision>50</cp:revision>
  <dc:subject/>
  <dc:title>Слайд 1</dc:title>
</cp:coreProperties>
</file>