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08DC-608B-4BAF-A31B-FB57C7246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4CE9-B359-4AA8-9382-2DD41C10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37D8-4CD4-4870-9C33-621B6C940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8915-100B-4514-BF11-EC61F8DB9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9EDD-2BC3-468E-8A06-378EF3CE6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9032-8413-4D71-852D-75FA066B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2711-DE65-469C-A800-66A293BE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4CD5-0F84-4589-BD5A-3D9CEC9C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5CEB-211E-4CE8-B8D8-BCEEFFF4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3D59-6605-4A35-ABFA-2BFC70C8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C0FA-76ED-4ADD-9E63-D093DE29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CFF0-44A2-49C1-B202-563C1ED0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6CD6-CD57-4CD4-ABC6-9C706BDA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B48A-D615-4800-B65D-13997C8D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F419-3A07-4316-91AE-1FBF3F3C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FF98-C0C1-4C94-8F82-EB4D2D991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E958-CE30-4189-B0B0-7E3BA297C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EC8B-7992-4AD9-944D-18F56447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DE10-1089-460B-998A-3FEB45D1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50EB-4420-4EF9-BFE5-E5CD4705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E1E5-A6B3-4864-83B3-2E2540E1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1BF4-7005-4221-A099-737B4107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62BF-E4E6-4859-8825-1009CFA0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1D77-961B-4558-9526-867772F6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5675-E2D6-4693-8E37-0176839BE3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12D2-642D-4E63-8F80-56F2AB352E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77;&#1074;&#1080;&#1079;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reatbritain.ru/" TargetMode="External"/><Relationship Id="rId2" Type="http://schemas.openxmlformats.org/officeDocument/2006/relationships/hyperlink" Target="http://www.denmark.ru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 u="sng">
                <a:solidFill>
                  <a:srgbClr val="330033"/>
                </a:solidFill>
                <a:uFillTx/>
                <a:latin typeface="Times New Roman"/>
              </a:rPr>
              <a:t>Швеция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0033"/>
                </a:solidFill>
                <a:latin typeface="Arial"/>
              </a:rPr>
              <a:t>Экономико-географическая характеристика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Девиз</a:t>
            </a: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: </a:t>
            </a:r>
            <a:r>
              <a:rPr b="0" i="1" lang="ru-RU" sz="2400" spc="-1" strike="noStrike">
                <a:solidFill>
                  <a:srgbClr val="330033"/>
                </a:solidFill>
                <a:latin typeface="Arial"/>
              </a:rPr>
              <a:t>«För Sverige i tiden»</a:t>
            </a:r>
            <a:br>
              <a:rPr sz="2400"/>
            </a:br>
            <a:r>
              <a:rPr b="0" i="1" lang="ru-RU" sz="2400" spc="-1" strike="noStrike">
                <a:solidFill>
                  <a:srgbClr val="330033"/>
                </a:solidFill>
                <a:latin typeface="Arial"/>
              </a:rPr>
              <a:t>«За Швецию — во все времена!»</a:t>
            </a: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Характеристика с/х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ельское хозяйство страны отличается высокой продуктивностью. Его основным направлением считается мясомолочное животноводство. Здесь занимаются разведением крупного рогатого скота, свиней, на севере разводят олен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ырaщивaют в Швеции кормовые культуры, сахарную свеклу, зерновые (ячмень, овес, пшеница) и картофель. Достаточно хорошо развито рыболовство, основными видами являются сельдь и трес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сельском хозяйстве занято только 3% работающего населения страны, но эта отрасль высоко развита и механизирована, ее продукции хватает не только для самой Швеции, но и для экспо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снову этой отрасли составляют крупные предприятия, которые обеспечивают свыше 90% потребностей страны в продовольств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fade thruBlk="true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0033"/>
                </a:solidFill>
                <a:uFillTx/>
                <a:latin typeface="Times New Roman"/>
              </a:rPr>
              <a:t>Экспорт: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 телекоммуникационное оборудование, бумага, фармацевтические и медиц. товары, сталь, автомобили, их части, двигатели.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459640" cy="52261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 thruBlk="true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0033"/>
                </a:solidFill>
                <a:uFillTx/>
                <a:latin typeface="Times New Roman"/>
              </a:rPr>
              <a:t>Импорт:</a:t>
            </a:r>
            <a:r>
              <a:rPr b="0" lang="en-US" sz="2000" spc="-1" strike="noStrike">
                <a:solidFill>
                  <a:srgbClr val="330033"/>
                </a:solidFill>
                <a:latin typeface="Times New Roman"/>
              </a:rPr>
              <a:t> потребительские товары, пищевые продукты, топливо, товары для промышленности, продукция машиностроения, транспортные средства.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704000" cy="51498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 thruBlk="true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42920" y="170028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"/>
              </a:rPr>
              <a:t>Презентацию подгото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"/>
              </a:rPr>
              <a:t>Ученица 10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"/>
              </a:rPr>
              <a:t>Иванченко Крист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 rot="20442000">
            <a:off x="1655280" y="2204640"/>
            <a:ext cx="7488360" cy="198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33"/>
                    </a:gs>
                    <a:gs pos="50000">
                      <a:srgbClr val="460017"/>
                    </a:gs>
                    <a:gs pos="100000">
                      <a:srgbClr val="990033"/>
                    </a:gs>
                  </a:gsLst>
                  <a:lin ang="6558000"/>
                </a:gradFill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33"/>
                  </a:gs>
                  <a:gs pos="50000">
                    <a:srgbClr val="460017"/>
                  </a:gs>
                  <a:gs pos="100000">
                    <a:srgbClr val="990033"/>
                  </a:gs>
                </a:gsLst>
                <a:lin ang="6558000"/>
              </a:gradFill>
              <a:latin typeface="Impact"/>
              <a:ea typeface="Impact"/>
            </a:endParaRPr>
          </a:p>
        </p:txBody>
      </p:sp>
    </p:spTree>
  </p:cSld>
  <p:transition spd="med" advTm="3000">
    <p:fade thruBlk="true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100"/>
                            </p:stCondLst>
                            <p:childTnLst>
                              <p:par>
                                <p:cTn id="3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500"/>
                            </p:stCondLst>
                            <p:childTnLst>
                              <p:par>
                                <p:cTn id="3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8100"/>
                            </p:stCondLst>
                            <p:childTnLst>
                              <p:par>
                                <p:cTn id="341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9020"/>
                            </p:stCondLst>
                            <p:childTnLst>
                              <p:par>
                                <p:cTn id="347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9660"/>
                            </p:stCondLst>
                            <p:childTnLst>
                              <p:par>
                                <p:cTn id="353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380"/>
                            </p:stCondLst>
                            <p:childTnLst>
                              <p:par>
                                <p:cTn id="3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Визитная карточк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554328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олица: Стокголь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449 964 км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=9 354 426 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орма правления: конституционная монархия, парламентская демокра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стройство: унитар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588000" y="1628640"/>
            <a:ext cx="2159280" cy="2140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804000" y="4684680"/>
            <a:ext cx="2000160" cy="1555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300720" y="386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Большой герб Шве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948360" y="6308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Флаг ст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5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Природные услов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3313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лима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ной территории Швеции климат умеренный, подверженный сильному влиянию Гольфстрима. Средняя температура января от −16 °C на севере до +1 °C на юго-западе, июля — от +2 °C в горах до +17 °C на юге страны. Абсолютный минимум температуры был зарегистрирован в Вуоггатйолме и составил −52,6 °C, абсолютный максимум был зарегистрирован в Молилле и Ултуне и составил +38,0 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067280" y="2421000"/>
            <a:ext cx="4906800" cy="32781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0033"/>
                </a:solidFill>
                <a:latin typeface="Times New Roman"/>
              </a:rPr>
              <a:t>Рельеф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ельефе на севере и западе преобладают плоскогорья и горы, вдоль границы с Норвегией тянутся Скандинавские горы, где самая высокая гора Кебнекайсе имеет высоту 2123 м. Между Скандинавскими горами и Ботническим заливом Балтийского моря лежат плоскогорье Норланд, Среднешведская низменность и возвышенность Смоланд. Южный полуостров Сконе — равнин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00000" y="3500280"/>
            <a:ext cx="7704360" cy="309744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Реки и природные зон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33112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рупнейшие ре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ликс-Эль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33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Шеллефте-Эль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33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ме-Эль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33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урне-Эль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33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ёта-Эль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р. зо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родные зоны хвойных (север) и смешанных (юг) лес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Швеция вытянута на большую длину с севера на юг, и этим объясняется разнообразие ее природных з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924360" y="1989000"/>
            <a:ext cx="5033880" cy="38847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 thruBlk="true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e002e"/>
                </a:solidFill>
                <a:latin typeface="Times New Roman"/>
              </a:rPr>
              <a:t>Природные ресурсы страны: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геологическом отношении большая часть Швеции расположена в пределах Балтийского щита, сложенного древними кристаллическими и метаморфическими породами в основном гранит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обывающая промышленность представлена добычей и обогащением железной руды (доля в мировой добыче — 2 %, запасы — 3,4 млрд т), меди (1,2 %, запасы — 1,6 млн т), свинца (3,8 %, запасы — 2,3 млн т), цинка (3,7 %, 2,4 млн т) и сульфидных руд. Швеция — главный и наибольший в Европе экспортёр железной руды. Крупнейшие месторождения железной руды находятся в Северной Швеции (Кируна, Елливаре и т. д.). Ведётся также добыча урана, пирита, цинка, золота, серебра, вольфрама, мышьяка, полевого шпата, графита, извести, кварца, серы, руд марганца, редких элементов и флюорита, а также минеральных источников. Сырьевой потенциал Швеции достаточно велик для собственного обеспечения и поставок продукции на экспорт, но очень многие месторождения трудны для их прохождения и извлечения минерального сырья. В Швеции в связи с этим было разработано специальное законодательство, которое снижает риск нерационального использования ресурсов. Горная промышленность Швеции развита хорошо, но есть ещё много неразведанных месторождений, по многим полезным ископаемым есть потенциал для развед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fade thruBlk="true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Населе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селение Швеции на конец 2011 года составляет приблизительно 9,481 млн человек. По плотности населения (21,9 чел на км²) страна находится на предпоследнем месте в Евросоюзе, менее плотно населена лишь Финляндия — 17 чел. на км² (для сравнения: плотность населения Европейской части РФ составляет 26 чел. на км²). Население сосредоточено большей частью в южной половине страны, а также в приморских районах с более умеренным клима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fade thruBlk="true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Промышленност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Горнодобывающая промышленность 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Швеции имеет давнюю историю. Железо и медь здесь добывали издревле (например, фалунский медный рудник разрабатывался более 650 лет). И по сей день, Швеция является одним из мировых лидеров по добыче железной руды, которая, помимо всего прочего, славится своей высокой чистотой. Швеция также поставляет на мировой рынок значительное количество цинка. В бассейне реки Шеллефтеэльвен имеются месторождения золота, серебра, свинца, никеля, а также значительные залежи уран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Лесное хозяйство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 Швеции и её 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лесоперерабатывающая промышленность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 вполне сопоставимы с финскими. Почти 50% площади страны занимают леса, как хвойные, так и широколиственные. Древесина – важнейшее сырьё в Швеции, служащее не только для переработки на целлюлозу, производства бумаги и большого спектра химических продуктов, но и в качестве топлива и стройматериало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В 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энергетике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 треть потребностей Швеции обеспечивается импортными энергоносителями – нефтью, углём и природным газом. Остальные 2/3 обеспечены местными источниками: в первую очередь гидроэнергетическими ресурсами, а также ядерным топливом и древесино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fade thruBlk="true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Металлургия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, центром которой является Бергслаген, – одна из основных отраслей шведской промышленности, ведущая свою историю с XVI-XVII вв. В настоящее время основа шведской металлургии – производство стали в электропечах с помощью коксующегося угля. Крупнейший из металлургических заводов расположен в Домнарвет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Около 45% процентов экспортных поступлений в бюджет Швеции приходится на 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машиностроение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, в частности – автомобилестроение. Всему миру известны такие марки шведских автомобилей, как "Сааб" и "Вольво". Крупнейшим потребителем шведского автопрома являются США, на долю которых приходится около 1/3 всех идущих на экспорт шведских автомобилей. Также следует отметить высокое развитие шведского судостроения, точного приборостроения, производство бытовой техники и оборудования сотовой связ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Несмотря на то, что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 сельское хозяйство 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даёт лишь 2% ВВП, оно достаточно хорошо развито и организовано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Будущее шведской экономики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 лежит в развитии наукоёмких отраслей промышленности, чему немало способствуют развитая инфраструктура, высокий общий уровень образованности населения и передовые технологические разработки. Уже сейчас Швеция принадлежит к числу мировых лидеров в таких высокотехнологичных областях, как биомедицина и информационные технологи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Основные торговые партнеры Швеции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 по данным 2009 года: Норвегия (10,6% экспорта, 8,7% импорта), Германия (10,2% экспорта, 17,9% импорта), </a:t>
            </a:r>
            <a:r>
              <a:rPr b="0" lang="ru-RU" sz="15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Великобритания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 (7,5% экспорта, 5,6% импорта),</a:t>
            </a:r>
            <a:r>
              <a:rPr b="0" lang="ru-RU" sz="15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Дания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 (7,4% экспорта, 8,9% импорта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fade thruBlk="true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2:44:29Z</dcterms:created>
  <dc:creator>Пользователь</dc:creator>
  <dc:description/>
  <dc:language>en-US</dc:language>
  <cp:lastModifiedBy>Пользователь</cp:lastModifiedBy>
  <dcterms:modified xsi:type="dcterms:W3CDTF">2012-01-25T15:14:47Z</dcterms:modified>
  <cp:revision>4</cp:revision>
  <dc:subject/>
  <dc:title>Швеция</dc:title>
</cp:coreProperties>
</file>